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7663-6F44-40A5-8D99-42B43F73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EFA5-EF35-4E5C-B70A-B917401E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46C3-E1AD-4814-AB3E-2B27FC88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7AC-CD28-45D7-9689-EB2E7679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546B-BFFF-4D71-AE20-48E4ED11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8239-E28C-40BB-8D6C-60A7F52A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2B1D-C871-4640-9611-D9E9358A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7638-639B-4589-9BAC-46DED91E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7D26-2FA9-4825-A0A2-D4088B7E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6110-6DC9-4949-9AC1-8EC5C6CA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FC78-2CAE-4106-8D44-C3DF1C5A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A228-210D-47F2-A0A9-FC14D6E6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C43D-1434-4850-985B-FB36912C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754C-C53C-40A0-ABA3-9E5BFCBC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8F3F-74FF-4DEC-9AFC-14D9A07A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68E1-927F-456E-8EE9-9154A216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54DD-FB2B-41F1-97B0-37A9B572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00AB3-6FAA-4199-8280-704F87DE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F390E-50FF-44E9-865F-2F14699D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137C0-9AF0-46F4-812B-87F2C4B9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43A1B-5C80-4B27-B23E-88B8B7C8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9B7F6D-404D-4C38-826A-A6981653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97F3-7CC3-4018-8EB3-E20E73E2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B2DF38-ED09-4486-B8EB-3A8AFC10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EC885-EF10-4FDE-8698-66603395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FF8D87-37FA-4480-8CD5-59594021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44222-72D9-49D3-8682-7CAF89E3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AA0ED7-DE7D-4B14-9965-CF4C143E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0BF3B5-68C6-4CFB-8685-2059693A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A5E04C-E4D8-4442-A469-2DEA794E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E2051-2F96-4836-A1C3-B8D9A461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E1B38-2ABF-40D2-87B4-3063C72C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27523-C4AF-4149-9DBB-567EAE39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862-FE2F-4F00-8A2A-7EBEB007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BB65F-777E-43E0-8345-8CE0246F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207B5-43BA-491B-BD7E-D0309C77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8C8B1-F0A0-46B8-A15A-8C293618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88282-4A48-42B6-8C33-57EDF4A8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39218-1CBE-4F3F-A4FE-44FA18A0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2E0AD-640A-40F6-9E6B-68164BC0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813E6-577E-4447-8B68-BD228D1B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A3DED-85D5-4685-8F2A-4391EB1E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0FD42-0DE0-4D19-8FF1-4F39D0D2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861631-80CA-4979-BE78-3E2F39DB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6A42-A7DE-451C-83CE-F9418F59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95D37A-06D9-4D45-A4CB-D818FEC6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A730BD-5547-48A4-9FB2-ADF3FC28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6AC340-5B3C-4A21-B640-E5A88D94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2BBD65-FBFA-4370-8770-7403AE31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B241D8-E3A1-4079-A969-ACA879C1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9B6507-6FA6-4A7B-81FA-0133492C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59292-2FB0-4F7C-8830-2A94546A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4BFC9E-4401-4BB4-987B-E37F875C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58E9C-C3F9-459E-8953-4C43B2C9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89156B-B05E-4370-B75D-4626A116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6835-186A-429E-A10B-46FEB00F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596AC6-8AF4-4C12-B05A-40D7A1FA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21B366-F45B-4EB9-8205-7C04120B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B122C7-5843-4B2F-89FD-DB9C4C1F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3B1F8E-827F-4D9F-A6C5-A6BFA234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1D7FA5-39AA-4115-86A9-8A894A19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F37071-D28B-4078-9145-509689C4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C35E20-DB30-4B79-9373-8D4BDFA4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E6FE68-C897-4F70-A98F-31D889AA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210B7A-65C2-4882-8EE9-CFB9F487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24C1BC-F796-473B-B747-3AE5D0B2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EEE4-C1C3-4728-A770-BE231672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C97FE1-7A38-437B-ACE4-16BDC515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D1713E-C4D2-4B53-8D8B-F69D702A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995C70-2FF4-479E-9ECE-2714D8CF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0925B9-937E-4D5F-9B0D-1D00E90D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AECB51-E510-4970-BC52-2F8BC279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2C92CC-8CDF-422E-BF64-B649858F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6ED7CD-ACE8-41EB-95F2-6FFB698A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CF3FFD-67A4-4001-9426-E12BE312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66B729-ED41-47A7-A17B-F4A0DA0A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38D740-14AC-47E8-812E-FFF60343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DA11-FA47-48E8-BE22-0F759E7D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CC6337-CB59-4B2F-986E-86B6AE97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007F1D-2DA7-4E0E-A90D-5F583733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2EEF74-B855-4128-BEF3-060BFAF9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B4C27B-8AF4-49A9-A899-9C3E53A1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49CF45-3DC4-4CAC-A5C0-A922FE37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4A76-891F-4A18-9EE3-DA0123F5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76A5-081C-4E67-A21C-2E7490E75CC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1EB6-C914-4CDF-AEF5-E034D5FBBBA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7003-9E68-4A47-8742-42AE05BA073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8595-B0F6-4DBA-B6D6-96232F5F287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7E32-1317-4EB0-A8D8-630CA40C7ED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915F-417A-42FA-BE8E-E5A9FC430CA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5C32-9DFC-49AE-BA88-5C3AEFCBF81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1342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75f6d"/>
                </a:solidFill>
                <a:latin typeface="Century Schoolbook"/>
              </a:rPr>
              <a:t>HTTP://WWW.5SPLUSOM-SCHOOL.RU/PREDMET/2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3964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Rectangle 4"/>
          <p:cNvSpPr/>
          <p:nvPr/>
        </p:nvSpPr>
        <p:spPr>
          <a:xfrm flipV="1" rot="10800000">
            <a:off x="893520" y="1918080"/>
            <a:ext cx="7281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b1fd3"/>
                </a:solidFill>
                <a:latin typeface="Tahoma"/>
              </a:rPr>
              <a:t>Приёмы сжатия (компрессии) текста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3008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1b1fd3"/>
                </a:solidFill>
                <a:latin typeface="Century Schoolbook"/>
              </a:rPr>
              <a:t>МОЖНО ЛИ ИСКЛЮЧИТЬ ИЗ ПРЕДЛОЖЕНИЙ ВЫДЕЛЕННЫЕ СЛОВА?</a:t>
            </a:r>
            <a:br>
              <a:rPr sz="2900"/>
            </a:br>
            <a:r>
              <a:rPr b="1" i="1" lang="ru-RU" sz="2900" spc="-1" strike="noStrike">
                <a:solidFill>
                  <a:srgbClr val="1b1fd3"/>
                </a:solidFill>
                <a:latin typeface="Century Schoolbook"/>
              </a:rPr>
              <a:t>ПОЧЕМУ?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28400" y="185724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бзац – отрезок </a:t>
            </a:r>
            <a:r>
              <a:rPr b="1" i="1" lang="ru-RU" sz="2800" spc="-1" strike="noStrike">
                <a:solidFill>
                  <a:srgbClr val="920000"/>
                </a:solidFill>
                <a:latin typeface="Century Schoolbook"/>
              </a:rPr>
              <a:t>письменной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речи, в которой предложения объединены одной микротемо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0000"/>
                </a:solidFill>
                <a:latin typeface="Century Schoolbook"/>
              </a:rPr>
              <a:t>Старый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друг лучше </a:t>
            </a:r>
            <a:r>
              <a:rPr b="1" i="1" lang="ru-RU" sz="2800" spc="-1" strike="noStrike">
                <a:solidFill>
                  <a:srgbClr val="920000"/>
                </a:solidFill>
                <a:latin typeface="Century Schoolbook"/>
              </a:rPr>
              <a:t>новых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двух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0000"/>
                </a:solidFill>
                <a:latin typeface="Century Schoolbook"/>
              </a:rPr>
              <a:t>Истинный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друг должен стать нашим вторым «Я»  (Цицерон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гляделась ивушка в зеркало </a:t>
            </a:r>
            <a:r>
              <a:rPr b="1" i="1" lang="ru-RU" sz="2800" spc="-1" strike="noStrike">
                <a:solidFill>
                  <a:srgbClr val="920000"/>
                </a:solidFill>
                <a:latin typeface="Century Schoolbook"/>
              </a:rPr>
              <a:t>рек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саду горит костёр </a:t>
            </a:r>
            <a:r>
              <a:rPr b="1" i="1" lang="ru-RU" sz="2800" spc="-1" strike="noStrike">
                <a:solidFill>
                  <a:srgbClr val="920000"/>
                </a:solidFill>
                <a:latin typeface="Century Schoolbook"/>
              </a:rPr>
              <a:t>рябины красной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b1fd3"/>
                </a:solidFill>
                <a:latin typeface="Century Schoolbook"/>
              </a:rPr>
              <a:t>НЕЛЬЗЯ ИСКЛЮЧАТЬ </a:t>
            </a:r>
            <a:br>
              <a:rPr sz="3200"/>
            </a:br>
            <a:r>
              <a:rPr b="1" i="1" lang="ru-RU" sz="3200" spc="-1" strike="noStrike">
                <a:solidFill>
                  <a:srgbClr val="1b1fd3"/>
                </a:solidFill>
                <a:latin typeface="Century Schoolbook"/>
              </a:rPr>
              <a:t>ИЗ ПРЕДЛОЖЕНИЯ СЛОВ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56760" y="214308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entury Schoolbook"/>
              </a:rPr>
              <a:t>являющиеся </a:t>
            </a:r>
            <a:r>
              <a:rPr b="1" i="1" lang="ru-RU" sz="3800" spc="-1" strike="noStrike" u="sng">
                <a:solidFill>
                  <a:srgbClr val="c00000"/>
                </a:solidFill>
                <a:uFillTx/>
                <a:latin typeface="Century Schoolbook"/>
              </a:rPr>
              <a:t>частью термина</a:t>
            </a:r>
            <a:r>
              <a:rPr b="0" lang="ru-RU" sz="38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3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entury Schoolbook"/>
              </a:rPr>
              <a:t>входящие в </a:t>
            </a:r>
            <a:r>
              <a:rPr b="1" i="1" lang="ru-RU" sz="3800" spc="-1" strike="noStrike" u="sng">
                <a:solidFill>
                  <a:srgbClr val="c00000"/>
                </a:solidFill>
                <a:uFillTx/>
                <a:latin typeface="Century Schoolbook"/>
              </a:rPr>
              <a:t>фразеологический оборот, цитату</a:t>
            </a:r>
            <a:r>
              <a:rPr b="0" lang="ru-RU" sz="3800" spc="-1" strike="noStrike">
                <a:solidFill>
                  <a:srgbClr val="000000"/>
                </a:solidFill>
                <a:latin typeface="Century Schoolbook"/>
              </a:rPr>
              <a:t>;</a:t>
            </a:r>
            <a:endParaRPr b="0" lang="en-US" sz="3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entury Schoolbook"/>
              </a:rPr>
              <a:t>образующие   </a:t>
            </a:r>
            <a:r>
              <a:rPr b="1" i="1" lang="ru-RU" sz="3800" spc="-1" strike="noStrike" u="sng">
                <a:solidFill>
                  <a:srgbClr val="c00000"/>
                </a:solidFill>
                <a:uFillTx/>
                <a:latin typeface="Century Schoolbook"/>
              </a:rPr>
              <a:t>изобразительно-выразительные средства</a:t>
            </a:r>
            <a:r>
              <a:rPr b="1" i="1" lang="ru-RU" sz="3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entury Schoolbook"/>
              </a:rPr>
              <a:t>*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71360" y="714240"/>
            <a:ext cx="77929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i="1" lang="ru-RU" sz="3200" spc="-1" strike="noStrike">
                <a:solidFill>
                  <a:srgbClr val="1b1fd3"/>
                </a:solidFill>
                <a:latin typeface="Century Schoolbook"/>
              </a:rPr>
              <a:t>ОБОБЩЕНИЕ</a:t>
            </a:r>
            <a:br>
              <a:rPr sz="2700"/>
            </a:br>
            <a:r>
              <a:rPr b="0" lang="ru-RU" sz="3200" spc="-1" strike="noStrike">
                <a:solidFill>
                  <a:srgbClr val="1b1fd3"/>
                </a:solidFill>
                <a:latin typeface="Century Schoolbook"/>
              </a:rPr>
              <a:t>ПРИ ОБОБЩЕНИИ НЕОБХОДИМО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28760" y="2214720"/>
            <a:ext cx="848664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Century Schoolbook"/>
              </a:rPr>
              <a:t>Вычленить единичные факты;</a:t>
            </a:r>
            <a:endParaRPr b="0" lang="en-US" sz="3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Century Schoolbook"/>
              </a:rPr>
              <a:t>Подобрать языковые средства их обобщённой передачи;</a:t>
            </a:r>
            <a:endParaRPr b="0" lang="en-US" sz="3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Century Schoolbook"/>
              </a:rPr>
              <a:t>Составить новый текст.</a:t>
            </a:r>
            <a:endParaRPr b="0" lang="en-US" sz="3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Century Schoolbook"/>
              </a:rPr>
              <a:t>*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16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b1fd3"/>
                </a:solidFill>
                <a:latin typeface="Century Schoolbook"/>
              </a:rPr>
              <a:t>УПРОЩЕНИЕ ЗАКЛЮЧАЕТСЯ:</a:t>
            </a:r>
            <a:r>
              <a:rPr b="1" i="1" lang="ru-RU" sz="3000" spc="-1" strike="noStrike">
                <a:solidFill>
                  <a:srgbClr val="c00000"/>
                </a:solidFill>
                <a:latin typeface="Century Schoolbook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71680" y="1285920"/>
            <a:ext cx="892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в замене </a:t>
            </a:r>
            <a:r>
              <a:rPr b="1" i="1" lang="ru-RU" sz="2800" spc="-1" strike="noStrike">
                <a:solidFill>
                  <a:srgbClr val="1b1fd3"/>
                </a:solidFill>
                <a:latin typeface="Century Schoolbook"/>
              </a:rPr>
              <a:t>однородных членов обобщающим словом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в замене </a:t>
            </a:r>
            <a:r>
              <a:rPr b="1" i="1" lang="ru-RU" sz="2800" spc="-1" strike="noStrike">
                <a:solidFill>
                  <a:srgbClr val="1b1fd3"/>
                </a:solidFill>
                <a:latin typeface="Century Schoolbook"/>
              </a:rPr>
              <a:t>сложного предложения простым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в замене </a:t>
            </a:r>
            <a:r>
              <a:rPr b="1" i="1" lang="ru-RU" sz="2800" spc="-1" strike="noStrike">
                <a:solidFill>
                  <a:srgbClr val="1b1fd3"/>
                </a:solidFill>
                <a:latin typeface="Century Schoolbook"/>
              </a:rPr>
              <a:t>придаточного в СПП синонимичным причастным или деепричастным оборотом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в сокращении </a:t>
            </a:r>
            <a:r>
              <a:rPr b="1" i="1" lang="ru-RU" sz="2800" spc="-1" strike="noStrike">
                <a:solidFill>
                  <a:srgbClr val="1b1fd3"/>
                </a:solidFill>
                <a:latin typeface="Century Schoolbook"/>
              </a:rPr>
              <a:t>количества структурных частей сложного предложения</a:t>
            </a:r>
            <a:r>
              <a:rPr b="0" lang="ru-RU" sz="2800" spc="-1" strike="noStrike">
                <a:solidFill>
                  <a:srgbClr val="c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в замене </a:t>
            </a:r>
            <a:r>
              <a:rPr b="1" i="1" lang="ru-RU" sz="2800" spc="-1" strike="noStrike">
                <a:solidFill>
                  <a:srgbClr val="1b1fd3"/>
                </a:solidFill>
                <a:latin typeface="Century Schoolbook"/>
              </a:rPr>
              <a:t>прямой речи косвенно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24000" y="356760"/>
            <a:ext cx="8496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b1fd3"/>
                </a:solidFill>
                <a:latin typeface="Century Schoolbook"/>
              </a:rPr>
              <a:t>    </a:t>
            </a:r>
            <a:r>
              <a:rPr b="1" i="1" lang="ru-RU" sz="2700" spc="-1" strike="noStrike">
                <a:solidFill>
                  <a:srgbClr val="1b1fd3"/>
                </a:solidFill>
                <a:latin typeface="Century Schoolbook"/>
              </a:rPr>
              <a:t>Можно ли заменить придаточные части причастным или деепричастным оборотами? Почему?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800" spc="-1" strike="noStrike">
                <a:solidFill>
                  <a:srgbClr val="1b1fd3"/>
                </a:solidFill>
                <a:latin typeface="Century Schoolbook"/>
              </a:rPr>
              <a:t>Когда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я поздно вечером  возвращался домой, мне было страшн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Мне нравятся  книги, в </a:t>
            </a:r>
            <a:r>
              <a:rPr b="0" lang="ru-RU" sz="2800" spc="-1" strike="noStrike">
                <a:solidFill>
                  <a:srgbClr val="1b1fd3"/>
                </a:solidFill>
                <a:latin typeface="Century Schoolbook"/>
              </a:rPr>
              <a:t>которых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пишут о путешественниках  и  мореплавателях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800" spc="-1" strike="noStrike">
                <a:solidFill>
                  <a:srgbClr val="1b1fd3"/>
                </a:solidFill>
                <a:latin typeface="Century Schoolbook"/>
              </a:rPr>
              <a:t>Когда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приедешь в город, тебя встретит брат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*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СЛОЖНЫЕ ЗАДАНИЯ В ТЕСТОВОЙ ЧАСТИ ОГЭ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125000"/>
            <a:ext cx="800244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дание №6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мените разговорное слово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«пошушукались» в предложении 12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тилистически нейтральным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инонимом. Напишите этот синони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(12)Дети недолго </a:t>
            </a: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пошушукались,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 большая девочка сказала с нескрываемым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едоверием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твет - пошепталис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ТРЕНИРОВОЧНЫЕ ЗАДАНИЯ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765000"/>
            <a:ext cx="8002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Замените разговорное слово «занавесь» в предложении 19 стилистически нейтральным синонимом. Напишите этот синони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19)Полевая мышка, найдя приют в брошенном доме, как цирковой канатоходец, несколько раз весело пробежала по проволоке, которая осталась на окне от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занавес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Ответ – занавес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мените разговорное слово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РЯННО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в предложении 11 стилистически нейтральным синонимом. Напишите это слово. 11)Но мы этого не замечали и пребывали в том справедливом неведении, когда красивым считался хороший человек, а некрасивым — дрянн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Ответ - плохо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3"/>
          <p:cNvSpPr/>
          <p:nvPr/>
        </p:nvSpPr>
        <p:spPr>
          <a:xfrm>
            <a:off x="179280" y="260280"/>
            <a:ext cx="849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7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ите словосочетани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еревянная шкатулка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строенное на основ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ия, синонимичным словосочетанием со связью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получившееся словосочета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–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катулка из дере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ТРЕНИРОВОЧНЫЕ ЗАДАНИЯ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94920" y="836280"/>
            <a:ext cx="80643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Замените словосочетание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«в деревенском клубе»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редложении 4, построенное на основе согласования, синонимичным словосочетанием со связью управление. (4)Учителя были заводилами в деревенском клуб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вет –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 вклубедеревн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Замените словосочетание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«неистово работая»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редложении 10, построенное на основе подчинительной связи примыкание, синонимичным словосочетанием со связью управление. (10)Неистово работая топором, забыв впервые о больном сердце, он думал: главное — отколотить доски, открыть двери, распахнуть окна, чтобы дом зажил своей постоянной жизнь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вет –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работаяснеистовство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3"/>
          <p:cNvSpPr/>
          <p:nvPr/>
        </p:nvSpPr>
        <p:spPr>
          <a:xfrm>
            <a:off x="468360" y="189000"/>
            <a:ext cx="80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8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шите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мматическую основу предложения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2)Потому что у нас в школе создают музей ко Дню великой Победы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-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здаю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5f6d"/>
                </a:solidFill>
                <a:latin typeface="Arial Black"/>
              </a:rPr>
              <a:t>КРИТЕРИИ ОЦЕНИВАНИЯ СЖАТОГО ИЗЛОЖЕНИЯ В 2016 ГОДУ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1317600"/>
          <a:ext cx="8229600" cy="5280120"/>
        </p:xfrm>
        <a:graphic>
          <a:graphicData uri="http://schemas.openxmlformats.org/drawingml/2006/table">
            <a:tbl>
              <a:tblPr/>
              <a:tblGrid>
                <a:gridCol w="946080"/>
                <a:gridCol w="6445440"/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ИК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Сжатие исходного текста</a:t>
                      </a:r>
                      <a:r>
                        <a:rPr b="0" lang="ru-RU" sz="28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Экзаменуемый применил 1 или нескольк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риёмов сжатия текста, использовав 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а протяжении всего текст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 Black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Экзаменуемый применил 1 или нескольк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риёмов сжатия текста, использовав 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для сжатия 2 микротем текст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 Black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Экзаменуемый применил 1 или несколько приёмов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жатия текста, использовав их для сжатия 1 микротемы текс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 Black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Экзаменуемый не использовал приёмов сжатия текс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Arial Black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ТРЕНИРОВОЧНЫЕ ЗАДАНИЯ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764640"/>
            <a:ext cx="82915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пишите грамматическую основу предложения 2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2)В нём никогда не было скучн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–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небылоскучн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ыпишите грамматическую основу предложения 20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20)Мебель была сдвинута со своих привычных мест и зачехлена старыми чехл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-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мебельбыласдвинутаизачехле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Выпишите грамматическую основу предложения 15.(15) — Будет врать, ребя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–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детвра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пишите грамматическую основу предложения 50. (50)И так хорош этот неоглядный зелёный мир моей родины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-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рошмир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3"/>
          <p:cNvSpPr/>
          <p:nvPr/>
        </p:nvSpPr>
        <p:spPr>
          <a:xfrm>
            <a:off x="250920" y="333360"/>
            <a:ext cx="8281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№12. В приведённых ниже предложениях из прочитанного текста пронумерованы все запятые. Выпишите цифры, обозначающие запятые между частями сложного предложения, связанным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инительной связь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молча отдали ей письма и похоронку. Анна Федотовна ощупала каждый листок,(1) удостоверилась,(2) что они подлинные,(3) аккуратно сложила в шкатулку и сказал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,(4) поставь шкатулку на место. И задвинь ящик плотн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-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ТРЕНИРОВОЧНЫЕ ЗАД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78920" y="907560"/>
            <a:ext cx="842508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В приведённых ниже предложениях из прочитанного текста пронумерованы все запятые. Выпишите цифру(-ы), обозначающую(-ие) запяту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-ые) между частями сложного предложения, связанными сочинительной связь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ни льют воду на раскалённые чёрные камни банек, (1) и мягкий, захватывающий дух пар делает своё чистое дело, (2) оседая каплями на вялой пахучей листве берёзовых веников. Весело звенят вёдра,(3) и цепи блестят на солнце,(4) освобождённые от ржавчины прикосновением множества рук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твет -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4"/>
          <p:cNvSpPr/>
          <p:nvPr/>
        </p:nvSpPr>
        <p:spPr>
          <a:xfrm>
            <a:off x="250920" y="333360"/>
            <a:ext cx="842472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приведённых ниже предложениях из прочитанного текста пронумерованы все запятые. Выпишите цифру(-ы), обозначающую(-ие) запятую(-ые) между частями сложного предложения, связанными подчинительной связью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н отыскал свой класс, (1) собрал всех своих учеников,(2) и они построились парами, (3) как строились, (4) когда шли на урок. Мне захотелось немедленно отправиться в город-крепость, (5) где сейчас тускло горели фонари,(6) висящие на цепях,(7) и ставни были закрыт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вет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– 3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В приведённом ниже предложении из прочитанного текста пронумерованы все запятые. Выпишите цифру(-ы), обозначающу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-ие) запятую(-ые) между частями сложного предложения, связанными сочинительной связью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рудно объяснить,(1) почему так происходило,(2) но,(3) будучи в самых сложных переделках/4) в предсмертной агонии/5) на тяжкой кровавой работе войны/6) он/7) вспоминая дом/8) думал не только о своих родных/9) которые населяли его/10) но и о «людях с картин»/11) которых он никогда не зна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вет –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3"/>
          <p:cNvSpPr/>
          <p:nvPr/>
        </p:nvSpPr>
        <p:spPr>
          <a:xfrm>
            <a:off x="324000" y="404640"/>
            <a:ext cx="8208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ние №14. Среди предложений 44–53 найдит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ложное предложение с бессоюзной и союзной сочинительной связью между частями. Напишите номер этог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лож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4)Горечь и не очень понятная обида скоро оставили Анну Федотовну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5)Вечером внучка как обычно читала ей письмо сына, но Ан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отовна вдруг проговорил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6)Он чего-то не хотел, а они грозились, пугали ег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7)Таня! (48)Загляни в шкатулку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9)Нету, – тихо сказала Таня. – (50)И похоронка на месте, и фотографии, а писем не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1)Анна Федотовна прикрыла слепые глаза, напряжённо прислушалась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душа её молчала, и голос сына более не звучал в ней. (52)Он угас, умер, погиб вторично, и теперь уже погиб навсегда. (53)Письма, пользуясь её слепотой, вынули не из шкатулки – их вынули из её души, и теперь ослепла и оглохла не только она, но и её душа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Box 3"/>
          <p:cNvSpPr/>
          <p:nvPr/>
        </p:nvSpPr>
        <p:spPr>
          <a:xfrm>
            <a:off x="395280" y="189000"/>
            <a:ext cx="8209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. Среди предложений 4—13 найдите сложное(-ые) предложение (я) с союзной сочинительной и подчинительной связью между частями. Напишите номер(-а) этого(-их) предложения(-ий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4) В тот день меня разбудила синица. (5)Я выглянул в окно и зажмурился от яркости огромного многоярусного облака, повисшего среди начисто выметенного неба. (6)Оно было соткано из солнечного сияния и нетронутой белизны, и казалось, что сама весна прилетела на этом белом чуд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7)Весна вся в движении. (8)Надо поспеть за нею, ничего не упустить в её чародействе. (9)3арядил фотоаппарат, вытащил из ящика болотные сапоги. (10)Трубач, увидев сапоги, вскочил с подстилки, запрыгал, застучал хвостом по стульям. (11)Он давно ожидал, когда я наконец начну собирать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12) — Идём, дружище, весну встреча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13) 3а городом уже пестро от проталин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вет –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1b1fd3"/>
                </a:solidFill>
                <a:latin typeface="Century Schoolbook"/>
              </a:rPr>
              <a:t>СЖАТИЕ ТЕКСТА</a:t>
            </a:r>
            <a:endParaRPr b="0" lang="en-US" sz="6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71320" y="2017800"/>
            <a:ext cx="8383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26"/>
                </a:solidFill>
                <a:latin typeface="Century Schoolbook"/>
              </a:rPr>
              <a:t>Это преобразование, при котором текст заменяется более кратким по объему изложением. При этом </a:t>
            </a:r>
            <a:r>
              <a:rPr b="0" lang="ru-RU" sz="4400" spc="-1" strike="noStrike">
                <a:solidFill>
                  <a:srgbClr val="920000"/>
                </a:solidFill>
                <a:latin typeface="Century Schoolbook"/>
              </a:rPr>
              <a:t>не допускаются смысловые искажения и утрата </a:t>
            </a:r>
            <a:r>
              <a:rPr b="1" lang="ru-RU" sz="4400" spc="-1" strike="noStrike" u="sng">
                <a:solidFill>
                  <a:srgbClr val="920000"/>
                </a:solidFill>
                <a:uFillTx/>
                <a:latin typeface="Century Schoolbook"/>
              </a:rPr>
              <a:t>значимых положений</a:t>
            </a:r>
            <a:r>
              <a:rPr b="0" lang="ru-RU" sz="4400" spc="-1" strike="noStrike">
                <a:solidFill>
                  <a:srgbClr val="920000"/>
                </a:solidFill>
                <a:latin typeface="Century Schoolbook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39640" y="333000"/>
            <a:ext cx="8415360" cy="57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Century Schoolbook"/>
              </a:rPr>
              <a:t>К приёмам компрессии (сжатия) текста относятся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575f6d"/>
                </a:solidFill>
                <a:latin typeface="Century Schoolbook"/>
              </a:rPr>
              <a:t>    </a:t>
            </a:r>
            <a:r>
              <a:rPr b="1" lang="ru-RU" sz="6000" spc="-1" strike="noStrike">
                <a:solidFill>
                  <a:srgbClr val="920000"/>
                </a:solidFill>
                <a:latin typeface="Century Schoolbook"/>
              </a:rPr>
              <a:t>ИСКЛЮЧЕНИЕ*  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20000"/>
                </a:solidFill>
                <a:latin typeface="Century Schoolbook"/>
              </a:rPr>
              <a:t>     </a:t>
            </a:r>
            <a:r>
              <a:rPr b="1" lang="ru-RU" sz="6000" spc="-1" strike="noStrike">
                <a:solidFill>
                  <a:srgbClr val="920000"/>
                </a:solidFill>
                <a:latin typeface="Century Schoolbook"/>
              </a:rPr>
              <a:t>ОБОБЩЕНИЕ*  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20000"/>
                </a:solidFill>
                <a:latin typeface="Century Schoolbook"/>
              </a:rPr>
              <a:t>     </a:t>
            </a:r>
            <a:r>
              <a:rPr b="1" lang="ru-RU" sz="6000" spc="-1" strike="noStrike">
                <a:solidFill>
                  <a:srgbClr val="920000"/>
                </a:solidFill>
                <a:latin typeface="Century Schoolbook"/>
              </a:rPr>
              <a:t>УПРОЩЕНИЕ*  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14200"/>
            <a:ext cx="8229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b1fd3"/>
                </a:solidFill>
                <a:latin typeface="Century Schoolbook"/>
              </a:rPr>
              <a:t>ПРИМЕРЫ ИСКЛЮЧЕНИЯ ПРИ ЯЗЫКОВОМ СЖАТИИ ТЕКС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00040" y="2017800"/>
            <a:ext cx="814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Исключение одного или нескольких </a:t>
            </a: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entury Schoolbook"/>
              </a:rPr>
              <a:t>синонимов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в ряду </a:t>
            </a:r>
            <a:r>
              <a:rPr b="1" i="1" lang="ru-RU" sz="3600" spc="-1" strike="noStrike">
                <a:solidFill>
                  <a:srgbClr val="c00000"/>
                </a:solidFill>
                <a:latin typeface="Century Schoolbook"/>
              </a:rPr>
              <a:t>однородных членов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. При таком исключении сохраняется тот из синонимов, который обладает наибольшей ёмкостью в данном контекст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b1fd3"/>
                </a:solidFill>
                <a:latin typeface="Century Schoolbook"/>
              </a:rPr>
              <a:t>КАКИЕ ИЗ ОДНОРОДНЫХ ЧЛЕНОВ МОЖНО ИСКЛЮЧИТЬ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50560" y="2205000"/>
            <a:ext cx="82818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Мне вспоминаются её добрые глаза  и </a:t>
            </a:r>
            <a:r>
              <a:rPr b="1" i="1" lang="ru-RU" sz="4000" spc="-1" strike="noStrike">
                <a:solidFill>
                  <a:srgbClr val="920000"/>
                </a:solidFill>
                <a:latin typeface="Century Schoolbook"/>
              </a:rPr>
              <a:t>тихая, светлая, приветливая</a:t>
            </a:r>
            <a:r>
              <a:rPr b="0" i="1" lang="ru-RU" sz="4000" spc="-1" strike="noStrike">
                <a:solidFill>
                  <a:srgbClr val="920000"/>
                </a:solidFill>
                <a:latin typeface="Century Schoolbook"/>
              </a:rPr>
              <a:t> </a:t>
            </a: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улыбка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8015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1b1fd3"/>
                </a:solidFill>
                <a:latin typeface="Century Schoolbook"/>
              </a:rPr>
              <a:t>ПРИМЕРЫ ИСКЛЮЧЕНИЯ ПРИ ЯЗЫКОВОМ СЖАТИИ ТЕКС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85840" y="2000160"/>
            <a:ext cx="87408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даление из текста поясняющих конструкций:                                                    -</a:t>
            </a: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ряда однородных членов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и обобщающем слове;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ряда простых предложений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составе бессоюзного сложного, поясняющих, раскрывающих содержание первой части;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-конструкций, </a:t>
            </a: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не играющих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 предложении </a:t>
            </a: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синтаксической рол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b1fd3"/>
                </a:solidFill>
                <a:latin typeface="Century Schoolbook"/>
              </a:rPr>
              <a:t>ПРИ ИСКЛЮЧЕНИИ НЕОБХОДИМО</a:t>
            </a:r>
            <a:r>
              <a:rPr b="0" lang="ru-RU" sz="3000" spc="-1" strike="noStrike">
                <a:solidFill>
                  <a:srgbClr val="1b1fd3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24000" y="1905120"/>
            <a:ext cx="83628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Century Schoolbook"/>
              </a:rPr>
              <a:t>Выделить главное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с точки зрения основной мысли текста, затем </a:t>
            </a:r>
            <a:r>
              <a:rPr b="0" lang="ru-RU" sz="3600" spc="-1" strike="noStrike">
                <a:solidFill>
                  <a:srgbClr val="c00000"/>
                </a:solidFill>
                <a:latin typeface="Century Schoolbook"/>
              </a:rPr>
              <a:t>убрать ненужные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одробности и детал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c00000"/>
                </a:solidFill>
                <a:latin typeface="Century Schoolbook"/>
              </a:rPr>
              <a:t>Объединить полученное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, используя основные средства связи между предложениями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3008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b1fd3"/>
                </a:solidFill>
                <a:latin typeface="Century Schoolbook"/>
              </a:rPr>
              <a:t>БЕЗ УЩЕРБА ДЛЯ СОДЕРЖАНИЯ </a:t>
            </a:r>
            <a:br>
              <a:rPr sz="3600"/>
            </a:br>
            <a:r>
              <a:rPr b="1" i="1" lang="ru-RU" sz="3600" spc="-1" strike="noStrike">
                <a:solidFill>
                  <a:srgbClr val="1b1fd3"/>
                </a:solidFill>
                <a:latin typeface="Century Schoolbook"/>
              </a:rPr>
              <a:t>ТЕКСТА ИСКЛЮЧАЮТС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57160" y="1857240"/>
            <a:ext cx="809784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Вводные и вставные конструкц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Уточняющие члены предложе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Приложения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Однородные члены при обобщающем слове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Обращения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Ряд предикативных частей БСП, поясняющих первую част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4:55:10Z</dcterms:created>
  <dc:creator>Пользователь</dc:creator>
  <dc:description/>
  <dc:language>en-US</dc:language>
  <cp:lastModifiedBy>KM</cp:lastModifiedBy>
  <dcterms:modified xsi:type="dcterms:W3CDTF">2017-01-15T16:06:43Z</dcterms:modified>
  <cp:revision>84</cp:revision>
  <dc:subject/>
  <dc:title>Сжатое изложение (теория и практика подготовки)</dc:title>
</cp:coreProperties>
</file>