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CB1-1267-4C17-8D7B-E50A6C34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1A9-9AA5-47A3-A8CF-C86F1A2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AE9-0C51-4ABE-98AD-13060E1E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F3E-6A0E-407A-AB7D-FC1B9C0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68F-909D-41FC-84A6-521710B5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095-0F1D-41B8-8D2C-951138DD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F16-BA75-40DE-B3BD-72048B92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623-5235-44A5-9689-58C1C61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AE5-AE79-4420-8D2B-4F571E6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D03-4B29-4976-9E78-BFB5F32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C8F-CDD1-4839-A752-9F3BF05C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001-447D-486E-9B53-D0DF116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F4B-73B5-4FB7-BC26-2D87AE089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спользование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оллективных форм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ворче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 воспитании патриотизма и гражданской солидар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57120" y="1857240"/>
            <a:ext cx="8643960" cy="47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ачественное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обновление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содержания и механизмов В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осредством стимулирования социальной активности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ыстраивание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траектории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личностного развития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 учётом возрастных и индивидуальных особеннос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ложившейся системы общественных пору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 деятельности органов учениче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овышение роли коллектива в становлении активной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убъектной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поз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оследовательное достижение обучающимися планиру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воспитательных результатов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раз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Формирование опыт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конструктивного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взаим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 педагогами, сверстниками, родителями в разных ви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 формах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озидательной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53680" y="335772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00040" y="1728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Развитие патриотизма и гражданской солидарности обучающихся в коллективных форм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29000" y="3313080"/>
            <a:ext cx="485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Ковалкова С.А., заместитель дирек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МБОУ Волоковская средня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Смоленского района Смоле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admkrai.krasnodar.ru/upload/iblock/c85/_mid.jpg"/>
          <p:cNvPicPr/>
          <p:nvPr/>
        </p:nvPicPr>
        <p:blipFill>
          <a:blip r:embed="rId2"/>
          <a:stretch/>
        </p:blipFill>
        <p:spPr>
          <a:xfrm>
            <a:off x="5915160" y="3929040"/>
            <a:ext cx="2800080" cy="1870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642960" y="107172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Вопрос о патриотическом воспитании  молодёж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  –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это вопрос о самом глав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о ценностях, о нравственных основ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на которых мы  можем и должны стро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нашу жизнь, воспитывать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развивать общество, в конечном итог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укреплять нашу страну», В.В. Пу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714240" y="3857760"/>
            <a:ext cx="5072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Из выступления на совещании представителей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власти и общественности по вопросам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нравственного и патриотического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воспитания молодё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Arial"/>
                <a:ea typeface="Arial"/>
              </a:rPr>
              <a:t>Краснодар, 12 октября 2012 г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571760" y="14292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Программа воспитания и социализации обучающ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«НОВОЕ ПОКОЛЕНИ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00040" y="2571840"/>
            <a:ext cx="407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Преимущественные 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вос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военно-патриотическ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гражданско-патрио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акции и прое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«переменные» мара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429080" y="3776760"/>
            <a:ext cx="45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Основные ЭТАПЫ реализа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меропри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начальный (проектировоч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основной (деятельност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Заключ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 Unicode MS"/>
              </a:rPr>
              <a:t>(оценочно-рефлексив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126200" y="1139760"/>
            <a:ext cx="1560600" cy="4224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8760" y="128592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НАПРАВЛЕНИЕ.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Воспитание гражданствен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атриотизма, уважения  к прав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вободам и обязанностя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Соединительная линия уступом 9"/>
          <p:cNvCxnSpPr/>
          <p:nvPr/>
        </p:nvCxnSpPr>
        <p:spPr>
          <a:xfrm>
            <a:off x="3429000" y="4643280"/>
            <a:ext cx="915120" cy="915120"/>
          </a:xfrm>
          <a:prstGeom prst="bentConnector3">
            <a:avLst>
              <a:gd name="adj1" fmla="val 49980"/>
            </a:avLst>
          </a:prstGeom>
          <a:ln w="2844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928800" y="7128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Военно-патриотическ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и гражданско-патриотические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АК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с двумя скругленными противолежащими углами 1"/>
          <p:cNvSpPr/>
          <p:nvPr/>
        </p:nvSpPr>
        <p:spPr>
          <a:xfrm>
            <a:off x="473040" y="1060560"/>
            <a:ext cx="1708200" cy="717480"/>
          </a:xfrm>
          <a:custGeom>
            <a:avLst/>
            <a:gdLst/>
            <a:ahLst/>
            <a:rect l="l" t="t" r="r" b="b"/>
            <a:pathLst>
              <a:path w="1707551" h="717550">
                <a:moveTo>
                  <a:pt x="119594" y="0"/>
                </a:moveTo>
                <a:lnTo>
                  <a:pt x="1707551" y="0"/>
                </a:lnTo>
                <a:lnTo>
                  <a:pt x="1707551" y="0"/>
                </a:lnTo>
                <a:lnTo>
                  <a:pt x="1707551" y="597956"/>
                </a:lnTo>
                <a:cubicBezTo>
                  <a:pt x="1707551" y="664006"/>
                  <a:pt x="1654007" y="717550"/>
                  <a:pt x="1587957" y="717550"/>
                </a:cubicBezTo>
                <a:lnTo>
                  <a:pt x="0" y="717550"/>
                </a:lnTo>
                <a:lnTo>
                  <a:pt x="0" y="717550"/>
                </a:lnTo>
                <a:lnTo>
                  <a:pt x="0" y="119594"/>
                </a:lnTo>
                <a:cubicBezTo>
                  <a:pt x="0" y="53544"/>
                  <a:pt x="53544" y="0"/>
                  <a:pt x="119594" y="0"/>
                </a:cubicBez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652320" y="12160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Шк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с двумя скругленными противолежащими углами 8"/>
          <p:cNvSpPr/>
          <p:nvPr/>
        </p:nvSpPr>
        <p:spPr>
          <a:xfrm>
            <a:off x="3527280" y="1062000"/>
            <a:ext cx="1746360" cy="716040"/>
          </a:xfrm>
          <a:custGeom>
            <a:avLst/>
            <a:gdLst/>
            <a:ahLst/>
            <a:rect l="l" t="t" r="r" b="b"/>
            <a:pathLst>
              <a:path w="1746250" h="715962">
                <a:moveTo>
                  <a:pt x="119329" y="0"/>
                </a:moveTo>
                <a:lnTo>
                  <a:pt x="1746250" y="0"/>
                </a:lnTo>
                <a:lnTo>
                  <a:pt x="1746250" y="0"/>
                </a:lnTo>
                <a:lnTo>
                  <a:pt x="1746250" y="596633"/>
                </a:lnTo>
                <a:cubicBezTo>
                  <a:pt x="1746250" y="662537"/>
                  <a:pt x="1692825" y="715962"/>
                  <a:pt x="1626921" y="715962"/>
                </a:cubicBezTo>
                <a:lnTo>
                  <a:pt x="0" y="715962"/>
                </a:lnTo>
                <a:lnTo>
                  <a:pt x="0" y="715962"/>
                </a:lnTo>
                <a:lnTo>
                  <a:pt x="0" y="119329"/>
                </a:lnTo>
                <a:cubicBezTo>
                  <a:pt x="0" y="53425"/>
                  <a:pt x="53425" y="0"/>
                  <a:pt x="119329" y="0"/>
                </a:cubicBez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с двумя скругленными противолежащими углами 9"/>
          <p:cNvSpPr/>
          <p:nvPr/>
        </p:nvSpPr>
        <p:spPr>
          <a:xfrm>
            <a:off x="6515280" y="1062000"/>
            <a:ext cx="1746000" cy="716040"/>
          </a:xfrm>
          <a:custGeom>
            <a:avLst/>
            <a:gdLst/>
            <a:ahLst/>
            <a:rect l="l" t="t" r="r" b="b"/>
            <a:pathLst>
              <a:path w="1746250" h="715962">
                <a:moveTo>
                  <a:pt x="119329" y="0"/>
                </a:moveTo>
                <a:lnTo>
                  <a:pt x="1746250" y="0"/>
                </a:lnTo>
                <a:lnTo>
                  <a:pt x="1746250" y="0"/>
                </a:lnTo>
                <a:lnTo>
                  <a:pt x="1746250" y="596633"/>
                </a:lnTo>
                <a:cubicBezTo>
                  <a:pt x="1746250" y="662537"/>
                  <a:pt x="1692825" y="715962"/>
                  <a:pt x="1626921" y="715962"/>
                </a:cubicBezTo>
                <a:lnTo>
                  <a:pt x="0" y="715962"/>
                </a:lnTo>
                <a:lnTo>
                  <a:pt x="0" y="715962"/>
                </a:lnTo>
                <a:lnTo>
                  <a:pt x="0" y="119329"/>
                </a:lnTo>
                <a:cubicBezTo>
                  <a:pt x="0" y="53425"/>
                  <a:pt x="53425" y="0"/>
                  <a:pt x="119329" y="0"/>
                </a:cubicBez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618000" y="12254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Всеросси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6545160" y="123516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Памятные д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2" descr="D:\Мои документы - ЛИВ\ФОТО с праздников\2014-15\проект\открытки 9 мая.jpeg"/>
          <p:cNvPicPr/>
          <p:nvPr/>
        </p:nvPicPr>
        <p:blipFill>
          <a:blip r:embed="rId2"/>
          <a:stretch/>
        </p:blipFill>
        <p:spPr>
          <a:xfrm>
            <a:off x="457200" y="4681440"/>
            <a:ext cx="174312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3"/>
          <p:cNvSpPr/>
          <p:nvPr/>
        </p:nvSpPr>
        <p:spPr>
          <a:xfrm>
            <a:off x="192240" y="5940360"/>
            <a:ext cx="2282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Спасибо за МИР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3" descr="D:\Мои документы - ЛИВ\ФОТО с праздников\2014-15\проект\посадки - копия.jpeg"/>
          <p:cNvPicPr/>
          <p:nvPr/>
        </p:nvPicPr>
        <p:blipFill>
          <a:blip r:embed="rId3"/>
          <a:stretch/>
        </p:blipFill>
        <p:spPr>
          <a:xfrm>
            <a:off x="7613640" y="4578480"/>
            <a:ext cx="129240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СВ\Desktop\Безопасный мир\часовой.jpg"/>
          <p:cNvPicPr/>
          <p:nvPr/>
        </p:nvPicPr>
        <p:blipFill>
          <a:blip r:embed="rId4"/>
          <a:stretch/>
        </p:blipFill>
        <p:spPr>
          <a:xfrm>
            <a:off x="3114720" y="1987560"/>
            <a:ext cx="1116000" cy="16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СВ\Desktop\Безопасный мир\часовой2.jpg"/>
          <p:cNvPicPr/>
          <p:nvPr/>
        </p:nvPicPr>
        <p:blipFill>
          <a:blip r:embed="rId5"/>
          <a:stretch/>
        </p:blipFill>
        <p:spPr>
          <a:xfrm>
            <a:off x="4548240" y="2004840"/>
            <a:ext cx="1096920" cy="1616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2857680" y="29242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Часовой у знамени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СВ\Desktop\Безопасный мир\ак1.jpg"/>
          <p:cNvPicPr/>
          <p:nvPr/>
        </p:nvPicPr>
        <p:blipFill>
          <a:blip r:embed="rId6"/>
          <a:stretch/>
        </p:blipFill>
        <p:spPr>
          <a:xfrm>
            <a:off x="3255840" y="3359160"/>
            <a:ext cx="1150920" cy="172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СВ\Desktop\Безопасный мир\ак8.jpg"/>
          <p:cNvPicPr/>
          <p:nvPr/>
        </p:nvPicPr>
        <p:blipFill>
          <a:blip r:embed="rId7"/>
          <a:stretch/>
        </p:blipFill>
        <p:spPr>
          <a:xfrm>
            <a:off x="4535640" y="3413160"/>
            <a:ext cx="1109520" cy="161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3187800" y="43149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Лес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C:\Users\СВ\Desktop\Безопасный мир\полкс.jpg"/>
          <p:cNvPicPr/>
          <p:nvPr/>
        </p:nvPicPr>
        <p:blipFill>
          <a:blip r:embed="rId8"/>
          <a:stretch/>
        </p:blipFill>
        <p:spPr>
          <a:xfrm>
            <a:off x="3181320" y="4711680"/>
            <a:ext cx="1208160" cy="177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СВ\Desktop\Безопасный мир\полк.jpg"/>
          <p:cNvPicPr/>
          <p:nvPr/>
        </p:nvPicPr>
        <p:blipFill>
          <a:blip r:embed="rId9"/>
          <a:stretch/>
        </p:blipFill>
        <p:spPr>
          <a:xfrm>
            <a:off x="4492800" y="4754520"/>
            <a:ext cx="1152360" cy="168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6"/>
          <p:cNvSpPr/>
          <p:nvPr/>
        </p:nvSpPr>
        <p:spPr>
          <a:xfrm>
            <a:off x="3265560" y="56437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Бессмертный пол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C:\Users\СВ\Desktop\Безопасный мир\ак5.jpg"/>
          <p:cNvPicPr/>
          <p:nvPr/>
        </p:nvPicPr>
        <p:blipFill>
          <a:blip r:embed="rId10"/>
          <a:stretch/>
        </p:blipFill>
        <p:spPr>
          <a:xfrm>
            <a:off x="6181560" y="1987560"/>
            <a:ext cx="1170000" cy="172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C:\Users\СВ\Desktop\Безопасный мир\ак6.jpg"/>
          <p:cNvPicPr/>
          <p:nvPr/>
        </p:nvPicPr>
        <p:blipFill>
          <a:blip r:embed="rId11"/>
          <a:stretch/>
        </p:blipFill>
        <p:spPr>
          <a:xfrm>
            <a:off x="7639200" y="2004840"/>
            <a:ext cx="1163520" cy="1713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C:\Users\СВ\Desktop\Безопасный мир\конституция.jpg"/>
          <p:cNvPicPr/>
          <p:nvPr/>
        </p:nvPicPr>
        <p:blipFill>
          <a:blip r:embed="rId12"/>
          <a:stretch/>
        </p:blipFill>
        <p:spPr>
          <a:xfrm>
            <a:off x="6529320" y="2998800"/>
            <a:ext cx="1992240" cy="2030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6000840" y="4149720"/>
            <a:ext cx="28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20 лет Конституции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C:\Users\СВ\Desktop\Безопасный мир\ак2.jpg"/>
          <p:cNvPicPr/>
          <p:nvPr/>
        </p:nvPicPr>
        <p:blipFill>
          <a:blip r:embed="rId13"/>
          <a:stretch/>
        </p:blipFill>
        <p:spPr>
          <a:xfrm>
            <a:off x="6211800" y="4578480"/>
            <a:ext cx="1176480" cy="1676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9"/>
          <p:cNvSpPr/>
          <p:nvPr/>
        </p:nvSpPr>
        <p:spPr>
          <a:xfrm>
            <a:off x="6372360" y="5589720"/>
            <a:ext cx="234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Несгибаемый ду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всё превозмож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СВ\Desktop\Безопасный мир\ак4.jpg"/>
          <p:cNvPicPr/>
          <p:nvPr/>
        </p:nvPicPr>
        <p:blipFill>
          <a:blip r:embed="rId14"/>
          <a:stretch/>
        </p:blipFill>
        <p:spPr>
          <a:xfrm>
            <a:off x="139680" y="2011320"/>
            <a:ext cx="1152720" cy="168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СВ\Desktop\Безопасный мир\ак7.jpg"/>
          <p:cNvPicPr/>
          <p:nvPr/>
        </p:nvPicPr>
        <p:blipFill>
          <a:blip r:embed="rId15"/>
          <a:stretch/>
        </p:blipFill>
        <p:spPr>
          <a:xfrm>
            <a:off x="1262160" y="1925640"/>
            <a:ext cx="1285920" cy="1012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192240" y="29480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Мы помни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СВ\Desktop\Безопасный мир\письмо 1.jpg"/>
          <p:cNvPicPr/>
          <p:nvPr/>
        </p:nvPicPr>
        <p:blipFill>
          <a:blip r:embed="rId16"/>
          <a:stretch/>
        </p:blipFill>
        <p:spPr>
          <a:xfrm>
            <a:off x="219240" y="3359160"/>
            <a:ext cx="1091880" cy="15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СВ\Desktop\Безопасный мир\письмо 2.jpg"/>
          <p:cNvPicPr/>
          <p:nvPr/>
        </p:nvPicPr>
        <p:blipFill>
          <a:blip r:embed="rId17"/>
          <a:stretch/>
        </p:blipFill>
        <p:spPr>
          <a:xfrm>
            <a:off x="1504800" y="3359160"/>
            <a:ext cx="1086120" cy="1577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3"/>
          <p:cNvSpPr/>
          <p:nvPr/>
        </p:nvSpPr>
        <p:spPr>
          <a:xfrm>
            <a:off x="371520" y="4265640"/>
            <a:ext cx="22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 Unicode MS"/>
              </a:rPr>
              <a:t>«Письмо солдат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571760" y="8748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Военно-патриотическ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и гражданско-патриотические 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ПРО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4200" y="1071720"/>
            <a:ext cx="52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«ПАМЯТЬ СИЛЬНЕЕ ВРЕМЕН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СВ\Desktop\Безопасный мир\память.jpg"/>
          <p:cNvPicPr/>
          <p:nvPr/>
        </p:nvPicPr>
        <p:blipFill>
          <a:blip r:embed="rId2"/>
          <a:stretch/>
        </p:blipFill>
        <p:spPr>
          <a:xfrm>
            <a:off x="826920" y="1571760"/>
            <a:ext cx="2654640" cy="19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Прямоугольник 6"/>
          <p:cNvSpPr/>
          <p:nvPr/>
        </p:nvSpPr>
        <p:spPr>
          <a:xfrm>
            <a:off x="5000760" y="10717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«ДАВАЙТЕ ДРУЖ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 Unicode MS"/>
              </a:rPr>
              <a:t>НАРОДАМ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СВ\Desktop\Безопасный мир\народ3.jpg"/>
          <p:cNvPicPr/>
          <p:nvPr/>
        </p:nvPicPr>
        <p:blipFill>
          <a:blip r:embed="rId3"/>
          <a:srcRect l="6016" t="-4820" r="0" b="0"/>
          <a:stretch/>
        </p:blipFill>
        <p:spPr>
          <a:xfrm>
            <a:off x="6989760" y="1787400"/>
            <a:ext cx="1965240" cy="164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10" descr="D:\Мои документы - ЛИВ\ФОТО с праздников\2014-15\проект\проек 3.jpeg"/>
          <p:cNvPicPr/>
          <p:nvPr/>
        </p:nvPicPr>
        <p:blipFill>
          <a:blip r:embed="rId4"/>
          <a:srcRect l="0" t="0" r="17803" b="0"/>
          <a:stretch/>
        </p:blipFill>
        <p:spPr>
          <a:xfrm>
            <a:off x="174600" y="3643200"/>
            <a:ext cx="1665360" cy="135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D:\Мои документы - ЛИВ\ФОТО с праздников\2014-15\проект\проект память2 - копия.jpeg"/>
          <p:cNvPicPr/>
          <p:nvPr/>
        </p:nvPicPr>
        <p:blipFill>
          <a:blip r:embed="rId5"/>
          <a:stretch/>
        </p:blipFill>
        <p:spPr>
          <a:xfrm>
            <a:off x="2322360" y="3643200"/>
            <a:ext cx="1797120" cy="131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D:\Мои документы - ЛИВ\ФОТО с праздников\2014-15\проект\проект память2.jpeg"/>
          <p:cNvPicPr/>
          <p:nvPr/>
        </p:nvPicPr>
        <p:blipFill>
          <a:blip r:embed="rId6"/>
          <a:stretch/>
        </p:blipFill>
        <p:spPr>
          <a:xfrm>
            <a:off x="2484360" y="5187960"/>
            <a:ext cx="1789200" cy="1444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D:\Мои документы - ЛИВ\ФОТО с праздников\2014-15\проект\проект память 1.jpeg"/>
          <p:cNvPicPr/>
          <p:nvPr/>
        </p:nvPicPr>
        <p:blipFill>
          <a:blip r:embed="rId7"/>
          <a:stretch/>
        </p:blipFill>
        <p:spPr>
          <a:xfrm>
            <a:off x="104760" y="5303880"/>
            <a:ext cx="1704960" cy="13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СВ\Desktop\Безопасный мир\проект память.jpg"/>
          <p:cNvPicPr/>
          <p:nvPr/>
        </p:nvPicPr>
        <p:blipFill>
          <a:blip r:embed="rId8"/>
          <a:stretch/>
        </p:blipFill>
        <p:spPr>
          <a:xfrm>
            <a:off x="1403280" y="4653000"/>
            <a:ext cx="1417680" cy="10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14" descr="D:\Мои документы - ЛИВ\ФОТО с праздников\2015-2016\ноябрь\праздник нац.культур\PB161484.JPG"/>
          <p:cNvPicPr/>
          <p:nvPr/>
        </p:nvPicPr>
        <p:blipFill>
          <a:blip r:embed="rId9"/>
          <a:stretch/>
        </p:blipFill>
        <p:spPr>
          <a:xfrm>
            <a:off x="4660920" y="3625920"/>
            <a:ext cx="4087800" cy="306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D:\Мои документы - ЛИВ\ФОТО с праздников\2015-2016\ноябрь\праздник нац.культур\PB161483.JPG"/>
          <p:cNvPicPr/>
          <p:nvPr/>
        </p:nvPicPr>
        <p:blipFill>
          <a:blip r:embed="rId10"/>
          <a:stretch/>
        </p:blipFill>
        <p:spPr>
          <a:xfrm>
            <a:off x="3936960" y="175572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СВ\Desktop\Безопасный мир\народ.jpg"/>
          <p:cNvPicPr/>
          <p:nvPr/>
        </p:nvPicPr>
        <p:blipFill>
          <a:blip r:embed="rId11"/>
          <a:stretch/>
        </p:blipFill>
        <p:spPr>
          <a:xfrm>
            <a:off x="5624640" y="2421000"/>
            <a:ext cx="203364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212920" y="35989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ДЕНЬ ЕДИНЕНИЯ НАРОД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БЕЛАРУСИ И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СВ\Desktop\Безопасный мир\марафон.jpg"/>
          <p:cNvPicPr/>
          <p:nvPr/>
        </p:nvPicPr>
        <p:blipFill>
          <a:blip r:embed="rId2"/>
          <a:stretch/>
        </p:blipFill>
        <p:spPr>
          <a:xfrm>
            <a:off x="4788000" y="1154160"/>
            <a:ext cx="3089160" cy="23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3" descr="C:\Users\СВ\Desktop\Безопасный мир\марафон1.jpg"/>
          <p:cNvPicPr/>
          <p:nvPr/>
        </p:nvPicPr>
        <p:blipFill>
          <a:blip r:embed="rId3"/>
          <a:stretch/>
        </p:blipFill>
        <p:spPr>
          <a:xfrm>
            <a:off x="1042920" y="1127160"/>
            <a:ext cx="3032280" cy="22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4" descr="C:\Users\СВ\Desktop\Безопасный мир\беларусь 2.jpg"/>
          <p:cNvPicPr/>
          <p:nvPr/>
        </p:nvPicPr>
        <p:blipFill>
          <a:blip r:embed="rId4"/>
          <a:stretch/>
        </p:blipFill>
        <p:spPr>
          <a:xfrm>
            <a:off x="3298680" y="4684680"/>
            <a:ext cx="2086200" cy="156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6"/>
          <p:cNvSpPr/>
          <p:nvPr/>
        </p:nvSpPr>
        <p:spPr>
          <a:xfrm>
            <a:off x="2071800" y="285840"/>
            <a:ext cx="521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«ПЕРЕМЕННЫЙ» </a:t>
            </a: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МАРАФ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D:\Мои документы - ЛИВ\ФОТО с праздников\2014-15\знание -сила\PC080300.JPG"/>
          <p:cNvPicPr/>
          <p:nvPr/>
        </p:nvPicPr>
        <p:blipFill>
          <a:blip r:embed="rId5"/>
          <a:stretch/>
        </p:blipFill>
        <p:spPr>
          <a:xfrm>
            <a:off x="250920" y="4390920"/>
            <a:ext cx="28670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:\Мои документы - ЛИВ\ФОТО с праздников\2012-2013 год\правовой бой и вечер встречи 2013\P1010020.JPG"/>
          <p:cNvPicPr/>
          <p:nvPr/>
        </p:nvPicPr>
        <p:blipFill>
          <a:blip r:embed="rId6"/>
          <a:stretch/>
        </p:blipFill>
        <p:spPr>
          <a:xfrm>
            <a:off x="5651640" y="4311720"/>
            <a:ext cx="3079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20" y="1714680"/>
          <a:ext cx="8643960" cy="4949640"/>
        </p:xfrm>
        <a:graphic>
          <a:graphicData uri="http://schemas.openxmlformats.org/drawingml/2006/table">
            <a:tbl>
              <a:tblPr/>
              <a:tblGrid>
                <a:gridCol w="2989440"/>
                <a:gridCol w="3176640"/>
                <a:gridCol w="2477880"/>
              </a:tblGrid>
              <a:tr h="529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одержа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ланируемые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оспитательные  результ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лючев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омпетен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856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Мозговой штур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«Что такое историческая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амять?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Знание национальных героев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 важнейших событий истор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России и малой Родины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Учебно-познавательная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умение определять цел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 порядок работы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ланировать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еятельность, проявля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амостоятельность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 творческую актив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Личностно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овершенствование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осприятие и поним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нравственной сущности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героико-патриотическо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4328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оллективная поисково-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сследовательская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еятельност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- вклад семьи в дело Великой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обеды; города-герои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ражения Великой войны;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Герои Советского Союза и т.п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Ценностное отноше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 России, своему народу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раю, отечественном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ультурно-историческом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наследию, старшем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околению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2)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88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резентация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ыпуск исторического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альбома, буклета дл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родителей о значим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пыт конструктивног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заимодейств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 творческой деятельности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428760" y="107172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ФОРМИРУЕМЫЕ ЦЕННОСТИ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: любовь к России, своему народу, своему кра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мир во всём ми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285920" y="7128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Военно-патриотический проек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«ПАМЯТЬ СИЛЬНЕЕ ВРЕМЕН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7120" y="1857240"/>
          <a:ext cx="8643960" cy="4383360"/>
        </p:xfrm>
        <a:graphic>
          <a:graphicData uri="http://schemas.openxmlformats.org/drawingml/2006/table">
            <a:tbl>
              <a:tblPr/>
              <a:tblGrid>
                <a:gridCol w="2389320"/>
                <a:gridCol w="3162240"/>
                <a:gridCol w="3092400"/>
              </a:tblGrid>
              <a:tr h="6066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одержа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еятель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ланируемые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оспитательные  результ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лючев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i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омпетен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156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нформационный час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«Россия и Беларусь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щая история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щая судьб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истемные представл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 государственном празднике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его роли и значении в жизн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двух государств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Коммуникативная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умение вести диалог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 целью получения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уточнения , систематизации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информации, умение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работать в группе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формирование навы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ъединения дл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ыполнения заданий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этическая культу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щекультурная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уровень эмоциональног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развития, бесконфликтность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щения, культур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>
                      <a:noFill/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698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Журнал-эстафет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«Две сестры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Беларусь и Россия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ознательное понимание сво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ринадлежности  к историческ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ложившейся этнической группе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онимание общей историческо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судьбы двух народов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54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«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Переменный»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мараф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пыт творческог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взаимодействия межд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учающимися разных уровн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0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общего образования </a:t>
                      </a:r>
                      <a:r>
                        <a:rPr b="1" lang="ru-RU" sz="15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428760" y="114300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ФОРМИРУЕМЫЕ ЦЕННОСТИ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: поликультурный мир, многообразие и ува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культур и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285920" y="71280"/>
            <a:ext cx="757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</a:t>
            </a:r>
            <a:r>
              <a:rPr b="0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«Переменный» марафо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«ДЕНЬ ЕДИНЕНИЯ НАРОДОВ РОССИИ И БЕЛАРУС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4:17:54Z</dcterms:created>
  <dc:creator>Пользователь</dc:creator>
  <dc:description/>
  <dc:language>en-US</dc:language>
  <cp:lastModifiedBy>Владелец</cp:lastModifiedBy>
  <dcterms:modified xsi:type="dcterms:W3CDTF">2016-11-07T07:50:51Z</dcterms:modified>
  <cp:revision>50</cp:revision>
  <dc:subject/>
  <dc:title>Презентация PowerPoint</dc:title>
</cp:coreProperties>
</file>