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C65-F3F6-456E-89EB-460CAD1C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F77-56C8-40CF-A79A-964379D3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57F-5900-4BBD-A618-71DE0DF1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49D-2289-4AD3-B44C-AFD255DA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8B6-2DC4-446F-A6BE-94B23A55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A99-5F9D-41DF-B887-39BCE299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B28-A098-4AFC-8479-82AEF03B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159-7E6E-4A4B-B60A-B9EB5BC6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F60-7D9D-41B2-B1D7-E3375CDC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AC5-ACE1-4E59-8FF4-1A0FF920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0F0-217B-4C1D-B7B1-6B55BDA6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97E-D141-469E-9C67-B0AE3616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69D2-54BA-47A2-8DD0-E2906E9622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124000" y="40464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26920" y="105264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95280" y="1197000"/>
            <a:ext cx="8569440" cy="317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оспитательный потенци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экологического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ереживание опыта совместной 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Личный пример родителей в разрешении зада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о улучшению экологического состояния окружаю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реды –  важный фактор формирования у обучаю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основ экологиче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klumba-odnoletnikov-svoimi-rukami-foto-3"/>
          <p:cNvPicPr/>
          <p:nvPr/>
        </p:nvPicPr>
        <p:blipFill>
          <a:blip r:embed="rId2"/>
          <a:stretch/>
        </p:blipFill>
        <p:spPr>
          <a:xfrm>
            <a:off x="5506920" y="4394160"/>
            <a:ext cx="28814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300400" y="3492360"/>
            <a:ext cx="44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  <a:ea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39640" y="165276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Опыт организации проект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экологическом воспит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ладших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979640" y="3160800"/>
            <a:ext cx="54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      </a:t>
            </a: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Гуркова О.А., учитель начальных классов       МБОУ «Средняя школа № 23» г. Смоленска, классный руководитель 3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216000" y="1271520"/>
            <a:ext cx="8748720" cy="47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лобальный вызов человечества – нравственное переосмысление взаимоотношений человека с прир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риоритетная задача школы на уровне НО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оиск эффективных механизмов форм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ценностного отношения к природе, основ экологиче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оспитательная компоненты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- Программа духовно-нравственного разви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и воспитания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- Программа формирования экологической культу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здорового и безопасного образа 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250920" y="1557360"/>
            <a:ext cx="8713800" cy="57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УЧАСТНИКИ: Родители и обучающиеся 2а класса       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КЛЮЧЕВАЯ ИДЕЯ: создание «экологического оазиса»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                                 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в микрорайоне Сортиров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ЦЕЛЬ: Приобретение начального опыта экологическ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            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целесообразной деятельно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ЗАДАЧИ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Организовать совместную с родителями экологическую деятельность в рамках реализации проек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Содействовать демонстрации личного примера родителей, укреплению продуктивного сотрудничества между участниками проек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Обеспечить овладение учащимися основами проектной деятельно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539640" y="105264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ЭКОЛОГИЧЕСКИЙ ПРОЕКТ «ЦВЕТНЫЕ УЗО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539640" y="836640"/>
            <a:ext cx="84250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Изучение литературы по цветоводст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Знакомство с основами цветочной композиции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пособами оформления клум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пределение ассортимента раст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для высаживания на клум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Закупка сем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260280"/>
            <a:ext cx="684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ПОДГОТОВИТЕЛЬНЫЙ ЭТА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DSC06280"/>
          <p:cNvPicPr/>
          <p:nvPr/>
        </p:nvPicPr>
        <p:blipFill>
          <a:blip r:embed="rId1"/>
          <a:stretch/>
        </p:blipFill>
        <p:spPr>
          <a:xfrm>
            <a:off x="826920" y="335772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755640" y="58039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В библиотеке №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IMG_1236"/>
          <p:cNvPicPr/>
          <p:nvPr/>
        </p:nvPicPr>
        <p:blipFill>
          <a:blip r:embed="rId2"/>
          <a:stretch/>
        </p:blipFill>
        <p:spPr>
          <a:xfrm>
            <a:off x="5075280" y="3357720"/>
            <a:ext cx="3241800" cy="2158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5435640" y="5732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Закупка сем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611280" y="120168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осев семян, уход за расса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Разработка проекта цветочной композиции клум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ысадка рассады растений согласно прое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остроение и установка декоративного заб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ход за цветами на клумбе в течение всего л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900000" y="488880"/>
            <a:ext cx="446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ОСНОВНОЙ ЭТА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Фото0699"/>
          <p:cNvPicPr/>
          <p:nvPr/>
        </p:nvPicPr>
        <p:blipFill>
          <a:blip r:embed="rId1"/>
          <a:stretch/>
        </p:blipFill>
        <p:spPr>
          <a:xfrm>
            <a:off x="900000" y="3429000"/>
            <a:ext cx="3552840" cy="285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Picture 4" descr="Фото0638"/>
          <p:cNvPicPr/>
          <p:nvPr/>
        </p:nvPicPr>
        <p:blipFill>
          <a:blip r:embed="rId2"/>
          <a:stretch/>
        </p:blipFill>
        <p:spPr>
          <a:xfrm>
            <a:off x="5292720" y="3429000"/>
            <a:ext cx="2735280" cy="292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466560" y="1682640"/>
            <a:ext cx="8353440" cy="51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Направление Програм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оспитание ценностного отношения к природе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окружающе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частни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чащиеся 2а класса и их роди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Формируемые цен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Красота природы, экологическая культу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Форма воспит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Экологический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иды деятель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Диалоговое общение, эколог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на пришкольной терри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627280" y="33336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84360" y="1125360"/>
            <a:ext cx="705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ТЕХНОЛОГИЧЕСКАЯ КАР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77920" y="1165320"/>
            <a:ext cx="8785080" cy="426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Блок личностных результа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орально-этическая ориентация (бережное отно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к природе как ценностно-смысловая установ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оспитательный эффек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Начальный опыт самостоятельной экологиче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значим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ланируемые воспитательны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 уровень – понимание важности экологической деятельности для человека; роли семейных цен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и традиций в работе по сохранению и улучш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экологического состояния пришкольной терри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627280" y="33336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682560" y="1268280"/>
            <a:ext cx="7921800" cy="35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ланируемые воспита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(2 уровень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Ценностное отношение к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Желание участвовать в экологически значим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Опыт позитивного эмоционального пережи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процессе создания клум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Навыки конструктивного взаимодей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 участникам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4:17:54Z</dcterms:created>
  <dc:creator>Пользователь</dc:creator>
  <dc:description/>
  <dc:language>en-US</dc:language>
  <cp:lastModifiedBy>Владелец</cp:lastModifiedBy>
  <dcterms:modified xsi:type="dcterms:W3CDTF">2017-02-17T08:29:43Z</dcterms:modified>
  <cp:revision>45</cp:revision>
  <dc:subject/>
  <dc:title>Презентация PowerPoint</dc:title>
</cp:coreProperties>
</file>