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2151-5D11-428B-8294-540921AE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8B55-AA4D-4475-9FA7-644687FC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2DD-3985-4552-828A-54CAB08C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8A81-834B-4E69-B7DF-025315E3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A1C-4222-407D-8D46-B90CB128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D460-FCAB-45C7-94B3-89A3234F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3AE7-7CA3-4663-97A6-8EBD34FB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6774-D749-4A6C-970D-57DCAD91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93F1-CD88-463C-A368-2858077A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E2D9-091E-4615-8B91-AE05290E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507-9F31-4E20-AE45-A22E26BB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A432-F8DA-4F53-A1BB-F450E7C2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20BA-B3B6-4989-B53B-3F4BF4D139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468360" y="1989000"/>
            <a:ext cx="8351640" cy="47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онятие «воспитательный результат», «воспитательный эффект», «3 уровня воспитательных результатов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вязь видов и форм внеурочной деятельно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форм и планируемых воспитательных результа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Разнообразие форм воспитания внутри одного вида деятельности: проблемно-ценностное общение – этическая беседа, проблема на ладошке, час доверия, ток-шоу, личная трибуна, диалог в Великим и т.п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реимущественное использование форм, ориентированных на достижения результатов 2 уров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684360" y="1023840"/>
            <a:ext cx="7848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Методический конструктор внеурочной деятельности (Д.В. Григорьев, П.В. Степанов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353680" y="3357720"/>
            <a:ext cx="42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39640" y="162864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Актуальная «пятёрка» нормативных правовых документов, регламентирующих организацию воспитательной деятельности с пози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классного руководи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700360" y="3533760"/>
            <a:ext cx="511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f497d"/>
                </a:solidFill>
                <a:latin typeface="Arial"/>
                <a:ea typeface="Arial"/>
              </a:rPr>
              <a:t>Зевакова Н.С., заведующий отделом воспитания и дополнительного образования дете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f497d"/>
                </a:solidFill>
                <a:latin typeface="Arial"/>
                <a:ea typeface="Arial"/>
              </a:rPr>
              <a:t>ГАУ ДПО СОИР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95280" y="2133720"/>
            <a:ext cx="8569440" cy="420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етодологическая основа ФГО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Цель воспитания – оказание социально-педагогической поддержки становления и развития лич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гражданина Ро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риоритетная задача – формирование духовн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и нравственных качеств обучающих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(высоконравственный гражданин Росс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Ключевое условие – нравственный уклад школьной жизни как особое воспитательное простран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539640" y="1127160"/>
            <a:ext cx="826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Концепция духовно-нравственного развити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и воспитания личности гражданина Росс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95280" y="2225520"/>
            <a:ext cx="8640720" cy="39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одержание воспитания – система базовых национальных ценностей, традиционных моральных норм и духовных идеалов, присваиваемых в каждом направлении воспи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еханизмы формирования – формы и виды деятельности, обеспечивающие активность лич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 деятельности (внеурочная деятельность, вовлеч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 социальные и культурные практики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творческий, компетентный гражданин Росс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611280" y="1168560"/>
            <a:ext cx="8262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Концепция духовно-нравственного развити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и воспитания личности гражданина Росс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2205000"/>
            <a:ext cx="8280360" cy="36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заимодействие с социальными институтами (расширение поля социальных и культурных практи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как зон дополнительного развития личнос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оследовательное присвоение ценносте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- семь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- малая Род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- многообразие культур и народов Ро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- российская гражданская идентич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701640" y="1168560"/>
            <a:ext cx="826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Концепция духовно-нравственного развити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и воспитания личности гражданина Росс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431640" y="2349360"/>
            <a:ext cx="867744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овышение качества человеческого капита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как ключевой вызов современного развития Росс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(конкурентноспособность молодёжи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залог успешного развития государст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Качественное обновление воспитательной деятельности как приоритетное направление развит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(активное использование современной формоте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оспитательных де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- тест-драйв, гайд-парк, открытая кафедра, квест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дискуссионные качели, проектное бюро и д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611280" y="1125360"/>
            <a:ext cx="8353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Стратегия развития воспитания в РФ до 2025 года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(утверждена Распоряжением Правительства РФ от 29.05.2015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№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996-р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468360" y="249228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Деятельность органов ученического самоуправл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как эффективный механизм формирование активн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гражданской позиции обучающего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Ориентация на качественные показате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личностного развития обучаю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11280" y="1197000"/>
            <a:ext cx="8353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Стратегия развития воспитания в РФ до 2025 года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(утверждена Распоряжением Правительства РФ от 29.05.2015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№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996-р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468360" y="3284640"/>
            <a:ext cx="799128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Школа как центр духовно-нравственного воспит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вязь традиций и иннова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истема планируемых воспитательных результатов и ключевых компет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еханизмы оце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611280" y="1268280"/>
            <a:ext cx="84978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Концепция развития системы духовно-нравственного воспитания детей и молодёжи в культурно-образовательной среде Смоленск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(утверждена Распоряжением Администрации Смоленской обла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от 23.09.2014 № 1293-р /адм.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24000" y="1268280"/>
            <a:ext cx="8532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Программа развития воспитательной компонент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(письмо Минобрнауки России от 13.05.2013 г. № ИР-352/09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79280" y="2287440"/>
            <a:ext cx="8748720" cy="442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оспитательная деятельность как часть образовательного процесса и самостоятельная дея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оспитательная компонента ФГОС как важное условие создания воспитательной системы, воспитательного пространства, воспитывающей ситуации, воспитательной деятельности (содержательный раздел ООП НОО / ООО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- программа духовно-нравственного развития и воспит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обучаю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- Программа воспитания и социализации обучаю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14:17:54Z</dcterms:created>
  <dc:creator>Пользователь</dc:creator>
  <dc:description/>
  <dc:language>en-US</dc:language>
  <cp:lastModifiedBy>Владелец</cp:lastModifiedBy>
  <dcterms:modified xsi:type="dcterms:W3CDTF">2017-02-17T06:14:27Z</dcterms:modified>
  <cp:revision>10</cp:revision>
  <dc:subject/>
  <dc:title>Презентация PowerPoint</dc:title>
</cp:coreProperties>
</file>