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47A-4BFE-4CB0-B50E-C0F8C9A41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37A-CEE8-49B2-9178-80A572F4A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3425-FB16-4CBF-9E36-CF4805E28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A794-7B4C-4BED-9E9D-924965CFA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652-0E73-4D49-BEA8-FEA73DB9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07C-A78D-43BF-8E91-B3A0BA55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1B4-7337-41D3-91BA-BD4E9EB7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D50-6A7D-4F97-AB28-59A926B3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72E-72DA-4C25-BDE1-185633EC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50F-7BE5-4B1A-AD7B-CD08C224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B21-3628-4358-B97A-78A64E2A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9C0-3E70-4F6C-8825-8F27426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5BF-A2E0-4B31-8885-5095E14D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AD7-35E8-47D3-AF58-23EAE798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BDB-A4A1-4E8B-8D9B-CB02F5D0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281-A95B-4EE7-A49E-3FC84C7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A8C1-B6D9-41E1-8C96-1A90E1CB8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979640" y="26028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324000" y="2276640"/>
            <a:ext cx="864072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аправление вос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Формируемые ц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ланируемые воспитательные результат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одержание (тематика мероприят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ид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Формы воспитания, ориентированные на дости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оспитательных результатов разного уров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ценка достижения планируемых результатов    (контрольно-измерительные материа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539640" y="1166760"/>
            <a:ext cx="8675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АЛГОРИТМ проектир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воспитательной деятель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979640" y="26028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28560" y="1125360"/>
            <a:ext cx="81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одержание воспитатель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приоритетных направлениях воспитательной программы школы на уровне НОО / ОО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250920" y="242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аправление Программы: 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Формируемые ценности: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4360" y="3429000"/>
          <a:ext cx="7920000" cy="2193840"/>
        </p:xfrm>
        <a:graphic>
          <a:graphicData uri="http://schemas.openxmlformats.org/drawingml/2006/table">
            <a:tbl>
              <a:tblPr/>
              <a:tblGrid>
                <a:gridCol w="2597040"/>
                <a:gridCol w="2370240"/>
                <a:gridCol w="2952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и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звание 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форма мероприя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ланируемые воспитательные результаты /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тме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 выполн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979640" y="26028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50920" y="1125360"/>
            <a:ext cx="8893080" cy="57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Направление Программы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Воспитание социальной ответственности и компетентности 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Форма и название мероприятия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ебаты «Ты гражданином быть обяза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Формируемые ценност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социаль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иды деятельност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проблемно-ценностное общение (имитация социальных отношений в ролевом проек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ланируемые воспитательные результаты (уровень)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 умение вести диалог, аргументировать и отстаи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вою гражданскую позицию (2 уровень результа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Сроки проведения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23.09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Ответственные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классный руководитель, акти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Отметка о выполнени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выполнено 23.09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1332000" y="16286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324000" y="1314360"/>
            <a:ext cx="8640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1f497d"/>
                </a:solidFill>
                <a:latin typeface="Arial"/>
              </a:rPr>
              <a:t>Направление Программы</a:t>
            </a: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: Воспитание социально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ответственности и компетент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Работа с активом, деятельность органов классного само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11280" y="3357720"/>
          <a:ext cx="8137440" cy="39528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440000"/>
                <a:gridCol w="331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Ф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ру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тметка о выполн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1280" y="4221000"/>
          <a:ext cx="8137440" cy="70200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2160360"/>
                <a:gridCol w="1036800"/>
                <a:gridCol w="162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р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16856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абота с родителями (законными представителями) обучающих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059280" y="5589720"/>
            <a:ext cx="6049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едагогическое просве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рофилакт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Совместные воспитатель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2200320"/>
          <a:ext cx="8713800" cy="3200400"/>
        </p:xfrm>
        <a:graphic>
          <a:graphicData uri="http://schemas.openxmlformats.org/drawingml/2006/table">
            <a:tbl>
              <a:tblPr/>
              <a:tblGrid>
                <a:gridCol w="2197080"/>
                <a:gridCol w="1684440"/>
                <a:gridCol w="877680"/>
                <a:gridCol w="2211480"/>
                <a:gridCol w="17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ланируем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формление итогов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роблемы успеваемости, посещаемости и взаимоотношений в детском коллекти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оздание условий для устранения проблем обучения, воспитания, межличностных противоречий между обучающими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Методические рекоменд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6" name="Соединительная линия уступом 3"/>
          <p:cNvCxnSpPr/>
          <p:nvPr/>
        </p:nvCxnSpPr>
        <p:spPr>
          <a:xfrm>
            <a:off x="7667640" y="5322600"/>
            <a:ext cx="937440" cy="770760"/>
          </a:xfrm>
          <a:prstGeom prst="bentConnector3">
            <a:avLst>
              <a:gd name="adj1" fmla="val 49980"/>
            </a:avLst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4000" y="1125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абота с обучающимися «группы риск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3059280" y="5445000"/>
            <a:ext cx="6049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овлечение во внеурочн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рофилакт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заимодействие со специали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730520"/>
          <a:ext cx="8712000" cy="3474720"/>
        </p:xfrm>
        <a:graphic>
          <a:graphicData uri="http://schemas.openxmlformats.org/drawingml/2006/table">
            <a:tbl>
              <a:tblPr/>
              <a:tblGrid>
                <a:gridCol w="2016000"/>
                <a:gridCol w="1863720"/>
                <a:gridCol w="879480"/>
                <a:gridCol w="2152800"/>
                <a:gridCol w="180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ланируем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формление итогов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Графит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зона личн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и социальной ответств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роф. бес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1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Расширение предста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 правовой ответственности за совершаемые правонарушения, повышение уровня гражданского самос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амят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бучающему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 классном угол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0" name="Соединительная линия уступом 3"/>
          <p:cNvCxnSpPr/>
          <p:nvPr/>
        </p:nvCxnSpPr>
        <p:spPr>
          <a:xfrm>
            <a:off x="7524360" y="4530240"/>
            <a:ext cx="935640" cy="770760"/>
          </a:xfrm>
          <a:prstGeom prst="bentConnector3">
            <a:avLst>
              <a:gd name="adj1" fmla="val 50000"/>
            </a:avLst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16000" y="1484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68360" y="9810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заимодействие со специалис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медико-психолого-социальной службы шко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50920" y="1916280"/>
            <a:ext cx="8893080" cy="47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Направление Программы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Воспитание трудолюбия, сознательного, творческого отношения к образованию, труду и жизни, подготовка к сознательному выбору профессии 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Название и форма мероприятия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ярмарка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Формируемые ценност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проф. само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иды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деятельност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проблемно-ценностное 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ланируемые воспитательные результаты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расширение представлений о разных профессиях, самоопред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области проф. намерений и интересов (2 уровен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Социальное партнерство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: педагог-псих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2300400" y="349236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  <a:ea typeface="Segoe UI Symbo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26920" y="19162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ланирование воспитатель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ак важное условие достижения результ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личностного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987640" y="358632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</a:rPr>
              <a:t>Кондрыкина С.Н. 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</a:rPr>
              <a:t>МБОУ «Средняя школа № 2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</a:rPr>
              <a:t>г. Смоленска, председатель О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24000" y="1916280"/>
            <a:ext cx="87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 позиции ФГОС – это мечты о достижении современного национального воспитательного иде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еализуемые в планах воспитатель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через отбор содержания и механиз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следовательного восхождения обуча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т воспитательных результатов одного уровня к друг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684360" y="112536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Планы – это мечты знающих люд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Эрнст фон Фейхтерслеб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95280" y="4365720"/>
            <a:ext cx="8424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1f497d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лан воспитательной работы – важный инстр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выстраивании траектории личностного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бучающихся, способствующий упорядочив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казываемых на них воспитательных воз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826920" y="1125360"/>
            <a:ext cx="777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Примерная структура пла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воспитательной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9640" y="2133720"/>
            <a:ext cx="8209080" cy="45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1. Титуль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2. Анализ ВР за предыдущий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3. Цели и задачи воспитания на новый учебно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4. Характеристика классного колл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5. Социальный паспорт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6. Организация воспитатель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приоритетных направлениях воспитательной программы на уровне НОО / ОО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7. План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8. План работы с обучающимися «группы рис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547640" y="170028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84360" y="1916280"/>
            <a:ext cx="7559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аименование образовательной организации (согласно Уста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Грифы рассмотрения, соглас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 утверждения плана воспита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ласс,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Ф.И.О. классного руковод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аселенный пункт, год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971640" y="1197000"/>
            <a:ext cx="52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Титульный лис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73120" y="1052640"/>
            <a:ext cx="774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Анализ ВР за предыдущий учебный год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95280" y="1617840"/>
            <a:ext cx="8640720" cy="48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Реализация целевых установок с опорой на данные диагностических исследован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Достижение планируемых воспитательных результатов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с указанием эффективных форм воспитани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в приоритетных направлениях деятельн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Результативность работы с детьми «группы риска»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(охват внеурочной деятельностью, формы и метод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профилактической работы, взаимодействи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со специалистами, проблемы и перспективы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Результативность работы с родителями (участие родительской общественности в делах школы и класса, формы и методы педагогического просвещения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</a:rPr>
              <a:t>профилактической работы, затруднения и возможности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611280" y="2276640"/>
            <a:ext cx="8137440" cy="436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риентированы на обучающего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Формулируются с позиции личностных приращений ученика, которые он приобретет в проце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рганизуемой педагогом воспитательно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пределяются с учетом материалов ана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оспитательной работы за предыдущий учебный год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 данных, полученных в ходе про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иагност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900000" y="1197000"/>
            <a:ext cx="73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Цели и задачи воспитательной работ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на учебный год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124000" y="40464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55640" y="112536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Характеристика классного коллектив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39640" y="1773360"/>
            <a:ext cx="828036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бщее количество и состав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остояние здоровья, потребность в ведении З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знавательные интересы, учебная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анятость во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Ценностные ориентиры, уровень нравственного самос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формированность классного коллекти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мотивы и активность участия 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Межличностные отношения, статус обучающего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коллек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843280" y="5991120"/>
            <a:ext cx="619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ИАГНОСТИЧЕСКИ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Соединительная линия уступом 4"/>
          <p:cNvCxnSpPr/>
          <p:nvPr/>
        </p:nvCxnSpPr>
        <p:spPr>
          <a:xfrm flipH="1" rot="16200000">
            <a:off x="8103240" y="5519520"/>
            <a:ext cx="929160" cy="649800"/>
          </a:xfrm>
          <a:prstGeom prst="bentConnector3">
            <a:avLst>
              <a:gd name="adj1" fmla="val 50000"/>
            </a:avLst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979640" y="26028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01640" y="1325520"/>
            <a:ext cx="516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Социальный паспорт класс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060640"/>
            <a:ext cx="79930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личество и состав обучающихся «группы риск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дети, стоящие на внутриклассном / внутришко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нтроле, в КДН / ОПД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1f497d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личество и состав семей обучающих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неполные, многодетные, малообеспеченные семь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еблагополучные семьи; семьи, находя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трудной жизнен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4:17:54Z</dcterms:created>
  <dc:creator>Пользователь</dc:creator>
  <dc:description/>
  <dc:language>en-US</dc:language>
  <cp:lastModifiedBy>Наталья Зевакова</cp:lastModifiedBy>
  <dcterms:modified xsi:type="dcterms:W3CDTF">2017-02-12T11:15:58Z</dcterms:modified>
  <cp:revision>28</cp:revision>
  <dc:subject/>
  <dc:title>Презентация PowerPoint</dc:title>
</cp:coreProperties>
</file>