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B33-87F2-4185-B35A-0EE9971F6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D2B8-1693-4CD4-9A51-9C3608B76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D6A-5553-4BCC-9D0C-1925CE4F7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C6C-9CAA-4BED-888F-F1341674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FDE-1624-4541-AB40-E4A5FB2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D7C-DACD-4EEB-BB61-B9326617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AC6-6E49-4DBC-8283-F3353F6E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BD6-5202-4EBD-9EBA-EC60BF6A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906-91D6-42A9-B3C6-10B9F644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C54-67DF-4777-8C93-9A18A76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E60-1CB0-4DDC-BAC6-1CF42701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4E7-8A84-446E-A9D0-6EE83711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3B1-17CE-446C-AC1E-A7120B4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4CB-7897-4729-B2FF-809E675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09F-1C7B-493A-901B-4396B89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AFB-28C0-475C-8B8E-735C76034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s://pp.vk.me/c638820/v638820367/135ee/4mkWO45AFzE.jpg"/>
          <p:cNvPicPr/>
          <p:nvPr/>
        </p:nvPicPr>
        <p:blipFill>
          <a:blip r:embed="rId1"/>
          <a:srcRect l="5229" t="4733" r="9044" b="21096"/>
          <a:stretch/>
        </p:blipFill>
        <p:spPr>
          <a:xfrm>
            <a:off x="755640" y="836640"/>
            <a:ext cx="3622680" cy="20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6" descr="https://pp.vk.me/c638820/v638820367/135a8/uqEJ-zqgsaY.jpg"/>
          <p:cNvPicPr/>
          <p:nvPr/>
        </p:nvPicPr>
        <p:blipFill>
          <a:blip r:embed="rId2"/>
          <a:stretch/>
        </p:blipFill>
        <p:spPr>
          <a:xfrm>
            <a:off x="5003640" y="812880"/>
            <a:ext cx="3240360" cy="21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Прямоугольник 3"/>
          <p:cNvSpPr/>
          <p:nvPr/>
        </p:nvSpPr>
        <p:spPr>
          <a:xfrm>
            <a:off x="611280" y="3068640"/>
            <a:ext cx="76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Семейная гостина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«Как хорошо, что есть семья, которая от бед хранит меня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313440" cy="21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5" descr=""/>
          <p:cNvPicPr/>
          <p:nvPr/>
        </p:nvPicPr>
        <p:blipFill>
          <a:blip r:embed="rId4"/>
          <a:srcRect l="-216" t="2057" r="22" b="396"/>
          <a:stretch/>
        </p:blipFill>
        <p:spPr>
          <a:xfrm>
            <a:off x="684360" y="3860640"/>
            <a:ext cx="374328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6"/>
          <p:cNvSpPr/>
          <p:nvPr/>
        </p:nvSpPr>
        <p:spPr>
          <a:xfrm>
            <a:off x="324000" y="6211800"/>
            <a:ext cx="431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Встреча с интересным человек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4643280" y="6211800"/>
            <a:ext cx="435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В альпинисты я б пошёл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6836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 УРОВЕНЬ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68360" y="1289880"/>
            <a:ext cx="835164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Планируемые воспитательные результаты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3 уровень – начальный опыт участия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в делах благотворительности, милосердия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заботе о животных и природе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навыки конструктивного взаимодействия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в совместной творческ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Преимущественные формы воспитания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Коллективные творческие проекты: «Плетёная азбука», «Солёная азбука»,  «Весенний концерт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Участие в благотворительных акциях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подарки детскому саду как итог творческих проект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F:\сайт 1 класс А\детский сад\DSC03874.JPG"/>
          <p:cNvPicPr/>
          <p:nvPr/>
        </p:nvPicPr>
        <p:blipFill>
          <a:blip r:embed="rId1"/>
          <a:stretch/>
        </p:blipFill>
        <p:spPr>
          <a:xfrm>
            <a:off x="250920" y="1146240"/>
            <a:ext cx="4572000" cy="24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2" descr="F:\сайт 1 класс А\концерт 1 а 2 б сайт\20160525_130131.jpg"/>
          <p:cNvPicPr/>
          <p:nvPr/>
        </p:nvPicPr>
        <p:blipFill>
          <a:blip r:embed="rId2"/>
          <a:srcRect l="3365" t="0" r="4102" b="0"/>
          <a:stretch/>
        </p:blipFill>
        <p:spPr>
          <a:xfrm>
            <a:off x="5003640" y="2708280"/>
            <a:ext cx="396108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Прямоугольник 3"/>
          <p:cNvSpPr/>
          <p:nvPr/>
        </p:nvSpPr>
        <p:spPr>
          <a:xfrm>
            <a:off x="395280" y="3976560"/>
            <a:ext cx="464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ий проек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«Плетёная азбука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 flipV="1" rot="10800000">
            <a:off x="5579640" y="17841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ий проек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«Весенний концер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50920" y="5373720"/>
            <a:ext cx="813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й эффек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озитивное отношение к жизн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формирование основ нравственного самосозн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8360" y="3747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 УРОВЕНЬ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324000" y="1125360"/>
            <a:ext cx="8496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На конец 1 года обучения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Значительная часть обучающихся в качестве приоритетных ценностей выделяют материальные ценности (свыше 40 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Такие ценности как воспитанность, образованность, здоровье, уверенность в себе занимают ведущие пози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не более чем у 20-25%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Ценность творчества и духовности не осознаётся большинством обучающих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324000" y="4145040"/>
            <a:ext cx="8820000" cy="25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На конец первого полугодия 2 класс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Материальные ценности в качестве приоритетных выбра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немногим более 20% дете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Ценности общения, творчества, любви, наличие хорош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и верных друзей переместились из группы второстепенн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и незначительных на ведущие позиции более чем у 62%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692360" y="7776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ониторинговые исследов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етодика «Ценностные ориентиры» (М. Роки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641240" y="443700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 flipV="1" rot="10800000">
            <a:off x="539280" y="414360"/>
            <a:ext cx="820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Monotype Corsiva"/>
                <a:ea typeface="Calibri"/>
              </a:rPr>
              <a:t>«Детство есть та великая пора жизн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Monotype Corsiva"/>
                <a:ea typeface="Calibri"/>
              </a:rPr>
              <a:t>когда кладётся основание всем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Monotype Corsiva"/>
                <a:ea typeface="Calibri"/>
              </a:rPr>
              <a:t>будущему нравственному человеку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Monotype Corsiva"/>
              </a:rPr>
              <a:t>Н.В. Шелгу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16360" y="3249360"/>
            <a:ext cx="51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Замуруева Е.Г.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МБОУ «Средняя школа № 8» г. Рослав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классный руководитель 2а клас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900000" y="1700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Формирование нравственных качеств обучающихся на уровне начального общего образования: условия и механизмы ре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324000" y="1844640"/>
            <a:ext cx="8496000" cy="481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уховно-нравственное воспитание детей и молодёжи как общенациональная зад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ирование нравственного облика гражданина России как социальный заказ шк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равственный уклад школьной жизни как главный фактор личностного развития обучаю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нообразие форм и видов деяте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ипов социальных отношений и способ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заимодействия с окружающими людьми как важ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словие достижения планируемых воспитательны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9640" y="11970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ЦЕЛЕВЫЕ ПРИОРИТЕ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39640" y="112536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НРАВСТВЕННЫЙ УКЛАД ЖИЗНЕДЕЯТЕЛЬНОСТИ КЛАССНОГО КОЛЛЕКТИ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50920" y="2133720"/>
            <a:ext cx="8713800" cy="40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радиции, ритуалы, сложившаяся систе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х мероприят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Сотрудничество с родителями обучаю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совместные праздники, творческие проект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стер-классы, сюрпризы для родителей, поход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Участие в благотворительных акц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(подарки детскому саду как итог творческих проек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«Солёная азбука», «Плетёная азбука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«Весенний концерт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4000" y="112536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НРАВСТВЕННЫЙ УКЛАД ЖИЗНЕДЕЯТЕЛЬНОСТИ КЛАССНОГО КОЛЛЕКТИ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2133720"/>
            <a:ext cx="9036000" cy="42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Традиции, ритуалы, сложившаяся систем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х мероприятий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Распределение и выполнение сменных поручени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Участие в общешкольных делах (час чтения вслух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«Посели добро в сердце своём», фестиваль наук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и творчества «На пороге открытий» и др.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Целенаправленное посещение занятий внеурочной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деятельности (студия самопознания «Тропинка к своему «Я»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Calibri"/>
              </a:rPr>
              <a:t>Взаимодействие с социальными партнёра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395280" y="119700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ВОСПИТА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50920" y="2205000"/>
            <a:ext cx="8893080" cy="43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Направление Программ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ние нравственных чувств, убежд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тического соз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ируемые цен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оброта, честность, милосердие, уважение своего достоинства и достоинства другого человека, семья, помощь и з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облемно-ценностное общение, диалоговое общение, художественное творчество, социаль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992160"/>
            <a:ext cx="8640720" cy="557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Планируемые воспитательные результ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1 уровень – первоначальные представления о категориях нравственности, традиционных моральных нормах, нравственных взаимоотношениях в семье, с окружающими людьми; знание основных правил поведения в школе, общественных местах; умение распознавать хорош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и плохие поступ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Преимущественные формы воспита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Этические беседы «Доброе слово, что ясный день»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«Я могу быть волшебником», «Я и мои друзья»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Путешествия и экскурсии (заочные, виртуальные, очные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«Мир увлечений», «Город мастеров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росмотр сказок, притч,  мультфильмов с последующим обсуждением содержания – о добре и зле, о дружб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 верности, об ответственности за свои слова и де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s://pp.vk.me/c631126/v631126367/6740/m8BDLbQgLvY.jpg"/>
          <p:cNvPicPr/>
          <p:nvPr/>
        </p:nvPicPr>
        <p:blipFill>
          <a:blip r:embed="rId1"/>
          <a:stretch/>
        </p:blipFill>
        <p:spPr>
          <a:xfrm>
            <a:off x="905040" y="4221000"/>
            <a:ext cx="2658960" cy="17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6" descr="https://pp.vk.me/c631126/v631126367/67d0/zElY049_n84.jpg"/>
          <p:cNvPicPr/>
          <p:nvPr/>
        </p:nvPicPr>
        <p:blipFill>
          <a:blip r:embed="rId2"/>
          <a:stretch/>
        </p:blipFill>
        <p:spPr>
          <a:xfrm>
            <a:off x="3132000" y="907920"/>
            <a:ext cx="2887920" cy="19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Прямоугольник 3"/>
          <p:cNvSpPr/>
          <p:nvPr/>
        </p:nvSpPr>
        <p:spPr>
          <a:xfrm>
            <a:off x="250920" y="6167520"/>
            <a:ext cx="41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Calibri"/>
              </a:rPr>
              <a:t>Занятие по этике «Я и мои друзья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50920" y="3068640"/>
            <a:ext cx="28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Экскурсионная поездка «Город Мастеро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г. Могилев, Белару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https://pp.vk.me/c637529/v637529367/eaf1/nKGQGYzbtjo.jpg"/>
          <p:cNvPicPr/>
          <p:nvPr/>
        </p:nvPicPr>
        <p:blipFill>
          <a:blip r:embed="rId3"/>
          <a:stretch/>
        </p:blipFill>
        <p:spPr>
          <a:xfrm>
            <a:off x="179280" y="907920"/>
            <a:ext cx="2737080" cy="199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Прямоугольник 6"/>
          <p:cNvSpPr/>
          <p:nvPr/>
        </p:nvSpPr>
        <p:spPr>
          <a:xfrm>
            <a:off x="3132000" y="3141720"/>
            <a:ext cx="30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азд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«День рождения класс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2" descr="https://pp.vk.me/c631319/v631319578/4bffe/pW1EiGF8ehA.jpg"/>
          <p:cNvPicPr/>
          <p:nvPr/>
        </p:nvPicPr>
        <p:blipFill>
          <a:blip r:embed="rId4"/>
          <a:stretch/>
        </p:blipFill>
        <p:spPr>
          <a:xfrm>
            <a:off x="4983120" y="4149720"/>
            <a:ext cx="333396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Прямоугольник 8"/>
          <p:cNvSpPr/>
          <p:nvPr/>
        </p:nvSpPr>
        <p:spPr>
          <a:xfrm>
            <a:off x="4500720" y="609444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Экскурсия в историко-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5"/>
          <a:stretch/>
        </p:blipFill>
        <p:spPr>
          <a:xfrm>
            <a:off x="6300720" y="907920"/>
            <a:ext cx="2649600" cy="193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Прямоугольник 10"/>
          <p:cNvSpPr/>
          <p:nvPr/>
        </p:nvSpPr>
        <p:spPr>
          <a:xfrm>
            <a:off x="6233760" y="31305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Студия самоп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«Тропика к своему  «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6836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 УРОВЕНЬ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44360" y="1222200"/>
            <a:ext cx="9036000" cy="527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Планируемые воспитательные результ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2 уровень – первоначальный опыт нравственн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взаимоотношений и позитивного взаимодействия в семь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с окружающими людьми; уважительное отношен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забота и помощь ближне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Преимущественные формы воспит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Встречи с интересными людьми (например, встреча с папой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совершившим восхождение на Эльбрус и т.п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Совместные мероприятия с родителями (семейная гостина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Calibri"/>
              </a:rPr>
              <a:t>«Как хорошо, что есть семья, которая от бед хранит меня!» и др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овместные проекты: «Моя родословная», «Мода и врем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Детские сюрпризы: пасхальное письмо-поздрав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«Чудеса в конверте», сочинение-признание «Что для мен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значит  моя семья?», рыбка-оберег т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7-02-17T08:15:09Z</dcterms:modified>
  <cp:revision>44</cp:revision>
  <dc:subject/>
  <dc:title>Презентация PowerPoint</dc:title>
</cp:coreProperties>
</file>