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38E-4FD2-4939-86EA-EB78CCDA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AC9-8A9E-4FD0-9CE5-73168DEE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481-EC8B-49CB-809A-583CAAE5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1C1-FE40-42BE-90FC-9DA197A2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81F-6E41-4F70-A617-2875D7B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2E7-C390-4589-94C1-0283B8A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71D-F4DF-4857-AD35-99126A0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3BF-2ED0-4A6E-A992-97455C59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683-C493-407D-B954-C0643057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85D-B7D6-41EE-904E-D229E8B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FC4-2A67-43DE-B1C2-88FB3D1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264-3473-4E2C-8D32-D7B8C5C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83D9-1412-4716-8D5D-E42450918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504720" y="4211640"/>
            <a:ext cx="8604360" cy="24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Активизация личностной позиции учен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в здоровьесберегающей деятельност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Формирование устойчивых мотивов к сохранению, укреплению здоровья и ведению здоров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31640" y="2003400"/>
            <a:ext cx="7777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Опыт позитивного эмоционального пере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Атмосфера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Соревновательный харак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16000" y="13111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ВОСПИТАТЕЛЬНЫЙ ПОТЕНЦИАЛ МЕРО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324000" y="35434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ЛАНИРУЕМЫЙ ВОСПИТАТЕЛЬНЫЙ ЭФФ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354760" y="33577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00000" y="1738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Спортивный квест как эффективное средство формирования личного опыта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556000" y="34416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Calibri"/>
              </a:rPr>
              <a:t>Ильенкова Л.Н., учитель начальных классов МБОУ «СШ № 32 им. С.А. Лавочкина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Calibri"/>
              </a:rPr>
              <a:t>классный руководитель 3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2286000" y="310356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50920" y="1628640"/>
            <a:ext cx="8713800" cy="49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ЧАСТНИКИ: Команда родителей и обучающихся 3-х 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ЦЕЛЬ: Формирование у обучающихся потреб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сохранении и укреплении своего здоров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рганизовать совместную с родителями обучающихся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портивно-оздоровительн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еспечить демонстрацию личного примера родите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разных видах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одействовать укреплению семейных тради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ведении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39640" y="1052640"/>
            <a:ext cx="80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СПОРТИВНЫЙ КВЕСТ «ДРУЖНАЯ СЕМЕЙК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2286000" y="310356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50920" y="1125360"/>
            <a:ext cx="871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вест – «живая» игра, в ходе проведения которой команды выполняют определённые задания-действ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 ограниченный промежуток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24000" y="3357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спортивном квесте задания на силу, ловкость, выносливость, командное взаимодействие дополняются заданиями на эрудицию и смекалку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86920" y="2421000"/>
            <a:ext cx="66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 выполнение одного задания отв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т 6 до 9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собую значимость при отборе содерж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гры-квеста следует уделить межпредметным связ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етапредметным понятиям и универсальным учебны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ейств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2286000" y="296712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:\квест\SAM_2533.JPG"/>
          <p:cNvPicPr/>
          <p:nvPr/>
        </p:nvPicPr>
        <p:blipFill>
          <a:blip r:embed="rId2"/>
          <a:stretch/>
        </p:blipFill>
        <p:spPr>
          <a:xfrm>
            <a:off x="395280" y="4554360"/>
            <a:ext cx="223848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 rot="249600">
            <a:off x="3203280" y="4451400"/>
            <a:ext cx="2533680" cy="198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 rot="21377400">
            <a:off x="6216120" y="4438800"/>
            <a:ext cx="232740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1"/>
          <p:cNvSpPr/>
          <p:nvPr/>
        </p:nvSpPr>
        <p:spPr>
          <a:xfrm>
            <a:off x="1258920" y="374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Е МЕРО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79280" y="1184400"/>
            <a:ext cx="8785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Построиться по росту, кто первый – выбирает назва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для своей команды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Чтение стихов о спорте, закаливании, о здоровье, акробатический этюд (мотивация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Чистота – залог здоровья: печатное стихотвор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для каждой команды С. Михалков «Прогулка»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Прыжки в мешках, зачеркнуть в стихотворении всё то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Times New Roman"/>
              </a:rPr>
              <a:t>что мы не должны оставлять после отдыха – убрать мусо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2286000" y="296712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79280" y="1346040"/>
            <a:ext cx="8713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дин за всех – и все за одного: испытание на дружб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сплочённость в команде (дети заплетают косичк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з 3-х цветных лент по 3 м под руководством взрослы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упер-эстафета: обручи, кувырок на мате, отжимание (мальчики, папы), прыжки на скакалке (девочки, мам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G:\квест\SAM_2559.JPG"/>
          <p:cNvPicPr/>
          <p:nvPr/>
        </p:nvPicPr>
        <p:blipFill>
          <a:blip r:embed="rId2"/>
          <a:stretch/>
        </p:blipFill>
        <p:spPr>
          <a:xfrm>
            <a:off x="468360" y="3848040"/>
            <a:ext cx="3598920" cy="26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7" descr="G:\квест\SAM_2560.JPG"/>
          <p:cNvPicPr/>
          <p:nvPr/>
        </p:nvPicPr>
        <p:blipFill>
          <a:blip r:embed="rId3"/>
          <a:srcRect l="16498" t="0" r="0" b="0"/>
          <a:stretch/>
        </p:blipFill>
        <p:spPr>
          <a:xfrm>
            <a:off x="4643280" y="3645000"/>
            <a:ext cx="3276720" cy="271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Box 6"/>
          <p:cNvSpPr/>
          <p:nvPr/>
        </p:nvSpPr>
        <p:spPr>
          <a:xfrm>
            <a:off x="1258920" y="374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Е МЕРО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286000" y="296712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95280" y="2708280"/>
            <a:ext cx="8640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инал: лопнуть шар, собрать слова в послов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«Здоровье и счастье не живут друг без друг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дведение итогов квеста, награждение грамот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подар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 rot="20823000">
            <a:off x="4838760" y="3857760"/>
            <a:ext cx="337824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Box 5"/>
          <p:cNvSpPr/>
          <p:nvPr/>
        </p:nvSpPr>
        <p:spPr>
          <a:xfrm>
            <a:off x="1258920" y="374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Е МЕРО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24000" y="1052640"/>
            <a:ext cx="84247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 успешное прохождение каждого испытания команды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лучают бонус (воздушный шарик с запиской внутр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Чем больше бонусов, тем легче справиться с задани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инального этап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2286000" y="296712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258920" y="26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468360" y="1125360"/>
            <a:ext cx="8136000" cy="55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Направление Программ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Воспитание экологической культуры, культур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здорового и безопасного 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Участники: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команды родителей и обучающихся 3-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Формируемые цен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здоровье, здоровый образ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Форма воспитан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спортивный квест (ориентирована на формировани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воспитательных результатов 2 уровн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Виды деятельности: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спортивно-оздоровительная (участие в совмест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с родителями спортивных соревнования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2286000" y="2967120"/>
            <a:ext cx="66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250920" y="1268280"/>
            <a:ext cx="86421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Блок личностных результатов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морально-этическая ориент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(здоровье как ценностно-смысловая устан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Планируемые воспитательные результат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понимание важности физической культуры и спор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для здоровья человека; роли семейных ценнос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и традиций в ведении здорового образа жиз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(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1 уровень результатов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формирование потребности к сохранению и укреплени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здоровья, личного опыта здоровьесберегающ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деятельности, навыков конструктивного взаимодейств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(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2 уровень результатов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258920" y="26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7-02-17T06:22:17Z</dcterms:modified>
  <cp:revision>33</cp:revision>
  <dc:subject/>
  <dc:title>Презентация PowerPoint</dc:title>
</cp:coreProperties>
</file>