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E255-746F-4F15-A559-0D04D4E5C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6C8-3467-471A-9F16-490616B70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974-2F17-4CBF-A55B-65D0364D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633-27BA-42D9-8234-985028E8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942-E148-4D92-899C-5D46BD1E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FC6-59AA-480C-9FF0-1855BBBF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382-A839-4001-8E48-811F1909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497-EDF5-49F7-9C51-5CFC16C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0B4-358F-4545-B00D-435821E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B7E-151A-499E-A9A9-8AC8E4B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D58-92FE-4E80-98A9-A11FE03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FAA-030F-4440-85BC-D86BA688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690-5249-4462-BDE1-B5249B4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978-8680-4461-AECE-83DB5BA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4C4C-3746-46A6-94B2-C4106FC47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26920" y="191628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воспитательной деятельности как эффективное средство достижения планируемых результатов воспитания и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56000" y="373068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Кондрыкина С.Н. 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БОУ «Средняя школа № 2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г. Смоленска, председатель О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68360" y="11253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ильным, опытным становится педаго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оторый умеет анализировать свой тру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.А. Сухомлинск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24000" y="2421000"/>
            <a:ext cx="842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– важный инструмент продуктивного управления процессом воспитани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24000" y="35002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– описание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виде пошаговой, поэтапной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ействий, направленных на достижение планиру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езуль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1197000"/>
            <a:ext cx="8713800" cy="463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РАЗРАБОТКА ТЕХНОЛОГИЧЕСКОЙ КАРТЫ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– неотъемлемая составляющая методологической компетентности педагога, обуславл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его способность анализировать эффе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еализации приоритетных напр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оспитательных программ с пози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ДОСТИЖЕНИ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планируемых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РЕЗУЛЬТАТОВ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на уровне НОО – Программы духовно-нрав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азвития и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на уровне ООО – Программы воспитания и соци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250920" y="2060640"/>
            <a:ext cx="87138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пределять целевые установки в соответств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 планируемыми воспитательными результа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беспечивать взаимосвязь форма – результа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форма – вид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ыстраивать логику перехода от воспитательных результатов одного уровня к воспитательным результатам другого уровня, подбирая соответствующий методический инструментар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облюдать аксиологический принцип при отбор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одержания воспи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существлять анализ эффективности воспитательной деятельности с позиции требований ФГ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468360" y="112536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ОЕКТИРОВАНИЕ ТЕХНОЛОГИЧЕСКОЙ КАРТЫ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ой деятельности позволяет педагог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73120" y="1211400"/>
            <a:ext cx="774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 ТЕХНОЛОГИЧЕСКОЙ КАР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50920" y="1876320"/>
            <a:ext cx="8640720" cy="43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Направление воспит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Содержание деятельности (формируемые ц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имущественные вид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ы проведения, ориентированные на дости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х результатов раз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5. Блок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6.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ланируемые воспита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соответствии с уровнем их фор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7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огнозируемый воспитательный эф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611280" y="2276640"/>
            <a:ext cx="8137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1120" y="1700280"/>
          <a:ext cx="9002880" cy="4998960"/>
        </p:xfrm>
        <a:graphic>
          <a:graphicData uri="http://schemas.openxmlformats.org/drawingml/2006/table">
            <a:tbl>
              <a:tblPr/>
              <a:tblGrid>
                <a:gridCol w="2990880"/>
                <a:gridCol w="1727280"/>
                <a:gridCol w="4284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амоопреде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внутренняя пози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в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 вопро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Кто я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амооценка, самоуважение, основы гражданской иденти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мысло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личностный смысл уче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в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 вопро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Как я учусь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отивы учения, познавательный интерес, профессиональная ориентация, индивидуальная образовательная траек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орально-этическая ори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ценностно-смысловые установк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в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 вопро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Какой я человек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равственные нормы, этические чувства, моральная децентрация, социальные компетенции, опыт межличностных отношений, правос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95"/>
          <p:cNvSpPr/>
          <p:nvPr/>
        </p:nvSpPr>
        <p:spPr>
          <a:xfrm>
            <a:off x="108000" y="1125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АДАЦИ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ЛИЧНОСТНЫХ РЕЗУЛЬТАТОВ ВОСПИ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00400" y="349236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Наталья Зевакова</cp:lastModifiedBy>
  <dcterms:modified xsi:type="dcterms:W3CDTF">2017-02-25T15:31:32Z</dcterms:modified>
  <cp:revision>41</cp:revision>
  <dc:subject/>
  <dc:title>Презентация PowerPoint</dc:title>
</cp:coreProperties>
</file>