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E0DF5-8EC7-4BD5-8C96-FC5B240994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BA26-A9A2-4C35-8F29-AFC2E95671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1577E-ED6B-4EAA-B691-B900B7185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5C3D-53B1-4632-9762-F0C4D98BE2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936BB-4678-41D1-8F2E-FDCC317A7D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92F44-31E3-44AF-8A2B-78E628659B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CDEAD-46FB-40F8-89C5-5A4F924637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5B0C6-5537-4CB1-8481-5FCD89A160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E094-750A-405B-B306-ED9EDBFB60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C07F7-6E6C-4FC5-9D4D-6CC8AF206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FA34F-36DC-468C-B235-0DF59E0614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BAFA0-38FA-4AE4-B889-9A3AACF5A0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84035-9173-4B16-8605-9D14F0A94D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B902-142C-4BD7-BCAC-01540EDBAF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3A41F-16F1-4665-BBDA-D9637B0A0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98B1B-C552-4C3F-B346-7AAAA79F41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488A-ADDE-461D-A079-E7BADDB2C4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2EE2-2E77-4D4A-A7E1-F41A667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3459-BF69-401E-BAF3-E6447B4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2405-1AE5-4032-86D1-022A52D89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EB47F-2926-4236-9D67-EFB07FA35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66C1E-56B7-4896-8B9D-666C66B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6AEBB-AA9A-4080-8B26-3E780DC5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3B95-64DD-4D9D-A7D0-E2FB5F2E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AF72-1862-4C6D-B32C-23BFFD0C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E7D7-FD44-4DE3-8311-747564EB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185B-91B6-4CD8-846C-90C1E9E9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D8E8-AEB0-48C4-9843-59CF65D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D634-9A25-45EE-95BF-E0EDC27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4ABFC-CA17-4E44-96B9-D3C1B84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F903C-2D02-49D8-861C-BB928CD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E146-8405-4FF3-AA33-7C5124B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E9AA9-5C46-41A6-8D1C-17955A1DF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73C9-BE55-4B17-9B5C-8C175807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D2CF-6F32-48CB-8F23-009F6CDB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C7BE-77EE-4420-A25E-743A8C7E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E410-236B-41E1-8C91-0060F2D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4D9B-C4DF-456A-A0E8-9B2947E9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633A-9CD6-43F8-8B59-0752AD5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3FBB-4C68-4A48-91E0-37FABBF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8.3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BB7090-B6A4-4B9D-AD93-27D995304EDE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8.3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ABC59A-8206-4F85-9E72-5865C8546D2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071720" y="3292560"/>
            <a:ext cx="65610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Сафонова Т.В.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МБОУ «Хиславичская СШ» Смоленской обл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классный руководитель 8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928800" y="1649520"/>
            <a:ext cx="74293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246c"/>
                </a:solidFill>
                <a:latin typeface="Arial"/>
                <a:ea typeface="Calibri"/>
              </a:rPr>
              <a:t>Формирование эстетической культуры подростка средствами технолог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246c"/>
                </a:solidFill>
                <a:latin typeface="Arial"/>
                <a:ea typeface="Calibri"/>
              </a:rPr>
              <a:t>творческих мастер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785880" y="320760"/>
            <a:ext cx="7286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  <a:ea typeface="Arial"/>
              </a:rPr>
              <a:t>МАСТЕРСКИЕ РАД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36360" y="927000"/>
            <a:ext cx="5815080" cy="43275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"/>
          <p:cNvPicPr/>
          <p:nvPr/>
        </p:nvPicPr>
        <p:blipFill>
          <a:blip r:embed="rId3"/>
          <a:stretch/>
        </p:blipFill>
        <p:spPr>
          <a:xfrm>
            <a:off x="3578400" y="2341440"/>
            <a:ext cx="551628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4"/>
          <p:cNvSpPr/>
          <p:nvPr/>
        </p:nvSpPr>
        <p:spPr>
          <a:xfrm>
            <a:off x="214200" y="1857240"/>
            <a:ext cx="8929800" cy="473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НАПРАВЛЕНИЕ ПРОГРАММЫ: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Воспитание ценност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отношения к прекрасному, формирование ос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ой культуры («Я и мое творчест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ВОЗРАСТ: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12-1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ФОРМИРУЮЩИЕ ЦЕННОСТИ: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ая культу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нравственный смысл творчества и созид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самовыражение личности в творчестве и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ВИДЫ ДЕЯТЕЛЬНОСТИ: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познавательная дея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проблемно-ценностное общение, художе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и социаль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57120" y="1249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246c"/>
                </a:solidFill>
                <a:latin typeface="Arial"/>
              </a:rPr>
              <a:t>ТЕХНОЛОГИЧЕСКАЯ КАРТА твор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428760" y="1214280"/>
            <a:ext cx="871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</a:rPr>
              <a:t>ПРИОРИТЕТНЫЕ БЛОКИ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285840" y="1857240"/>
            <a:ext cx="8429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САМООПРЕ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Внутренняя позиция (я-творец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Адекватная самооц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амоува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85840" y="3786120"/>
            <a:ext cx="84294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МОРАЛЬНО-ЭТИЧЕСКАЯ ОРИ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Ценностно-смысловые устан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Опыт социальных и межличност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оциальные компет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428760" y="277920"/>
            <a:ext cx="8429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ПЛАНИРУЕМЫЕ ВОСПИТ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85840" y="861840"/>
            <a:ext cx="8429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1 УРОВЕНЬ ВОСПИТАТЕЛЬНЫХ РЕЗУЛЬТАТ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Представления об эстетических идеалах, о роли культур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традиций в осуществлении  творческой деяте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о возможностях и способностях детей к творче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85840" y="2349360"/>
            <a:ext cx="82868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2 УРОВЕНЬ ВОСПИТАТЕЛЬНЫХ РЕЗУЛЬТАТ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Интерес к занятиям творческой деятельностью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опыт позитивных эмоциональных переживаний в процесс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сотворчества, эстетическое восприятие предме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и явлений окружающей действи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85840" y="4221000"/>
            <a:ext cx="82868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3 УРОВЕНЬ ВОСПИТАТЕЛЬНЫХ РЕЗУЛЬТАТ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О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пыт продуктивных межличностных отношений в процесс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овместной творческой деятельности, умение выраж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ебя в доступных видах творчества по преобразован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окружающей действи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285840" y="18842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7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246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Позитивное отношение к достижениям мирового эстетического наследия, творческая самоакту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214200" y="1285920"/>
            <a:ext cx="7286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ВОСПИТАТЕЛЬНЫЙ ЭФФЕК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214200" y="2963880"/>
            <a:ext cx="8572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ЭФФЕКТИВНОСТЬ ВОСПИТАТЕЛЬНОЙ ФОРМ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85840" y="3560760"/>
            <a:ext cx="8858160" cy="24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Создание атмосферы продуктивного сотворч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соавторства, содружества, способствующей прид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творческой деятельности личностно значим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Развитие субъектной активности обучаю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Формирование класса как групповой общ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28040" y="3000240"/>
            <a:ext cx="4704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46c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285840"/>
            <a:ext cx="8715600" cy="18572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"/>
          <p:cNvGrpSpPr/>
          <p:nvPr/>
        </p:nvGrpSpPr>
        <p:grpSpPr>
          <a:xfrm>
            <a:off x="214200" y="2430360"/>
            <a:ext cx="8713800" cy="1284480"/>
            <a:chOff x="214200" y="2430360"/>
            <a:chExt cx="8713800" cy="1284480"/>
          </a:xfrm>
        </p:grpSpPr>
        <p:sp>
          <p:nvSpPr>
            <p:cNvPr id="93" name="AutoShape 3"/>
            <p:cNvSpPr/>
            <p:nvPr/>
          </p:nvSpPr>
          <p:spPr>
            <a:xfrm>
              <a:off x="214200" y="2430360"/>
              <a:ext cx="3595680" cy="1284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5214960" y="2430360"/>
              <a:ext cx="3713040" cy="1284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3857760" y="2590920"/>
              <a:ext cx="1357200" cy="801360"/>
            </a:xfrm>
            <a:prstGeom prst="leftRightArrow">
              <a:avLst>
                <a:gd name="adj1" fmla="val 50000"/>
                <a:gd name="adj2" fmla="val 40772"/>
              </a:avLst>
            </a:prstGeom>
            <a:solidFill>
              <a:srgbClr val="d2d2f4"/>
            </a:solidFill>
            <a:ln w="25560">
              <a:solidFill>
                <a:srgbClr val="0024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214200" y="3997440"/>
            <a:ext cx="8713800" cy="2289240"/>
            <a:chOff x="214200" y="3997440"/>
            <a:chExt cx="8713800" cy="2289240"/>
          </a:xfrm>
        </p:grpSpPr>
        <p:sp>
          <p:nvSpPr>
            <p:cNvPr id="97" name="AutoShape 7"/>
            <p:cNvSpPr/>
            <p:nvPr/>
          </p:nvSpPr>
          <p:spPr>
            <a:xfrm>
              <a:off x="214200" y="3997440"/>
              <a:ext cx="2143080" cy="228924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2289240"/>
                <a:gd name="textAreaBottom" fmla="*/ 2184840 h 2289240"/>
              </a:gdLst>
              <a:ahLst/>
              <a:rect l="textAreaLeft" t="textAreaTop" r="textAreaRight" b="textAreaBottom"/>
              <a:pathLst>
                <a:path w="21600" h="23073">
                  <a:moveTo>
                    <a:pt x="3600" y="0"/>
                  </a:moveTo>
                  <a:arcTo wR="3600" hR="3600" stAng="16200000" swAng="-5400000"/>
                  <a:lnTo>
                    <a:pt x="0" y="19473"/>
                  </a:lnTo>
                  <a:arcTo wR="3600" hR="3600" stAng="10800000" swAng="-5400000"/>
                  <a:lnTo>
                    <a:pt x="18000" y="230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2500200" y="4000680"/>
              <a:ext cx="2117880" cy="2286000"/>
            </a:xfrm>
            <a:custGeom>
              <a:avLst/>
              <a:gdLst>
                <a:gd name="textAreaLeft" fmla="*/ 103320 w 2117880"/>
                <a:gd name="textAreaRight" fmla="*/ 2014560 w 2117880"/>
                <a:gd name="textAreaTop" fmla="*/ 103320 h 2286000"/>
                <a:gd name="textAreaBottom" fmla="*/ 2182680 h 2286000"/>
              </a:gdLst>
              <a:ahLst/>
              <a:rect l="textAreaLeft" t="textAreaTop" r="textAreaRight" b="textAreaBottom"/>
              <a:pathLst>
                <a:path w="21600" h="23314">
                  <a:moveTo>
                    <a:pt x="3600" y="0"/>
                  </a:moveTo>
                  <a:arcTo wR="3600" hR="3600" stAng="16200000" swAng="-5400000"/>
                  <a:lnTo>
                    <a:pt x="0" y="19714"/>
                  </a:lnTo>
                  <a:arcTo wR="3600" hR="3600" stAng="10800000" swAng="-5400000"/>
                  <a:lnTo>
                    <a:pt x="18000" y="233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9"/>
            <p:cNvSpPr/>
            <p:nvPr/>
          </p:nvSpPr>
          <p:spPr>
            <a:xfrm>
              <a:off x="4714920" y="4000680"/>
              <a:ext cx="2063880" cy="2286000"/>
            </a:xfrm>
            <a:custGeom>
              <a:avLst/>
              <a:gdLst>
                <a:gd name="textAreaLeft" fmla="*/ 100440 w 2063880"/>
                <a:gd name="textAreaRight" fmla="*/ 1963440 w 2063880"/>
                <a:gd name="textAreaTop" fmla="*/ 100440 h 2286000"/>
                <a:gd name="textAreaBottom" fmla="*/ 2185560 h 2286000"/>
              </a:gdLst>
              <a:ahLst/>
              <a:rect l="textAreaLeft" t="textAreaTop" r="textAreaRight" b="textAreaBottom"/>
              <a:pathLst>
                <a:path w="21600" h="23924">
                  <a:moveTo>
                    <a:pt x="3600" y="0"/>
                  </a:moveTo>
                  <a:arcTo wR="3600" hR="3600" stAng="16200000" swAng="-5400000"/>
                  <a:lnTo>
                    <a:pt x="0" y="20324"/>
                  </a:lnTo>
                  <a:arcTo wR="3600" hR="3600" stAng="10800000" swAng="-5400000"/>
                  <a:lnTo>
                    <a:pt x="18000" y="23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858000" y="4000680"/>
              <a:ext cx="2070000" cy="2286000"/>
            </a:xfrm>
            <a:custGeom>
              <a:avLst/>
              <a:gdLst>
                <a:gd name="textAreaLeft" fmla="*/ 100800 w 2070000"/>
                <a:gd name="textAreaRight" fmla="*/ 1969200 w 2070000"/>
                <a:gd name="textAreaTop" fmla="*/ 100800 h 2286000"/>
                <a:gd name="textAreaBottom" fmla="*/ 2185200 h 2286000"/>
              </a:gdLst>
              <a:ahLst/>
              <a:rect l="textAreaLeft" t="textAreaTop" r="textAreaRight" b="textAreaBottom"/>
              <a:pathLst>
                <a:path w="21600" h="23854">
                  <a:moveTo>
                    <a:pt x="3600" y="0"/>
                  </a:moveTo>
                  <a:arcTo wR="3600" hR="3600" stAng="16200000" swAng="-5400000"/>
                  <a:lnTo>
                    <a:pt x="0" y="20254"/>
                  </a:lnTo>
                  <a:arcTo wR="3600" hR="3600" stAng="10800000" swAng="-5400000"/>
                  <a:lnTo>
                    <a:pt x="18000" y="23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Опы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1"/>
          <p:cNvSpPr/>
          <p:nvPr/>
        </p:nvSpPr>
        <p:spPr>
          <a:xfrm>
            <a:off x="285840" y="428760"/>
            <a:ext cx="86439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АЯ КУЛЬТУРА </a:t>
            </a: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– способность личност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к полноценному восприятию, правильному пониманию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прекрасного в искусстве и действительности, стремлени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300" spc="-1" strike="noStrike">
                <a:solidFill>
                  <a:srgbClr val="00246c"/>
                </a:solidFill>
                <a:latin typeface="Arial"/>
                <a:ea typeface="Arial"/>
              </a:rPr>
              <a:t>и умение строить свою жизнь по законам красот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5500800" y="2671920"/>
            <a:ext cx="32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760" y="2730600"/>
            <a:ext cx="30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СОЗН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285840" y="4429080"/>
            <a:ext cx="207144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Развитость эстетического созн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71840" y="4429080"/>
            <a:ext cx="207144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Устойчивость эстетического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ировоз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714920" y="4449600"/>
            <a:ext cx="20001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Степень </a:t>
            </a:r>
            <a:r>
              <a:rPr b="0" lang="ru-RU" sz="2100" spc="-1" strike="noStrike">
                <a:solidFill>
                  <a:srgbClr val="00246c"/>
                </a:solidFill>
                <a:latin typeface="Arial"/>
                <a:ea typeface="Arial"/>
              </a:rPr>
              <a:t>выраженности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эстетического вку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858000" y="4464000"/>
            <a:ext cx="2071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пыт эстетическ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071800" y="4429080"/>
            <a:ext cx="62863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И.А.Мухина, заслуженный учитель РФ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доцент кафедры истории педагогики СПБ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57120" y="1357200"/>
            <a:ext cx="8215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246c"/>
                </a:solidFill>
                <a:latin typeface="Arial"/>
                <a:ea typeface="Arial"/>
              </a:rPr>
              <a:t>ТВОРЧЕСКАЯ МАСТЕРСКА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Форма обучения детей и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Создание условий для вхождения каждого учас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к новому знанию и новому опы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Самостоятельное или коллективное откр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Основа – творческая деятельность, 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закономерностей 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428760" y="1206360"/>
            <a:ext cx="657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ЭТАПЫ ТВОР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85840" y="4500720"/>
            <a:ext cx="878688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ДЕКО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Р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азбор материала на детали в целях созд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на их основе собственного продукта (текст, цветовая палитр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музыкальный аккорд, структура веще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9"/>
          <p:cNvGrpSpPr/>
          <p:nvPr/>
        </p:nvGrpSpPr>
        <p:grpSpPr>
          <a:xfrm>
            <a:off x="285840" y="1785960"/>
            <a:ext cx="8929440" cy="2476800"/>
            <a:chOff x="285840" y="1785960"/>
            <a:chExt cx="8929440" cy="2476800"/>
          </a:xfrm>
        </p:grpSpPr>
        <p:sp>
          <p:nvSpPr>
            <p:cNvPr id="113" name="TextBox 5"/>
            <p:cNvSpPr/>
            <p:nvPr/>
          </p:nvSpPr>
          <p:spPr>
            <a:xfrm>
              <a:off x="285840" y="1785960"/>
              <a:ext cx="878688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246c"/>
                </a:buClr>
                <a:buFont typeface="Wingdings" charset="2"/>
                <a:buChar char="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246c"/>
                  </a:solidFill>
                  <a:latin typeface="Arial"/>
                  <a:ea typeface="Arial"/>
                </a:rPr>
                <a:t>ИНДУКТОР (наведение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246c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Создание эмоционального настроя, мотивирующего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  </a:t>
              </a: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творческую деятельность каждого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246c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Включение чувств, подсозн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buClr>
                  <a:srgbClr val="00246c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Формирование личностного отношения к предмету обсужден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428400" y="3857400"/>
              <a:ext cx="87868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</a:rPr>
                <a:t>СРЕДСТВА – рассказ учителя, предмет, стихотворение, рисуно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428760" y="1143000"/>
            <a:ext cx="8143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246c"/>
                </a:solidFill>
                <a:latin typeface="Arial"/>
              </a:rPr>
              <a:t>ТВОРЧЕСКАЯ МАСТЕРСКАЯ «Письмо солдату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9005" t="4260" r="11368" b="11848"/>
          <a:stretch/>
        </p:blipFill>
        <p:spPr>
          <a:xfrm>
            <a:off x="290520" y="2000160"/>
            <a:ext cx="408636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 rot="20772000">
            <a:off x="4363920" y="1614240"/>
            <a:ext cx="4265640" cy="251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 rot="20733600">
            <a:off x="4351320" y="3455640"/>
            <a:ext cx="454968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428760" y="214200"/>
            <a:ext cx="657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ЭТАПЫ ТВОР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85840" y="714240"/>
            <a:ext cx="8501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РЕКО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285840" y="1214280"/>
            <a:ext cx="72151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оздание своего текста, гипотезы,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2"/>
          <p:cNvGrpSpPr/>
          <p:nvPr/>
        </p:nvGrpSpPr>
        <p:grpSpPr>
          <a:xfrm>
            <a:off x="214200" y="1808280"/>
            <a:ext cx="8794800" cy="4480560"/>
            <a:chOff x="214200" y="1808280"/>
            <a:chExt cx="8794800" cy="4480560"/>
          </a:xfrm>
        </p:grpSpPr>
        <p:sp>
          <p:nvSpPr>
            <p:cNvPr id="123" name="Rectangle 5"/>
            <p:cNvSpPr/>
            <p:nvPr/>
          </p:nvSpPr>
          <p:spPr>
            <a:xfrm>
              <a:off x="285480" y="4857840"/>
              <a:ext cx="6500880" cy="14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На пригорке высоком стоит храм одиноко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И давно уж не ходят молиться в него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Эта церковь забыта, как и многие сотни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246c"/>
                  </a:solidFill>
                  <a:latin typeface="Arial"/>
                  <a:ea typeface="Arial"/>
                </a:rPr>
                <a:t>Что стоят где-то рядом на Смоленской земле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8"/>
            <p:cNvSpPr/>
            <p:nvPr/>
          </p:nvSpPr>
          <p:spPr>
            <a:xfrm>
              <a:off x="428400" y="1808280"/>
              <a:ext cx="76438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200" spc="-1" strike="noStrike">
                  <a:solidFill>
                    <a:srgbClr val="00246c"/>
                  </a:solidFill>
                  <a:latin typeface="Arial"/>
                </a:rPr>
                <a:t>ВИРТУАЛЬНАЯ ЭКСКУРСИЯ «Утерянные святыни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" descr=""/>
            <p:cNvPicPr/>
            <p:nvPr/>
          </p:nvPicPr>
          <p:blipFill>
            <a:blip r:embed="rId2"/>
            <a:srcRect l="2351" t="3848" r="5953" b="0"/>
            <a:stretch/>
          </p:blipFill>
          <p:spPr>
            <a:xfrm>
              <a:off x="214200" y="2500920"/>
              <a:ext cx="2786040" cy="17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3"/>
            <a:srcRect l="5617" t="8409" r="7361" b="0"/>
            <a:stretch/>
          </p:blipFill>
          <p:spPr>
            <a:xfrm>
              <a:off x="6286320" y="3715200"/>
              <a:ext cx="2722680" cy="19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"/>
            <p:cNvPicPr/>
            <p:nvPr/>
          </p:nvPicPr>
          <p:blipFill>
            <a:blip r:embed="rId4"/>
            <a:srcRect l="2220" t="3584" r="0" b="0"/>
            <a:stretch/>
          </p:blipFill>
          <p:spPr>
            <a:xfrm>
              <a:off x="3143160" y="2858040"/>
              <a:ext cx="3036960" cy="185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357120" y="392040"/>
            <a:ext cx="657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ЭТАПЫ ТВОР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14200" y="947880"/>
            <a:ext cx="8501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</a:rPr>
              <a:t>СОЦИАЛИЗ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14200" y="15638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оотнесение своей деятельности с деятельность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других участников мастерской (работа в парах, малых группа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14200" y="2451240"/>
            <a:ext cx="85010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Самокоррекция, самооц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Группа 14"/>
          <p:cNvGrpSpPr/>
          <p:nvPr/>
        </p:nvGrpSpPr>
        <p:grpSpPr>
          <a:xfrm>
            <a:off x="357120" y="3094200"/>
            <a:ext cx="8572680" cy="3508200"/>
            <a:chOff x="357120" y="3094200"/>
            <a:chExt cx="8572680" cy="3508200"/>
          </a:xfrm>
        </p:grpSpPr>
        <p:pic>
          <p:nvPicPr>
            <p:cNvPr id="133" name="Picture 3" descr=""/>
            <p:cNvPicPr/>
            <p:nvPr/>
          </p:nvPicPr>
          <p:blipFill>
            <a:blip r:embed="rId2"/>
            <a:srcRect l="8289" t="0" r="0" b="0"/>
            <a:stretch/>
          </p:blipFill>
          <p:spPr>
            <a:xfrm>
              <a:off x="6715440" y="3929760"/>
              <a:ext cx="2214360" cy="267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Группа 13"/>
            <p:cNvGrpSpPr/>
            <p:nvPr/>
          </p:nvGrpSpPr>
          <p:grpSpPr>
            <a:xfrm>
              <a:off x="357120" y="3094200"/>
              <a:ext cx="8144280" cy="3264480"/>
              <a:chOff x="357120" y="3094200"/>
              <a:chExt cx="8144280" cy="3264480"/>
            </a:xfrm>
          </p:grpSpPr>
          <p:sp>
            <p:nvSpPr>
              <p:cNvPr id="135" name="TextBox 9"/>
              <p:cNvSpPr/>
              <p:nvPr/>
            </p:nvSpPr>
            <p:spPr>
              <a:xfrm>
                <a:off x="357120" y="3094200"/>
                <a:ext cx="8144280" cy="4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2200" spc="-1" strike="noStrike">
                    <a:solidFill>
                      <a:srgbClr val="00246c"/>
                    </a:solidFill>
                    <a:latin typeface="Arial"/>
                  </a:rPr>
                  <a:t>ТВОРЧЕСКАЯ МАСТЕРСКАЯ «Приглашение в картину»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400" y="3695760"/>
                <a:ext cx="3009240" cy="252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" descr=""/>
              <p:cNvPicPr/>
              <p:nvPr/>
            </p:nvPicPr>
            <p:blipFill>
              <a:blip r:embed="rId4"/>
              <a:srcRect l="8940" t="5668" r="13656" b="6559"/>
              <a:stretch/>
            </p:blipFill>
            <p:spPr>
              <a:xfrm>
                <a:off x="3571920" y="4090320"/>
                <a:ext cx="3000600" cy="22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343080" y="188604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09440"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АФИШ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42960" y="1249200"/>
            <a:ext cx="657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246c"/>
                </a:solidFill>
                <a:latin typeface="Arial"/>
              </a:rPr>
              <a:t>ЭТАПЫ ТВОРЧЕСКОЙ МАСТЕР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498600" y="2451240"/>
            <a:ext cx="39204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</a:rPr>
              <a:t>Презентация свое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28760" y="3005280"/>
            <a:ext cx="82152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РАЗРЫ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Кульминация творческого процесса, озар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Новое видение предмета, разры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Поиск ответов на вопросы, работа с лит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428760" y="4862520"/>
            <a:ext cx="84294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РЕФЛЕКС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Размышления о внутреннем состоянии, самоанализ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самооц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428760" y="1177920"/>
            <a:ext cx="7929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246c"/>
                </a:solidFill>
                <a:latin typeface="Arial"/>
                <a:ea typeface="Arial"/>
              </a:rPr>
              <a:t>РАДУГА ТВОРЧЕСКИХ МАСТЕР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85840" y="1857240"/>
            <a:ext cx="8572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МАСТЕРСКИЕ САМОПОЗНАНИЯ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57120" y="2948040"/>
            <a:ext cx="7429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246c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МАСТЕРСКИЕ ОБЩЕНИЯ</a:t>
            </a:r>
            <a:r>
              <a:rPr b="0" lang="ru-RU" sz="2400" spc="-1" strike="noStrike">
                <a:solidFill>
                  <a:srgbClr val="00246c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57120" y="2379600"/>
            <a:ext cx="6286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Мода и культура, Прикладная э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428760" y="3429000"/>
            <a:ext cx="86439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246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Новая жизнь старых вещей, Семь чудес родного кр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28760" y="3929040"/>
            <a:ext cx="8072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246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Самые красивые места Смолен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28760" y="4522680"/>
            <a:ext cx="83581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246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246c"/>
                </a:solidFill>
                <a:latin typeface="Arial"/>
                <a:ea typeface="Arial"/>
              </a:rPr>
              <a:t>Русская природа в стихах и красках, Приглашение в карти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3-21T05:38:05Z</dcterms:modified>
  <cp:revision>23</cp:revision>
  <dc:subject/>
  <dc:title>Слайд 1</dc:title>
</cp:coreProperties>
</file>