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642-93EE-4F8C-ACA2-493A6101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2F2-9CC5-4E04-A6B2-518B793D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3C6-E095-4843-8C7F-E10E5C6A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113-C225-4444-ABDD-B879565B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123-9C07-4C0D-B336-AC9C5108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15F-A0E3-42B8-A4EC-001B898F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7A1-D51B-41E7-9C69-A8103594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E30-812D-4A4D-96CE-2B8B2B71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A1B-2B92-41D8-AA25-C83E8DEB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CD6-23CB-4543-B967-C6394B5F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474-F625-4C3A-8578-096345EB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F98-70D1-463B-B4B9-704869CA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F0D3-133D-4320-A84C-84598AA32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324000" y="4428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римерная основная образовательная программа НОО / ОО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(утверждена ФУМО от 08.04.2015, протокол №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1222200"/>
            <a:ext cx="50036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17136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ражданско-патриотическое воспит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Нравственное и духовное воспит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 положительного отнош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 труду и творчеств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нтеллектуальное воспит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Здоровьсберегающее воспит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Социальное и медиакультур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ультуротворческое и эстетическ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 семейных цен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Правовое воспитание и культу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Формирование коммуникатив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Экологическое воспит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859280" y="1173240"/>
            <a:ext cx="421164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Принятие гуманистических, демократических и традиционных цен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ключение в процессы общественной самоорган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Социализация обучающих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 семь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Формирование мотивационно-ценностных отнош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в сфере отношений 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- в сфере трудовых отнош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 выбора профе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- в сфере самопозн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самоопределения, саморе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- в сфере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- в сфере отношений к прир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- в сфере искус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826920" y="8240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1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направл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292720" y="836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9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направл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468360" y="1052640"/>
            <a:ext cx="85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лан воспитательной работы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лан воспитательной работы классного руковод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лан воспитательной работы специалис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области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611280" y="28843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ЛАНИРОВАНИЕ, ОЦЕНКА, РЕАЛИЗ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а разных уровнях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50920" y="3859200"/>
            <a:ext cx="88930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бразовательная организация может отдавать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РИОРИТЕТ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тому или иному НАПРАВЛЕНИ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уховно­-нравственного развития, воспит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 социализации личности гражданина России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ОНКРЕТИЗИРОВАТЬ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в соответствии с указанны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сновными направлениями и системой ценностей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ЗАДАЧИ, ВИДЫ И ФОРМЫ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395280" y="1094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римерная ООП НОО / ООО (одобрена КС при Департаменте ОО Минобрнауки России, автор-составитель Е.С. Савин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М.: Просвеще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95280" y="11574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НОО /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5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напра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427640" y="115740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ООО /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6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напра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0" y="1628640"/>
            <a:ext cx="4211640" cy="55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171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 гражданственно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атриотизма, уважения к права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свободам и обязанностя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человека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оспитание нравственных чувст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 этического со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 трудолюб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творческого отношения к учёб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труду и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 ценност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тношения к природ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кружающей сре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 ценност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тношения к прекрасному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формирование представл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б   эстетических идеал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 ценно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4211640" y="1592280"/>
            <a:ext cx="4932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 гражданственно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атриотизма, уважения к права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свободам и обязанностям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 социальной  ответствен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 компетен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оспитание нравственных чувст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убеждений, этического со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 экологической культур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ультуры здорового и безопас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браза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 трудолюбия, сознательног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творческого отношения к образованию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труду и жизни, подготов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 сознательному выбору профе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оспитание ценностного отнош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 прекрасному, формирование осн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эстетической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24000" y="1333440"/>
          <a:ext cx="8640720" cy="4027680"/>
        </p:xfrm>
        <a:graphic>
          <a:graphicData uri="http://schemas.openxmlformats.org/drawingml/2006/table">
            <a:tbl>
              <a:tblPr/>
              <a:tblGrid>
                <a:gridCol w="3671640"/>
                <a:gridCol w="4969080"/>
              </a:tblGrid>
              <a:tr h="582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Элементы моду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одерж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4840">
                <a:tc>
                  <a:txBody>
                    <a:bodyPr lIns="68400" rIns="68400" tIns="0" bIns="0" anchor="t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Формируемые цен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иды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Форма воспитания (уровен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еализуемая проблема воспитания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ланируемые личностные результат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Блок 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 уровень  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 уровень  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 уровень  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оспитательный эффект 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250920" y="189000"/>
            <a:ext cx="8643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ВОСПИТАНИЕ СОЦИАЛЬНОЙ ОТВЕТСТВЕННОСТ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И КОМПЕТЕНТНОСТИ (2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97000"/>
          <a:ext cx="9144000" cy="5199120"/>
        </p:xfrm>
        <a:graphic>
          <a:graphicData uri="http://schemas.openxmlformats.org/drawingml/2006/table">
            <a:tbl>
              <a:tblPr/>
              <a:tblGrid>
                <a:gridCol w="2843280"/>
                <a:gridCol w="2881080"/>
                <a:gridCol w="3419640"/>
              </a:tblGrid>
              <a:tr h="5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ид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Ф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4646520">
                <a:tc>
                  <a:txBody>
                    <a:bodyPr anchor="t">
                      <a:noAutofit/>
                    </a:bodyPr>
                    <a:p>
                      <a:pPr marL="2649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лужение Отече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оциальная ответств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знавательн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роблемно-ценностное об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оциальное твор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Журналистское расследование 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«У истоков волонтёрства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ок-шоу (2)</a:t>
                      </a:r>
                      <a:r>
                        <a:rPr b="0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«Добровольчество: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зона риска или зона персональной ответственности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Фестиваль (3) социальных проектов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«Нотки доброты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44360" y="169920"/>
          <a:ext cx="8891640" cy="6427800"/>
        </p:xfrm>
        <a:graphic>
          <a:graphicData uri="http://schemas.openxmlformats.org/drawingml/2006/table">
            <a:tbl>
              <a:tblPr/>
              <a:tblGrid>
                <a:gridCol w="8891640"/>
              </a:tblGrid>
              <a:tr h="62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ланируемые личностные результ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5800680">
                <a:tc>
                  <a:txBody>
                    <a:bodyPr anchor="t">
                      <a:noAutofit/>
                    </a:bodyPr>
                    <a:p>
                      <a:pPr marL="442800" indent="-3538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амоопределение (я – волонтёр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орально-этическая ориентация (ценностно-смысловые установки, социальные компетенц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истемные представления о добровольческой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еятельности </a:t>
                      </a:r>
                      <a:r>
                        <a:rPr b="1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(1 уровень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требность и стремление служить Отечеству,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могать людям </a:t>
                      </a:r>
                      <a:r>
                        <a:rPr b="1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(2 уровень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авыки практической деятельности в составе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олонтёрской группы </a:t>
                      </a:r>
                      <a:r>
                        <a:rPr b="1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(3 уровень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ОСПИТАТЕЛЬНЫЙ ЭФФЕКТ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ознательное участие в гражданских инициатива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ЕАЛИЗУЕМАЯ ПРОБЛЕМА ВОСПИТАНИЯ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изкий уровень гражданского участия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280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 социальных инициатива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Группа 5"/>
          <p:cNvGrpSpPr/>
          <p:nvPr/>
        </p:nvGrpSpPr>
        <p:grpSpPr>
          <a:xfrm>
            <a:off x="5580000" y="3212640"/>
            <a:ext cx="3240000" cy="1567800"/>
            <a:chOff x="5580000" y="3212640"/>
            <a:chExt cx="3240000" cy="1567800"/>
          </a:xfrm>
        </p:grpSpPr>
        <p:sp>
          <p:nvSpPr>
            <p:cNvPr id="96" name="TextBox 1"/>
            <p:cNvSpPr/>
            <p:nvPr/>
          </p:nvSpPr>
          <p:spPr>
            <a:xfrm>
              <a:off x="5580000" y="4076640"/>
              <a:ext cx="3240000" cy="7038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f497d"/>
                  </a:solidFill>
                  <a:latin typeface="Arial"/>
                </a:rPr>
                <a:t>ЦЕЛЕВЫЕ УСТАНОВ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7" name="Скругленная соединительная линия 4"/>
            <p:cNvCxnSpPr/>
            <p:nvPr/>
          </p:nvCxnSpPr>
          <p:spPr>
            <a:xfrm>
              <a:off x="7667640" y="3212640"/>
              <a:ext cx="829440" cy="577080"/>
            </a:xfrm>
            <a:prstGeom prst="curvedConnector5">
              <a:avLst>
                <a:gd name="adj1" fmla="val 49978"/>
                <a:gd name="adj2" fmla="val 50000"/>
                <a:gd name="adj3" fmla="val 49978"/>
              </a:avLst>
            </a:prstGeom>
            <a:ln w="57240">
              <a:solidFill>
                <a:srgbClr val="4f81bd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216000" y="4698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ВОСПИТАНИЕ ТРУДОЛЮБИЯ, СОЗНАТЕЛЬНОГО, ТВОРЧЕСКОГО ОТНОШЕНИЯ К ОБРАЗОВАНИЮ, ТРУДУ И ЖИЗНИ, ПОДГОТОВ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К СОЗНАТЕЛЬНОМУ ВЫБОРУ ПРОФЕССИИ (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1700280"/>
          <a:ext cx="9144000" cy="4919760"/>
        </p:xfrm>
        <a:graphic>
          <a:graphicData uri="http://schemas.openxmlformats.org/drawingml/2006/table">
            <a:tbl>
              <a:tblPr/>
              <a:tblGrid>
                <a:gridCol w="2987640"/>
                <a:gridCol w="2736720"/>
                <a:gridCol w="3419640"/>
              </a:tblGrid>
              <a:tr h="83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иды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Ф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4130280">
                <a:tc>
                  <a:txBody>
                    <a:bodyPr anchor="t">
                      <a:noAutofit/>
                    </a:bodyPr>
                    <a:p>
                      <a:pPr marL="2649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равственный смысл учения и самообра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гров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осугово-развлекательн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знавательная деятельность, художественное твор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олевая игра 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«Таможня познавательной активности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онтрольная закупка (2)</a:t>
                      </a:r>
                      <a:r>
                        <a:rPr b="0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«Школьный дневник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Ярмарка ученических талантов (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«Ступени к успеху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16000" y="241200"/>
          <a:ext cx="8893080" cy="642780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ланируемые личностные результ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5800680">
                <a:tc>
                  <a:txBody>
                    <a:bodyPr lIns="90000" rIns="90000" anchor="t">
                      <a:noAutofit/>
                    </a:bodyPr>
                    <a:p>
                      <a:pPr marL="26496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амоопределение (я–ученик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мыслообразование (познавательные интересы,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учебная самостоятельность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амоопределение в области своих познавательных 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нтересов </a:t>
                      </a:r>
                      <a:r>
                        <a:rPr b="1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(1 уровень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нимание нравственных основ самообразования </a:t>
                      </a:r>
                      <a:r>
                        <a:rPr b="1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(2 ур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ачальный опыт творческой самопрезентации,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емонстрации своих познавательных интересов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 учебных достижений </a:t>
                      </a:r>
                      <a:r>
                        <a:rPr b="1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(3 уровень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ОСПИТАТЕЛЬНЫЙ ЭФФЕКТ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амообразование в течение жизн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ЕАЛИЗУЕМАЯ ПРОБЛЕМА ВОСПИТАНИЯ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изкий уровень учебной мотивации,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496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3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епонимание важности самообразовани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" name="Группа 2"/>
          <p:cNvGrpSpPr/>
          <p:nvPr/>
        </p:nvGrpSpPr>
        <p:grpSpPr>
          <a:xfrm>
            <a:off x="5651640" y="3715920"/>
            <a:ext cx="3241440" cy="1569240"/>
            <a:chOff x="5651640" y="3715920"/>
            <a:chExt cx="3241440" cy="1569240"/>
          </a:xfrm>
        </p:grpSpPr>
        <p:sp>
          <p:nvSpPr>
            <p:cNvPr id="102" name="TextBox 3"/>
            <p:cNvSpPr/>
            <p:nvPr/>
          </p:nvSpPr>
          <p:spPr>
            <a:xfrm>
              <a:off x="5651640" y="4581360"/>
              <a:ext cx="3241440" cy="7038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f497d"/>
                  </a:solidFill>
                  <a:latin typeface="Arial"/>
                </a:rPr>
                <a:t>ЦЕЛЕВЫЕ УСТАНОВ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3" name="Скругленная соединительная линия 4"/>
            <p:cNvCxnSpPr/>
            <p:nvPr/>
          </p:nvCxnSpPr>
          <p:spPr>
            <a:xfrm>
              <a:off x="7740360" y="3715920"/>
              <a:ext cx="829080" cy="577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57240">
              <a:solidFill>
                <a:srgbClr val="4f81bd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229480" y="3141720"/>
            <a:ext cx="47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95280" y="1268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Пессимист видит трудности при каждой возможности; оптимист в каждой трудности видит возможност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У. Черчил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835280" y="400536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Отдел воспитания и ДОД ГАУ ДПО СОИР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8 (4812) 38-94-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metodasoiro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-36360" y="3284640"/>
            <a:ext cx="77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Практическая лаборатор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для руководителей М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классных руководите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О Смолен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55640" y="141300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оектирование технологической карты воспитательн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приоритетных направлениях Программы воспитания и социализации обуч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427640" y="5373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Смолен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27.03.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68360" y="1197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ЦЕЛЕВЫЕ ПРИОРИТ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50920" y="184464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риентация на достижение планируемых воспитательных результатов (формирование и развитие ЛИЧНОСТИ гражданина Росси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250920" y="3141720"/>
            <a:ext cx="8785080" cy="292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Взаимосвязь содержания и механизмов реализации воспитательной деятельности (АЛГОРИТМИЗАЦИЯ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- формируемые ценности – планируемые воспитательны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результаты – содержание – виды деятельности –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формы воспитания, ориентированные на достижени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воспитательных результатов разного уровня, – критер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и показатели оценки, контрольно-измерительные материал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97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ЦЕЛЕВЫЕ ПРИОРИТ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250920" y="184464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Последовательное ВОСХОЖДЕНИЕ обучающихс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от воспитательных результатов одного уровня к другом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(разнообразие форм и видов деятельност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50920" y="3235320"/>
            <a:ext cx="8785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Развитие СУБЪЕКТНОЙ АКТИВНОСТИ в личност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значимой деятельности (современные формы воспитани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50920" y="4221000"/>
            <a:ext cx="8785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Вовлечение обучающихся в СОЦИАЛЬНЫЕ И КУЛЬТУРНЫ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ПРАКТИКИ (опыт взаимодействия, социальные компетенци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Группа 7"/>
          <p:cNvGrpSpPr/>
          <p:nvPr/>
        </p:nvGrpSpPr>
        <p:grpSpPr>
          <a:xfrm>
            <a:off x="3594240" y="5229360"/>
            <a:ext cx="5298840" cy="647640"/>
            <a:chOff x="3594240" y="5229360"/>
            <a:chExt cx="5298840" cy="647640"/>
          </a:xfrm>
        </p:grpSpPr>
        <p:sp>
          <p:nvSpPr>
            <p:cNvPr id="52" name="TextBox 5"/>
            <p:cNvSpPr/>
            <p:nvPr/>
          </p:nvSpPr>
          <p:spPr>
            <a:xfrm>
              <a:off x="4428360" y="5301360"/>
              <a:ext cx="446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1f497d"/>
                  </a:solidFill>
                  <a:latin typeface="Arial"/>
                  <a:ea typeface="Arial"/>
                </a:rPr>
                <a:t>ТЕХНОЛОГИЧЕСКАЯ КАРТА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Стрелка вправо 6"/>
            <p:cNvSpPr/>
            <p:nvPr/>
          </p:nvSpPr>
          <p:spPr>
            <a:xfrm>
              <a:off x="3594240" y="5229360"/>
              <a:ext cx="977760" cy="64764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119700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97d"/>
                </a:solidFill>
                <a:latin typeface="Arial"/>
              </a:rPr>
              <a:t>ВОСПИТАТЕЛЬНЫЙ РЕЗУЛЬТАТ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уховно-нравственные приобретения, которые получил обучающий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следствие участия в той или и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26370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97d"/>
                </a:solidFill>
                <a:latin typeface="Arial"/>
              </a:rPr>
              <a:t>ВОСПИТАТЕЛЬНЫЙ ЭФФЕКТ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следствие результата (развитие обучающегося как личности, формир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омпетентности, идентичности 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108000" y="4038480"/>
            <a:ext cx="87850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97d"/>
                </a:solidFill>
                <a:latin typeface="Arial"/>
              </a:rPr>
              <a:t>ВОСПИТАТЕЛЬНЫЕ РЕЗУЛЬТАТЫ 1 УРОВНЯ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– приобретение школьником социальных знаний, первичного понимания социальной реа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 повседневной жиз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(взаимодействие между педагогом и обучающимс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692360" y="3031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БАЗОВЫЕ ТЕРМ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50920" y="1197000"/>
            <a:ext cx="8713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97d"/>
                </a:solidFill>
                <a:latin typeface="Arial"/>
              </a:rPr>
              <a:t>ВОСПИТАТЕЛЬНЫЕ РЕЗУЛЬТАТЫ 2 УРОВНЯ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–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получение школьником опыта переживания и позитивного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отношения к базовым ценностям общества, ценностного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отношения к социальной реальности в целом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(взаимодействие между обучающимися на уровне класса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школы, в знакомой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дружественной среде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50920" y="3500280"/>
            <a:ext cx="8713800" cy="149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97d"/>
                </a:solidFill>
                <a:latin typeface="Arial"/>
              </a:rPr>
              <a:t>ВОСПИТАТЕЛЬНЫЕ РЕЗУЛЬТАТЫ 3 УРОВНЯ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–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получение школьником опыта самостоятельного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общественного действия (взаимодействие с социальным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субъектами за пределами школы в незнакомой среде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16000" y="5157720"/>
            <a:ext cx="8785080" cy="184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1f497d"/>
                </a:solidFill>
                <a:latin typeface="Arial"/>
              </a:rPr>
              <a:t>ДУХОВНО-НРАВСТВЕННОЕ ВОСПИТАНИЕ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–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педагогически организованный процесс усвоения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и принятия обучающимися базовых национальных ценност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692360" y="3031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БАЗОВЫЕ ТЕРМ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24000" y="1844640"/>
            <a:ext cx="85690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гровая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знав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портивно-оздорови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Трудовая (производственная) деятель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Туристско-краеведческая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роблемно-ценностное общ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оциальное твор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осуговое 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Художественное чт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468360" y="126828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ИДЫ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4500720" y="5129280"/>
            <a:ext cx="4392360" cy="10994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Методический конструктор внеурочной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(Д.В. Григорьев, П.В. Степан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Скругленная соединительная линия 4"/>
          <p:cNvCxnSpPr/>
          <p:nvPr/>
        </p:nvCxnSpPr>
        <p:spPr>
          <a:xfrm>
            <a:off x="6084720" y="4292280"/>
            <a:ext cx="828000" cy="57708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5724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extBox 1" descr=""/>
          <p:cNvPicPr/>
          <p:nvPr/>
        </p:nvPicPr>
        <p:blipFill>
          <a:blip r:embed="rId2"/>
          <a:stretch/>
        </p:blipFill>
        <p:spPr>
          <a:xfrm>
            <a:off x="244440" y="1805040"/>
            <a:ext cx="8650440" cy="3236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468360" y="12398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ФОРМЫ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3276720" y="5129280"/>
            <a:ext cx="57229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Сайт ГАУ ДПО СОИРО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РУМО – УМО воспитания и социал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МО ЗДВР – Программа – практ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Скругленная соединительная линия 4"/>
          <p:cNvCxnSpPr/>
          <p:nvPr/>
        </p:nvCxnSpPr>
        <p:spPr>
          <a:xfrm>
            <a:off x="7885080" y="4220640"/>
            <a:ext cx="828000" cy="57708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5724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468360" y="1052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ФОРМЫ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24000" y="1763640"/>
            <a:ext cx="1944360" cy="43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ЗАКО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МОРАЛ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МОТИ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ИДЕА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ПОЛЬЗ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МОДЕЛ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411280" y="164160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Заочная экскурсия, азбука здоровь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крестики-нолики, обучающее занятие, новость дня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411280" y="236052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Морской бой,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обмен (знаниями), ролевая игра, альбом-эстафета, лото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2411280" y="308124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Мастерская общения, открытая кафедра, ток-шоу, интерактивный квест, встреча лучших друзей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2411280" y="380052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Инсценирование,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дебаты,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ежедневное дежурство, аналитический аттракцион, личный дневник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2411280" y="459252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ривал, операция, лукошко добрых дел, защита проекта, агитбригада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2411280" y="5384880"/>
            <a:ext cx="6408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Марафон, ОДИ,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десант, естественный отбор, летопись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4:17:54Z</dcterms:created>
  <dc:creator>Пользователь</dc:creator>
  <dc:description/>
  <dc:language>en-US</dc:language>
  <cp:lastModifiedBy>Владелец</cp:lastModifiedBy>
  <dcterms:modified xsi:type="dcterms:W3CDTF">2017-03-24T06:44:10Z</dcterms:modified>
  <cp:revision>64</cp:revision>
  <dc:subject/>
  <dc:title>Презентация PowerPoint</dc:title>
</cp:coreProperties>
</file>