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56E-771B-480A-B935-B07E272A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367-BAF2-4FC9-B47D-4610B24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D3E0-D68C-40CD-A3D5-2A2BA23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FCBB3-15AD-4CA3-B2B0-7D00887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58684-4A86-435D-9949-C93F1577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30C0-2C3E-47FA-8057-7F7A370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E988-8D6E-42DF-A3B8-20FCD76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C655-FF76-422B-8FA0-E5F9732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017E8-DD61-4AB0-B6DF-987BA8C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D6278-2B9B-4A59-909F-3E0E9F21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5975E-D624-46AE-9A85-B39A094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75746-CB61-4767-87C8-E184771A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E1D-3734-4036-B793-138DF79F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F0212-07E9-41A3-A569-BC72D772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A9E086-DF61-44AE-94F7-FB08C6C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152068-A1A6-4FCA-AA1D-8B4F8A24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577C38-D142-480D-ACF6-9E27B15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B3BCF-EC83-42D7-AFE1-C9745F5A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BED604-4F2F-47A4-A8C2-66D9912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84CB92-C394-4D05-BBFD-73C582C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A0643B-A932-47CB-858A-F5DCA44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3DB7B-9CFF-4943-A63B-86564A6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CA522B-8D38-4D43-BAE3-58001ED3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0C8-58B0-4D48-8BCD-5404F3F1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DE5594-A457-4DA4-B666-DEB6E56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5913-AAEB-407E-81CF-89E2305C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B73CD-E090-4C3C-B9FF-C301139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B5C8-F4E6-4B65-8DE8-CF26CF1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8CCC7-E8B4-4B03-AE22-0210AE16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B622-50E7-4B54-8C8A-41E3F5E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5E41-C6B6-436B-98A5-28704B7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0DB3-1249-4130-B668-DE5E5F1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909AC-1DF8-4D54-A43B-F79D2F0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0C193-B447-4B91-9F4C-EDC53C5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5EC1-2FD2-4B2A-A2AB-3C5A5A69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D5EC-1EF7-44A3-8717-C9BE75A9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D095A-B36E-4DED-807B-DD3FDD9B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7EB1-9317-4167-B812-A415797A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76E-C28F-433D-BF64-688B547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6D38-471E-4E17-B575-37A12967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4C2-D180-412D-8AB8-6BD6FB4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0EA6-ECF1-434D-8C2B-C7F7784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B5A6-FA2E-4D6F-B417-45805B2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92A-90F4-48AE-B4B4-CF62F74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7B9-D2DB-4DA5-B2D1-9CBDC9C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FA71-6012-487C-96B8-C25B373B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7E0-7F4B-404D-ABC5-4799EDA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E277-F18D-4E95-A645-676D0D86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655-0CE5-47BE-9CB7-0B8BF303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BF35-88B3-4E5D-B217-A8CAF93A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C149-009C-4485-B9B9-34B172B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CCD3-457A-4210-A08B-D611170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66E1-86A7-4018-B4C0-3943A2A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6DC2-2B21-4B3C-B6BB-EEFDF6C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124F-509D-41BB-9ACE-4CD7277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AED-8A89-4A53-898B-C6F395B7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A1B4-6A1D-4731-878B-B3B95FFD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2133-12C3-45A4-9878-8092E8C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C716-C762-42D9-8B4D-15647C2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29E4-9E21-4115-9657-6D40AEB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3343-10AA-4C7F-B542-C142A32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0B39-80C0-47AE-821D-984F79A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21FF-6D86-4287-879D-23B6F55F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6E9DB-3E42-4FE7-850E-508CDEE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C8FB-12DD-47DD-B6C3-8C148E31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EC83-6E21-46B3-A173-D3954A53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A02-F7DC-4DA8-B0BF-D9BB7A38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4AA7-146F-445F-B003-F530A6BE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7832-C8E2-4764-8EA6-1AFAA7A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76D8-5E60-4D9D-AC64-B217BA0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6B7B-DAE1-458D-9439-3672A26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7983-6AE1-4895-AD75-7365FB3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A02E-AD8C-4707-84E8-BFCDF53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3825-4DF3-4161-BCAF-90F3FED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0DB9-DF11-40B9-AC27-A445B78E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1287-9406-40F5-BA18-D8DF67C5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D4B0-AF13-4C4C-88B7-5666705F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1A5-7A64-494F-BED3-3E13275A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03BF4-A28A-481B-97D7-C5DA440B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7C4A-3A87-4D16-A8F4-38B5ACEA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4B30-06EA-490E-8830-8CF92764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ACDA-8A72-4058-8A96-B138C8E8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E17B-E18C-4D6F-B317-96A6E170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862B-CB6A-4C65-8FD6-1D86A1C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D0DE-D86F-4D6E-B414-6A84D1C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A0B7-6A33-4A3D-A24F-909A1F4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4AA5-E7CB-4EAF-AE25-EC339AC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278A-D821-4606-A782-0D9BD3BD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B5B-AC44-45DD-B78C-6E2A37F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C6BA-AF4B-4199-99F6-7ECF432E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4368-8B64-405C-BB0E-B4DFF15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77BA-62C5-406B-A14B-922BD3E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C42A-60F7-44DC-8B95-75593DE4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6036-FD9F-43B8-9CD5-BE869BD4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7B09-98E0-4756-8F79-3A6ACB7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4939-2FA7-4BA7-9DF0-043A7952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4336-78CD-4EA8-849A-27F0185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6446F-0890-4305-8884-FA91C47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88F0-0BB6-4368-B702-914AAF5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393-0BED-4673-86C6-AF47C7B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04AF-4036-4A79-A526-4D8EFC2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10BD-2947-4810-A7F0-883315F6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111F-3E43-423D-A0E0-1F319CC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99DAB-E602-4F86-A930-1D5D215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53CE-2240-4F9A-BD17-37DC45A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B91F-E21F-4025-9B22-58587D5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A9A0-0CFC-43E7-9C69-1AB58BB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41C5-EB32-4616-B220-094BB55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5267-6DEE-4468-A116-982CA3B2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0136-5C32-413B-9F40-6AE87EF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E46-38A9-487B-B267-72ED7E6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7A5B-E9AC-418B-997D-DB91B4A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D384-8B6F-43A8-A844-4069295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8A93-444B-4424-A84E-C8EB41BC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2F8B-76D0-40CA-88D3-F3421771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9786-A0EF-4D0A-BD2E-96AACF0F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EE32-9BAD-48F6-A3A4-8EC237A0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CD830-3A9C-4D40-9D0F-B778802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B04F-9B14-4A6E-A73D-89D1C76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25DF0-C282-49BC-A7E9-1A63A55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42B8D-CCBF-4448-966B-62013BE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6AF-0474-40D6-88CE-B881EBA7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F0C3-3A7F-4E9D-8809-79B39BDC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D2D9-606B-42E2-9FC3-0320C52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D397-C18D-4FA2-A876-3B91EFD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B95B9-091D-47E2-B110-20922E9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B19C-3789-47CC-A7CC-BAEA701D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0E802-6CA8-4047-B7CD-4DD0925E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FA40-40B4-47DB-9635-D47E674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E6F6F-FDE3-4CCC-8FCB-9CDEB39A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71DEF-5C42-4DF9-8554-E683D09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C31EA-6585-4617-B2E5-2C1D8FC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4D6C-213C-4A21-8533-1F5938AC28AD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434" name="Rectangle 9" descr=""/>
            <p:cNvPicPr/>
            <p:nvPr/>
          </p:nvPicPr>
          <p:blipFill>
            <a:blip r:embed="rId2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EDA-CD89-44D0-BCF5-EF684EA04F58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B17-816D-4AAF-A507-E1D6AC0398DD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82c0e6">
              <a:alpha val="7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Users\Владелец\Desktop\фон.png"/>
          <p:cNvPicPr/>
          <p:nvPr/>
        </p:nvPicPr>
        <p:blipFill>
          <a:blip r:embed="rId4"/>
          <a:stretch/>
        </p:blipFill>
        <p:spPr>
          <a:xfrm>
            <a:off x="446040" y="222120"/>
            <a:ext cx="34736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1612-A996-4EA8-9C8F-5979299ABDFE}" type="slidenum"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104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395280" y="333360"/>
            <a:ext cx="1515960" cy="1117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03E6-E412-4D74-8E10-5F87D0805C9C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52" name="Rectangle 12" descr=""/>
            <p:cNvPicPr/>
            <p:nvPr/>
          </p:nvPicPr>
          <p:blipFill>
            <a:blip r:embed="rId2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0070c0"/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446040" y="222120"/>
            <a:ext cx="3473640" cy="2565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F5E-A79F-483D-A383-DF39E8DF80CD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02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Владелец\Desktop\фон.png"/>
          <p:cNvPicPr/>
          <p:nvPr/>
        </p:nvPicPr>
        <p:blipFill>
          <a:blip r:embed="rId3"/>
          <a:stretch/>
        </p:blipFill>
        <p:spPr>
          <a:xfrm>
            <a:off x="395280" y="333360"/>
            <a:ext cx="1515960" cy="1117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13F-70EF-4961-A2F4-F4EAACCA8C0A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50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2FB-1BFD-4161-A388-538B08FBA438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97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7A0-8C13-421E-8EC0-E6993BB6CF02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75DC-58BC-4E68-B92E-D018F0C983AC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387" name="Rectangle 7" descr=""/>
            <p:cNvPicPr/>
            <p:nvPr/>
          </p:nvPicPr>
          <p:blipFill>
            <a:blip r:embed="rId2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CC60-8445-4C15-B82D-8C0110C9E0EC}" type="slidenum">
              <a:rPr b="0" lang="ru-RU" sz="1200" spc="-1" strike="noStrike">
                <a:solidFill>
                  <a:srgbClr val="30303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552240" y="4643280"/>
            <a:ext cx="666252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c0327"/>
                </a:solidFill>
                <a:latin typeface="Arial"/>
                <a:ea typeface="Arial"/>
              </a:rPr>
              <a:t>КОНДРЫКИНА С.Н., ДИРЕКТОР МБОУ «СРЕДНЯЯ ШКОЛА № 23» Г.СМОЛЕНСКА, ПРЕДСЕДАТЕЛЬ ОМО</a:t>
            </a:r>
            <a:endParaRPr b="0" lang="en-US" sz="1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24" name="TextBox 3"/>
          <p:cNvSpPr/>
          <p:nvPr/>
        </p:nvSpPr>
        <p:spPr>
          <a:xfrm>
            <a:off x="571680" y="328608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ременные формы достижения планируемых воспитательных результатов: основные треб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механизмы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2124000" y="5097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ГОС ориентирован на достижение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500040" y="2000160"/>
            <a:ext cx="8215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ПОУРОВНЕВОЕ достижение обучающими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планируемых воспитательных результа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еспечивается за счёт применения педагог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ВАРИАТИВНЫХ форм воспит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и социализации, которые находят отраж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в ПЛАНАХ воспитательной работы школы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классного руководителя, всех специалис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в области воспит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714240" y="56437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РАДАЦИЯ ФОРМ И РЕЗУЛЬТАТОВ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Выгнутая вверх стрелка 6"/>
          <p:cNvSpPr/>
          <p:nvPr/>
        </p:nvSpPr>
        <p:spPr>
          <a:xfrm rot="5400000">
            <a:off x="7668000" y="445680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3" hR="21600" stAng="10800000" swAng="5400000"/>
                <a:lnTo>
                  <a:pt x="11613" y="0"/>
                </a:lnTo>
                <a:arcTo wR="8363" hR="21600" stAng="-5400000" swAng="3377999"/>
                <a:lnTo>
                  <a:pt x="21334" y="16200"/>
                </a:lnTo>
                <a:lnTo>
                  <a:pt x="18350" y="21600"/>
                </a:lnTo>
                <a:lnTo>
                  <a:pt x="14834" y="16200"/>
                </a:lnTo>
                <a:lnTo>
                  <a:pt x="16459" y="16200"/>
                </a:lnTo>
                <a:arcTo wR="8363" hR="21600" stAng="-2022001" swAng="-3114862"/>
                <a:lnTo>
                  <a:pt x="9988" y="412"/>
                </a:lnTo>
                <a:arcTo wR="8363" hR="21600" stAng="-5663137" swAng="-5136863"/>
                <a:close/>
              </a:path>
              <a:path fill="darkenLess" w="21600" h="21600">
                <a:moveTo>
                  <a:pt x="0" y="21600"/>
                </a:moveTo>
                <a:arcTo wR="8363" hR="21600" stAng="10800000" swAng="5400000"/>
                <a:lnTo>
                  <a:pt x="8363" y="0"/>
                </a:lnTo>
                <a:arcTo wR="8363" hR="21600" stAng="-5400000" swAng="263137"/>
                <a:lnTo>
                  <a:pt x="9988" y="412"/>
                </a:lnTo>
                <a:arcTo wR="8363" hR="21600" stAng="-5663137" swAng="-5136863"/>
                <a:close/>
              </a:path>
            </a:pathLst>
          </a:custGeom>
          <a:solidFill>
            <a:srgbClr val="e6e8ee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285840" y="1714680"/>
          <a:ext cx="8643960" cy="4614840"/>
        </p:xfrm>
        <a:graphic>
          <a:graphicData uri="http://schemas.openxmlformats.org/drawingml/2006/table">
            <a:tbl>
              <a:tblPr/>
              <a:tblGrid>
                <a:gridCol w="1571400"/>
                <a:gridCol w="1428840"/>
                <a:gridCol w="2000160"/>
                <a:gridCol w="3643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ируемые цен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нируемый результат (уровень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естик- нол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род воинской слав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бов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 малой родин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стемные представлени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 героических страницах истории города Смоленска, национальных героях и значимых исторических событиях (1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верт вопрос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ответ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говори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 дружб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ружба как категория нравствен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нимание нравственной сущности понятия «дружба» как меры взаимной ответственности между людьми (2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рмар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орд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выражение в творчеств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чальный опыт самореализаци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различных видах творческой деятельности (3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TextBox 39"/>
          <p:cNvSpPr/>
          <p:nvPr/>
        </p:nvSpPr>
        <p:spPr>
          <a:xfrm>
            <a:off x="207180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ЧАЛЬНОЕ ОБЩ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214200" y="1773360"/>
          <a:ext cx="8715600" cy="4471920"/>
        </p:xfrm>
        <a:graphic>
          <a:graphicData uri="http://schemas.openxmlformats.org/drawingml/2006/table">
            <a:tbl>
              <a:tblPr/>
              <a:tblGrid>
                <a:gridCol w="1571760"/>
                <a:gridCol w="1285920"/>
                <a:gridCol w="2000160"/>
                <a:gridCol w="38577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ируемые цен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нируемый результат (уровень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урнал-эстаф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адиции моей семь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мь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стемные представления о роли семьи в жизни человека, ценностях семейного воспитания (1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блемы и аргум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бода – это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бода как категория нравствен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ение вести диалог по социальным вопросам, обосновывать свою гражданскую позицию, приобретая опыт этического общения со сверстниками (2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р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орд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выражение в творчеств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чальный опыт самореализаци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различных видах творческой деятельности (3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TextBox 39"/>
          <p:cNvSpPr/>
          <p:nvPr/>
        </p:nvSpPr>
        <p:spPr>
          <a:xfrm>
            <a:off x="207180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НОВНОЕ ОБЩ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214200" y="1773360"/>
          <a:ext cx="8643960" cy="4600440"/>
        </p:xfrm>
        <a:graphic>
          <a:graphicData uri="http://schemas.openxmlformats.org/drawingml/2006/table">
            <a:tbl>
              <a:tblPr/>
              <a:tblGrid>
                <a:gridCol w="1773360"/>
                <a:gridCol w="1625760"/>
                <a:gridCol w="1625400"/>
                <a:gridCol w="3619440"/>
              </a:tblGrid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ируемые ц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нируемый результат (уровень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урналистское расследова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временная молодежь: какая он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ажданское общ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стемные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 структуре российского 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я определения своего ме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нем (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укцио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зн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уховно-нравственн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товность к самоограничению для достижения соб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равственных идеалов, стремление вырабатыват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осуществлять личн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грамму самовоспитания (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лешмоб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 люб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бя, жизнь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циальная инициати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особность к решению моральных проблем на основе личностного выбора в социально-значимой деятельности (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TextBox 39"/>
          <p:cNvSpPr/>
          <p:nvPr/>
        </p:nvSpPr>
        <p:spPr>
          <a:xfrm>
            <a:off x="207180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ЕЕ ОБЩ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  <a:p>
            <a:pPr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4:22:31Z</dcterms:created>
  <dc:creator>Орешкова</dc:creator>
  <dc:description/>
  <dc:language>en-US</dc:language>
  <cp:lastModifiedBy>Наталья</cp:lastModifiedBy>
  <cp:lastPrinted>2014-09-04T05:52:33Z</cp:lastPrinted>
  <dcterms:modified xsi:type="dcterms:W3CDTF">2016-09-29T20:00:51Z</dcterms:modified>
  <cp:revision>116</cp:revision>
  <dc:subject/>
  <dc:title>Презентация PowerPoint</dc:title>
</cp:coreProperties>
</file>