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1DBF-8920-47F2-9FD1-6E3E802D6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6051-CA33-4851-969F-B3ACB5FD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074EE9-02CD-44FB-915D-A0353C15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07EE2A-03FC-40CA-B234-2F80E850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475F28-F94D-48A2-8F0F-EB07F90F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B07721-45A7-44D7-8F73-83ECAC74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52B61A-D553-4267-819F-2FDDA545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444680-B699-44F4-91E8-E3630C73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1857A-0A3C-4DD8-A8B8-3DA1403E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44EAD8-4D49-4849-91B7-014C08141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5B4059-CFB8-4423-8D47-A47425667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B385E5-4473-41CD-BDB7-3638C793F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2686-862C-45A9-8586-7DB05E30B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14B4E2-5A74-4701-9BAA-AA24E566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58B918-D44F-41A5-BEF9-E54447A2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C0D014-52F0-4226-BF88-0E475C8A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12AD17-DB26-46B1-8B36-940F5587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FEAF07-147B-4784-B368-AAAB6226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CB71F4-08CB-4C07-9717-457D53DF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45F7E9-CECA-4327-A9B5-8A6F42E0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0829FA-C544-47FE-81AA-B99261D0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456C70-576C-4A6D-A2DE-922BF5CB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9DAF47-D845-48E7-9EF5-4C4F66076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5898-601C-4502-97C6-D1B2AA5FE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72FF1B-BE69-49C0-B460-C0F44AFBC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7D18B39-9504-444B-9675-0DCDE84AC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A78BBDF-0FDE-470F-86B0-6916F49B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24E82D6-BE26-4BDD-B218-50D66F4A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177BA62-9AEA-4EEC-A6E5-C270301C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123CCEC-DEAA-4768-A298-770BE1CB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6420628-EA0C-42BE-9337-10E28AB9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6BACC0-44DB-4CDE-94B4-F0C421C7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3AA97DF-5660-4E0A-8292-A97A2573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9AA7D40-629F-46C5-80D4-4B5E0EA6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55FF-4310-4EF4-8816-BF200FAD3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593B13-8AA5-4104-A168-351C8440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17703ED-CB6E-4550-A47D-2EB231052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0F1E58A-872E-48B3-B4E4-8113CA7B9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5D18EA-9BDC-417C-83FD-FA3E8E62F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31CF5F-4976-4ACA-85FD-7A20B133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0F126C-239E-48C3-ADC9-AD00C038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B78189-5239-494C-8B52-5FBA4163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E6A8ED-140E-44EA-AA87-B4367861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0905A7-B43E-4038-8A9E-CA2B197D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734330-570D-40D2-9085-33942697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66A6-651A-4276-B720-386DC835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21A9E0-FC75-4F94-A46D-28658B9A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A7F8FF-717E-4A7C-A12D-6DA58133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FA837C-C5E5-4D7B-A0FD-984612BF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A2F6C9-A541-4AAC-8FED-777D0E96E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683502-DF13-4031-A2A5-CF18491CA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9498-800A-467C-86AE-532A3698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0E37-2450-4D26-A978-74BE2014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59F7-AB58-45D6-92F2-DF0417B7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F1B0-55B3-47C0-ACA0-086B7282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55B9-8ADF-48A7-AADB-0E0AA266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08C3-D5E2-43B8-A769-67FC2FBB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860C-FA6D-45C9-9F90-57AB9684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B3C70-81A7-4E7D-B652-277B83A9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F2C05-D0DF-45AC-85DA-340E7632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D163-B726-4A6C-9AAA-B172E7072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50D04-B29D-413E-BA9E-72A53B5A5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F9805-CC63-4FA6-8621-892B766BD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344E8-A662-41B4-B47E-1D2865F2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A2118-6EB0-4CCC-971D-B647CA16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5AFCC-257F-4F1F-9305-854D183E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1942F-4522-45B0-A266-4152E413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6C14-EB10-4892-BD3C-980A014C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68380-2B33-45E3-9C53-AE9A7237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7A886-FF7C-4F62-9C36-1A39B7BF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7787F-57F4-4C83-945C-45A6281F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72604-7BA7-413E-B9BC-694D2623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E5E26-64AA-482F-9BCE-9EBA293F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D1074-F504-418D-B61A-93F459AEF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D6328-6CBB-4053-A72F-502069A2D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E8970-75B5-4F8D-A51A-1B3DA2422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8066C-C3FC-450D-8D9E-DAACAB09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86F2E-BD4D-4950-9005-2F9C538E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B2A7-F2AF-4460-9DF2-6324E4A7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4C329-4DB9-4006-9CB1-F86F8E85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2FD9B-F881-41BF-BFC7-D5D1F88A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883CA-6737-449A-B022-0B65B2E4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DCDC3-2D76-4C98-8D54-1A570F64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E1D05-5FC5-4D12-99DA-AA740D77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69A31-E4AE-43B3-B532-A3BBE234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8A6B1-566B-4753-ADCD-42BBCBB9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6DC42-426C-4FD5-87AF-2FB4E657D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713AB-F25F-4324-B9D2-0457702C8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16061-7238-4F74-A226-F5A5ECCBB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4915-59DD-4800-93D9-6A3202A2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0DBFA-C1D4-4E3A-97EC-A43F40A4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56048-62A0-4732-BBBB-9C02439B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541FA-889C-4C94-A3E2-EF470096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A6350-A976-48A8-B4B7-D98AB978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8872B-5FFE-4D95-9E1F-44523A8B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6185A-5198-4929-9914-F215E537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50ECF-AF88-4F8D-9965-2225EED6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1F6CE-B83E-496F-B5D9-F32A059F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D82B6-3E9B-436C-9A4B-E53BE0ED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15E6D-FD86-4735-87C5-72D8ED340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7ED9-6135-4C9C-8514-8DB98488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ABF22-8D64-4860-B2FB-ABFA706F0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C34E7-E609-4C33-A024-CFE8FFD92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E0A7F-E371-45E9-B340-6A29FFE1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D3E4F-1D1E-4BB3-B399-CC63DAA5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A70C6-DA15-4686-8F0A-8C0B1646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7C179-0834-4E14-9F9C-2755BA9F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766E5-C15D-4383-B829-60948DD6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23A82-538F-47E7-8E5C-7D4B3774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07663-8F73-44C1-B0CD-78FB7327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43846-7681-452E-910F-277C7904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3944-A4BA-4211-A985-46D2038E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3D9A6-05F9-4D2E-AFAD-79053E57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3C5FF-3430-402D-8EBA-D88A2281C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74DFA-8973-431B-953A-54066C443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208A3-FA3F-46C8-B446-44D76B60D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CECB8-3079-4F75-95F6-398687CE7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F0074-A043-4FE6-A1EF-D789A4B8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B3E17-26A4-439A-8761-3205D2F2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1AD7A-F15E-4556-BEC7-BD8C6FF4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16066-F394-4A97-88F6-E605BC18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B27C0-E85E-4A5E-90D5-43BD7DE0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928C-6508-48DF-B9A5-1B8B9522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15739-305E-4D8C-9C6C-ACFE4F6A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48BC2-30F9-4CF5-970F-1DEC1213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724A9-78B1-4FB2-9F14-067DAB4A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6C0FE-E3EA-4DD8-AFC1-0C7D2A25E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B7481-6AE9-47A8-A437-BE65CA840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5A676-37A9-42A1-B962-724A3AD84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32375-3152-40EC-AD4B-A8C40C6F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13B66-4A17-4D16-A94D-E031CDA2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A12C0-0D1C-4A00-BD12-51E39141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CDAE6-341C-495F-9448-2E348D12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638F-5913-4119-8621-EA45DBAB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2D46F-59B2-4693-9D92-D7BE86EE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238CE-ADCE-4237-840F-65577B6F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7E052-F7DD-4806-8F7E-C696F3CB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27C4D-4A00-4935-8F17-E4F097A6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71BA7-89B2-4EEA-892F-B29F918A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0AFCF-DB5F-44A9-B2EF-6416F8DFC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8833B-BC34-4C4F-A44B-5D4717D6D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DE10EB-8A8A-4F7F-B306-D500F67AE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F06024-04B3-46D0-9828-C3B7ED7E6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B99A60-4D7C-4546-B750-4C456B71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08d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424e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303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A178-71A4-48AC-A304-DD40AD6AE7A9}" type="slidenum">
              <a:rPr b="0" lang="ru-RU" sz="1200" spc="-1" strike="noStrike">
                <a:solidFill>
                  <a:srgbClr val="30303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68200" y="274680"/>
            <a:ext cx="8607600" cy="1334880"/>
            <a:chOff x="268200" y="274680"/>
            <a:chExt cx="8607600" cy="1334880"/>
          </a:xfrm>
        </p:grpSpPr>
        <p:pic>
          <p:nvPicPr>
            <p:cNvPr id="7" name="Rectangle 8" descr=""/>
            <p:cNvPicPr/>
            <p:nvPr/>
          </p:nvPicPr>
          <p:blipFill>
            <a:blip r:embed="rId2"/>
            <a:stretch/>
          </p:blipFill>
          <p:spPr>
            <a:xfrm>
              <a:off x="268200" y="274680"/>
              <a:ext cx="8607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77920"/>
              <a:ext cx="8594640" cy="13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820101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Rectangle 7"/>
          <p:cNvGrpSpPr/>
          <p:nvPr/>
        </p:nvGrpSpPr>
        <p:grpSpPr>
          <a:xfrm>
            <a:off x="554040" y="1500120"/>
            <a:ext cx="2732040" cy="3535560"/>
            <a:chOff x="554040" y="1500120"/>
            <a:chExt cx="2732040" cy="3535560"/>
          </a:xfrm>
        </p:grpSpPr>
        <p:pic>
          <p:nvPicPr>
            <p:cNvPr id="435" name="Rectangle 7" descr=""/>
            <p:cNvPicPr/>
            <p:nvPr/>
          </p:nvPicPr>
          <p:blipFill>
            <a:blip r:embed="rId2"/>
            <a:stretch/>
          </p:blipFill>
          <p:spPr>
            <a:xfrm>
              <a:off x="554040" y="1500120"/>
              <a:ext cx="2732040" cy="353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82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08d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424e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820101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303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7E20-5B64-4C67-816D-A2A6B3E33659}" type="slidenum">
              <a:rPr b="0" lang="ru-RU" sz="1200" spc="-1" strike="noStrike">
                <a:solidFill>
                  <a:srgbClr val="30303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Rectangle 9"/>
          <p:cNvGrpSpPr/>
          <p:nvPr/>
        </p:nvGrpSpPr>
        <p:grpSpPr>
          <a:xfrm>
            <a:off x="682560" y="4950000"/>
            <a:ext cx="7785000" cy="1384200"/>
            <a:chOff x="682560" y="4950000"/>
            <a:chExt cx="7785000" cy="1384200"/>
          </a:xfrm>
        </p:grpSpPr>
        <p:pic>
          <p:nvPicPr>
            <p:cNvPr id="482" name="Rectangle 9" descr=""/>
            <p:cNvPicPr/>
            <p:nvPr/>
          </p:nvPicPr>
          <p:blipFill>
            <a:blip r:embed="rId2"/>
            <a:stretch/>
          </p:blipFill>
          <p:spPr>
            <a:xfrm>
              <a:off x="682560" y="4950000"/>
              <a:ext cx="778500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685800" y="4952880"/>
              <a:ext cx="77724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08d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424e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820101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303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3A33-102F-4AC4-A95E-9773BBB3A270}" type="slidenum">
              <a:rPr b="0" lang="ru-RU" sz="1200" spc="-1" strike="noStrike">
                <a:solidFill>
                  <a:srgbClr val="30303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08d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424e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820101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303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9581-551D-491E-A677-3B42FF9EE2BA}" type="slidenum">
              <a:rPr b="0" lang="ru-RU" sz="1200" spc="-1" strike="noStrike">
                <a:solidFill>
                  <a:srgbClr val="30303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1280" y="2938320"/>
            <a:ext cx="7156440" cy="2475000"/>
            <a:chOff x="341280" y="2938320"/>
            <a:chExt cx="7156440" cy="2475000"/>
          </a:xfrm>
        </p:grpSpPr>
        <p:pic>
          <p:nvPicPr>
            <p:cNvPr id="50" name="Rectangle 8" descr=""/>
            <p:cNvPicPr/>
            <p:nvPr/>
          </p:nvPicPr>
          <p:blipFill>
            <a:blip r:embed="rId2"/>
            <a:stretch/>
          </p:blipFill>
          <p:spPr>
            <a:xfrm>
              <a:off x="341280" y="2938320"/>
              <a:ext cx="7156440" cy="24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5960" y="2943360"/>
              <a:ext cx="714708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64320" y="2938320"/>
            <a:ext cx="1208160" cy="2475000"/>
            <a:chOff x="7564320" y="2938320"/>
            <a:chExt cx="1208160" cy="2475000"/>
          </a:xfrm>
        </p:grpSpPr>
        <p:pic>
          <p:nvPicPr>
            <p:cNvPr id="53" name="Rectangle 11" descr=""/>
            <p:cNvPicPr/>
            <p:nvPr/>
          </p:nvPicPr>
          <p:blipFill>
            <a:blip r:embed="rId3"/>
            <a:stretch/>
          </p:blipFill>
          <p:spPr>
            <a:xfrm>
              <a:off x="7564320" y="2938320"/>
              <a:ext cx="1208160" cy="24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82c0e6">
              <a:alpha val="70000"/>
            </a:srgbClr>
          </a:solidFill>
          <a:ln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C:\Users\Владелец\Desktop\фон.png"/>
          <p:cNvPicPr/>
          <p:nvPr/>
        </p:nvPicPr>
        <p:blipFill>
          <a:blip r:embed="rId4"/>
          <a:stretch/>
        </p:blipFill>
        <p:spPr>
          <a:xfrm>
            <a:off x="446040" y="222120"/>
            <a:ext cx="3473640" cy="2565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08d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424e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820101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303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0206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0D6A-0596-4F58-BCC7-94A1E1D90087}" type="slidenum"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Rectangle 8"/>
          <p:cNvGrpSpPr/>
          <p:nvPr/>
        </p:nvGrpSpPr>
        <p:grpSpPr>
          <a:xfrm>
            <a:off x="268200" y="274680"/>
            <a:ext cx="8607600" cy="1334880"/>
            <a:chOff x="268200" y="274680"/>
            <a:chExt cx="8607600" cy="1334880"/>
          </a:xfrm>
        </p:grpSpPr>
        <p:pic>
          <p:nvPicPr>
            <p:cNvPr id="104" name="Rectangle 8" descr=""/>
            <p:cNvPicPr/>
            <p:nvPr/>
          </p:nvPicPr>
          <p:blipFill>
            <a:blip r:embed="rId2"/>
            <a:stretch/>
          </p:blipFill>
          <p:spPr>
            <a:xfrm>
              <a:off x="268200" y="274680"/>
              <a:ext cx="8607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274680" y="277920"/>
              <a:ext cx="8594640" cy="13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C:\Users\Владелец\Desktop\фон.png"/>
          <p:cNvPicPr/>
          <p:nvPr/>
        </p:nvPicPr>
        <p:blipFill>
          <a:blip r:embed="rId3"/>
          <a:stretch/>
        </p:blipFill>
        <p:spPr>
          <a:xfrm>
            <a:off x="395280" y="333360"/>
            <a:ext cx="1515960" cy="11174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08d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424e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820101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303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1204-BD37-4A94-AB98-6008A60F603E}" type="slidenum">
              <a:rPr b="0" lang="ru-RU" sz="1200" spc="-1" strike="noStrike">
                <a:solidFill>
                  <a:srgbClr val="30303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Rectangle 8"/>
          <p:cNvGrpSpPr/>
          <p:nvPr/>
        </p:nvGrpSpPr>
        <p:grpSpPr>
          <a:xfrm>
            <a:off x="268200" y="274680"/>
            <a:ext cx="8607600" cy="1334880"/>
            <a:chOff x="268200" y="274680"/>
            <a:chExt cx="8607600" cy="1334880"/>
          </a:xfrm>
        </p:grpSpPr>
        <p:pic>
          <p:nvPicPr>
            <p:cNvPr id="152" name="Rectangle 8" descr=""/>
            <p:cNvPicPr/>
            <p:nvPr/>
          </p:nvPicPr>
          <p:blipFill>
            <a:blip r:embed="rId2"/>
            <a:stretch/>
          </p:blipFill>
          <p:spPr>
            <a:xfrm>
              <a:off x="268200" y="274680"/>
              <a:ext cx="8607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74680" y="277920"/>
              <a:ext cx="8594640" cy="13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C:\Users\Владелец\Desktop\фон.png"/>
          <p:cNvPicPr/>
          <p:nvPr/>
        </p:nvPicPr>
        <p:blipFill>
          <a:blip r:embed="rId3"/>
          <a:stretch/>
        </p:blipFill>
        <p:spPr>
          <a:xfrm>
            <a:off x="395280" y="333360"/>
            <a:ext cx="1515960" cy="11174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08d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424e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820101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303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5A2B-0114-42D2-8462-3B655159EBF9}" type="slidenum">
              <a:rPr b="0" lang="ru-RU" sz="1200" spc="-1" strike="noStrike">
                <a:solidFill>
                  <a:srgbClr val="30303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Rectangle 12"/>
          <p:cNvGrpSpPr/>
          <p:nvPr/>
        </p:nvGrpSpPr>
        <p:grpSpPr>
          <a:xfrm>
            <a:off x="444600" y="2938320"/>
            <a:ext cx="8278560" cy="2481480"/>
            <a:chOff x="444600" y="2938320"/>
            <a:chExt cx="8278560" cy="2481480"/>
          </a:xfrm>
        </p:grpSpPr>
        <p:pic>
          <p:nvPicPr>
            <p:cNvPr id="200" name="Rectangle 12" descr=""/>
            <p:cNvPicPr/>
            <p:nvPr/>
          </p:nvPicPr>
          <p:blipFill>
            <a:blip r:embed="rId2"/>
            <a:stretch/>
          </p:blipFill>
          <p:spPr>
            <a:xfrm>
              <a:off x="444600" y="2938320"/>
              <a:ext cx="8278560" cy="24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0070c0"/>
          </a:solidFill>
          <a:ln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3" descr="C:\Users\Владелец\Desktop\фон.png"/>
          <p:cNvPicPr/>
          <p:nvPr/>
        </p:nvPicPr>
        <p:blipFill>
          <a:blip r:embed="rId3"/>
          <a:stretch/>
        </p:blipFill>
        <p:spPr>
          <a:xfrm>
            <a:off x="446040" y="222120"/>
            <a:ext cx="3473640" cy="25653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08d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424e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820101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303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4E1B-5AF8-4106-8B20-2FE42FCFD4A5}" type="slidenum">
              <a:rPr b="0" lang="ru-RU" sz="1200" spc="-1" strike="noStrike">
                <a:solidFill>
                  <a:srgbClr val="30303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Rectangle 8"/>
          <p:cNvGrpSpPr/>
          <p:nvPr/>
        </p:nvGrpSpPr>
        <p:grpSpPr>
          <a:xfrm>
            <a:off x="268200" y="274680"/>
            <a:ext cx="8607600" cy="1334880"/>
            <a:chOff x="268200" y="274680"/>
            <a:chExt cx="8607600" cy="1334880"/>
          </a:xfrm>
        </p:grpSpPr>
        <p:pic>
          <p:nvPicPr>
            <p:cNvPr id="250" name="Rectangle 8" descr=""/>
            <p:cNvPicPr/>
            <p:nvPr/>
          </p:nvPicPr>
          <p:blipFill>
            <a:blip r:embed="rId2"/>
            <a:stretch/>
          </p:blipFill>
          <p:spPr>
            <a:xfrm>
              <a:off x="268200" y="274680"/>
              <a:ext cx="8607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274680" y="277920"/>
              <a:ext cx="8594640" cy="13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3" descr="C:\Users\Владелец\Desktop\фон.png"/>
          <p:cNvPicPr/>
          <p:nvPr/>
        </p:nvPicPr>
        <p:blipFill>
          <a:blip r:embed="rId3"/>
          <a:stretch/>
        </p:blipFill>
        <p:spPr>
          <a:xfrm>
            <a:off x="395280" y="333360"/>
            <a:ext cx="1515960" cy="11174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08d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424e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820101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303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58BF-C1D6-4AAB-B150-33A84647F172}" type="slidenum">
              <a:rPr b="0" lang="ru-RU" sz="1200" spc="-1" strike="noStrike">
                <a:solidFill>
                  <a:srgbClr val="30303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Rectangle 8"/>
          <p:cNvGrpSpPr/>
          <p:nvPr/>
        </p:nvGrpSpPr>
        <p:grpSpPr>
          <a:xfrm>
            <a:off x="268200" y="274680"/>
            <a:ext cx="8607600" cy="1334880"/>
            <a:chOff x="268200" y="274680"/>
            <a:chExt cx="8607600" cy="1334880"/>
          </a:xfrm>
        </p:grpSpPr>
        <p:pic>
          <p:nvPicPr>
            <p:cNvPr id="298" name="Rectangle 8" descr=""/>
            <p:cNvPicPr/>
            <p:nvPr/>
          </p:nvPicPr>
          <p:blipFill>
            <a:blip r:embed="rId2"/>
            <a:stretch/>
          </p:blipFill>
          <p:spPr>
            <a:xfrm>
              <a:off x="268200" y="274680"/>
              <a:ext cx="8607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274680" y="277920"/>
              <a:ext cx="8594640" cy="13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08d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424e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820101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303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00C0-D9FC-45E5-9A5E-4C5F62BEFABA}" type="slidenum">
              <a:rPr b="0" lang="ru-RU" sz="1200" spc="-1" strike="noStrike">
                <a:solidFill>
                  <a:srgbClr val="30303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Rectangle 8"/>
          <p:cNvGrpSpPr/>
          <p:nvPr/>
        </p:nvGrpSpPr>
        <p:grpSpPr>
          <a:xfrm>
            <a:off x="268200" y="274680"/>
            <a:ext cx="8607600" cy="1334880"/>
            <a:chOff x="268200" y="274680"/>
            <a:chExt cx="8607600" cy="1334880"/>
          </a:xfrm>
        </p:grpSpPr>
        <p:pic>
          <p:nvPicPr>
            <p:cNvPr id="345" name="Rectangle 8" descr=""/>
            <p:cNvPicPr/>
            <p:nvPr/>
          </p:nvPicPr>
          <p:blipFill>
            <a:blip r:embed="rId2"/>
            <a:stretch/>
          </p:blipFill>
          <p:spPr>
            <a:xfrm>
              <a:off x="268200" y="274680"/>
              <a:ext cx="8607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274680" y="277920"/>
              <a:ext cx="8594640" cy="13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08d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424e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820101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303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2554-1556-40B0-80B0-8AFAAE294F68}" type="slidenum">
              <a:rPr b="0" lang="ru-RU" sz="1200" spc="-1" strike="noStrike">
                <a:solidFill>
                  <a:srgbClr val="30303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08d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424e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820101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303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2A94-D434-4FCE-BF28-432765D50275}" type="slidenum">
              <a:rPr b="0" lang="ru-RU" sz="1200" spc="-1" strike="noStrike">
                <a:solidFill>
                  <a:srgbClr val="30303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04440" y="3500280"/>
            <a:ext cx="662940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ФЕСТИВАЛЬ ТОЛЕРАНТНОСТИ КАК ЭФФЕКТИВНОЕ СРЕДСТВО ФОРМИРОВАНИЯ НРАВСТВЕННОГО САМОСОЗНАНИЯ ОБУЧАЮЩИХСЯ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В КОЛЛЕКТИВНОЙ ТВОРЧЕСКОЙ ДЕЯТЕЛЬНОСТИ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1144440" y="4642920"/>
            <a:ext cx="59486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авцова Т.В., заместитель директора </a:t>
            </a:r>
            <a:endParaRPr b="0" lang="en-US" sz="1800" spc="-1" strike="noStrike">
              <a:solidFill>
                <a:srgbClr val="303030"/>
              </a:solidFill>
              <a:latin typeface="Century Gothic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БОУ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«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редняя школа № 3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»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г. Смоленска</a:t>
            </a:r>
            <a:endParaRPr b="0" lang="en-US" sz="18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324000" y="1988640"/>
            <a:ext cx="846288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065a"/>
                </a:solidFill>
                <a:latin typeface="Arial"/>
                <a:ea typeface="Arial"/>
              </a:rPr>
              <a:t> </a:t>
            </a:r>
            <a:r>
              <a:rPr b="0" lang="ru-RU" sz="2600" spc="-1" strike="noStrike">
                <a:solidFill>
                  <a:srgbClr val="1c065a"/>
                </a:solidFill>
                <a:latin typeface="Arial"/>
                <a:ea typeface="Arial"/>
              </a:rPr>
              <a:t>НАПРАВЛЕНИЕ Программы воспитания </a:t>
            </a:r>
            <a:endParaRPr b="0" lang="en-US" sz="26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c065a"/>
                </a:solidFill>
                <a:latin typeface="Arial"/>
                <a:ea typeface="Arial"/>
              </a:rPr>
              <a:t>   </a:t>
            </a:r>
            <a:r>
              <a:rPr b="0" lang="ru-RU" sz="2600" spc="-1" strike="noStrike">
                <a:solidFill>
                  <a:srgbClr val="1c065a"/>
                </a:solidFill>
                <a:latin typeface="Arial"/>
                <a:ea typeface="Arial"/>
              </a:rPr>
              <a:t>и социализации обучающихся: </a:t>
            </a:r>
            <a:endParaRPr b="0" lang="en-US" sz="26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c065a"/>
                </a:solidFill>
                <a:latin typeface="Arial"/>
                <a:ea typeface="Arial"/>
              </a:rPr>
              <a:t>   </a:t>
            </a:r>
            <a:r>
              <a:rPr b="0" lang="ru-RU" sz="2600" spc="-1" strike="noStrike">
                <a:solidFill>
                  <a:srgbClr val="1c065a"/>
                </a:solidFill>
                <a:latin typeface="Arial"/>
                <a:ea typeface="Arial"/>
              </a:rPr>
              <a:t>Воспитание нравственных чувств, убеждений,    этического сознания</a:t>
            </a:r>
            <a:endParaRPr b="0" lang="en-US" sz="26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c065a"/>
                </a:solidFill>
                <a:latin typeface="Arial"/>
                <a:ea typeface="Arial"/>
              </a:rPr>
              <a:t>ВОЗРАСТ УЧАСТНИКОВ: 13-14 лет (5-7 класс) </a:t>
            </a:r>
            <a:endParaRPr b="0" lang="en-US" sz="26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c065a"/>
                </a:solidFill>
                <a:latin typeface="Arial"/>
                <a:ea typeface="Arial"/>
              </a:rPr>
              <a:t>ФОРМИРУЕМАЯ ЦЕННОСТЬ: </a:t>
            </a:r>
            <a:endParaRPr b="0" lang="en-US" sz="26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c065a"/>
                </a:solidFill>
                <a:latin typeface="Arial"/>
                <a:ea typeface="Arial"/>
              </a:rPr>
              <a:t>  </a:t>
            </a:r>
            <a:r>
              <a:rPr b="0" lang="ru-RU" sz="2600" spc="-1" strike="noStrike">
                <a:solidFill>
                  <a:srgbClr val="1c065a"/>
                </a:solidFill>
                <a:latin typeface="Arial"/>
                <a:ea typeface="Arial"/>
              </a:rPr>
              <a:t>толерантность как этическая норма</a:t>
            </a:r>
            <a:endParaRPr b="0" lang="en-US" sz="26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74" name="TextBox 3"/>
          <p:cNvSpPr/>
          <p:nvPr/>
        </p:nvSpPr>
        <p:spPr>
          <a:xfrm>
            <a:off x="1785960" y="371520"/>
            <a:ext cx="678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065a"/>
                </a:solidFill>
                <a:latin typeface="Arial"/>
              </a:rPr>
              <a:t>ТЕХНОЛОГИЧЕСКАЯ КАРТА </a:t>
            </a:r>
            <a:br>
              <a:rPr sz="2400"/>
            </a:br>
            <a:r>
              <a:rPr b="0" lang="ru-RU" sz="2400" spc="-1" strike="noStrike">
                <a:solidFill>
                  <a:srgbClr val="1c065a"/>
                </a:solidFill>
                <a:latin typeface="Arial"/>
              </a:rPr>
              <a:t>ФЕСТИВАЛЯ ТОЛЕРАНТНОСТИ </a:t>
            </a:r>
            <a:br>
              <a:rPr sz="2400"/>
            </a:br>
            <a:r>
              <a:rPr b="0" lang="ru-RU" sz="2400" spc="-1" strike="noStrike">
                <a:solidFill>
                  <a:srgbClr val="1c065a"/>
                </a:solidFill>
                <a:latin typeface="Arial"/>
              </a:rPr>
              <a:t>В КОНТЕКСТЕ ТРЕБОВАНИЙ ФГ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457200" y="207180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192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c065a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1c065a"/>
                </a:solidFill>
                <a:latin typeface="Arial"/>
                <a:ea typeface="Arial"/>
              </a:rPr>
              <a:t>ФОРМА ПРОВЕДЕНИЯ: 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2904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065a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1c065a"/>
                </a:solidFill>
                <a:latin typeface="Arial"/>
                <a:ea typeface="Arial"/>
              </a:rPr>
              <a:t>фестиваль, ориентированный на достижение планируемых результатов 1 и 2 уровней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29040" indent="-2192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03030"/>
              </a:solidFill>
              <a:latin typeface="Century Gothic"/>
            </a:endParaRPr>
          </a:p>
          <a:p>
            <a:pPr marL="329040" indent="-2192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065a"/>
                </a:solidFill>
                <a:latin typeface="Arial"/>
                <a:ea typeface="Arial"/>
              </a:rPr>
              <a:t>ВИДЫ ДЕЯТЕЛЬНОСТИ: 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2904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065a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1c065a"/>
                </a:solidFill>
                <a:latin typeface="Arial"/>
                <a:ea typeface="Arial"/>
              </a:rPr>
              <a:t>презентация многообразия культур и народов Российской Федерации в доступных видах творческой деятельности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76" name="TextBox 6"/>
          <p:cNvSpPr/>
          <p:nvPr/>
        </p:nvSpPr>
        <p:spPr>
          <a:xfrm>
            <a:off x="1857240" y="371520"/>
            <a:ext cx="678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065a"/>
                </a:solidFill>
                <a:latin typeface="Arial"/>
              </a:rPr>
              <a:t>ТЕХНОЛОГИЧЕСКАЯ КАРТА </a:t>
            </a:r>
            <a:br>
              <a:rPr sz="2400"/>
            </a:br>
            <a:r>
              <a:rPr b="0" lang="ru-RU" sz="2400" spc="-1" strike="noStrike">
                <a:solidFill>
                  <a:srgbClr val="1c065a"/>
                </a:solidFill>
                <a:latin typeface="Arial"/>
              </a:rPr>
              <a:t>ФЕСТИВАЛЯ ТОЛЕРАНТНОСТИ </a:t>
            </a:r>
            <a:br>
              <a:rPr sz="2400"/>
            </a:br>
            <a:r>
              <a:rPr b="0" lang="ru-RU" sz="2400" spc="-1" strike="noStrike">
                <a:solidFill>
                  <a:srgbClr val="1c065a"/>
                </a:solidFill>
                <a:latin typeface="Arial"/>
              </a:rPr>
              <a:t>В КОНТЕКСТЕ ТРЕБОВАНИЙ ФГ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7" name=""/>
          <p:cNvGraphicFramePr/>
          <p:nvPr/>
        </p:nvGraphicFramePr>
        <p:xfrm>
          <a:off x="571680" y="1857240"/>
          <a:ext cx="8143560" cy="4635720"/>
        </p:xfrm>
        <a:graphic>
          <a:graphicData uri="http://schemas.openxmlformats.org/drawingml/2006/table">
            <a:tbl>
              <a:tblPr/>
              <a:tblGrid>
                <a:gridCol w="3071520"/>
                <a:gridCol w="5072040"/>
              </a:tblGrid>
              <a:tr h="70668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c065a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1c065a"/>
                          </a:solidFill>
                          <a:latin typeface="Arial"/>
                          <a:ea typeface="Calibri"/>
                        </a:rPr>
                        <a:t>Блок личностны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c065a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1c065a"/>
                          </a:solidFill>
                          <a:latin typeface="Arial"/>
                          <a:ea typeface="Calibri"/>
                        </a:rPr>
                        <a:t>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 w="5760">
                      <a:solidFill>
                        <a:srgbClr val="1c065a"/>
                      </a:solidFill>
                    </a:lnR>
                    <a:lnT>
                      <a:noFill/>
                    </a:lnT>
                    <a:lnB w="5760">
                      <a:solidFill>
                        <a:srgbClr val="1c065a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c065a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1c065a"/>
                          </a:solidFill>
                          <a:latin typeface="Arial"/>
                          <a:ea typeface="Calibri"/>
                        </a:rPr>
                        <a:t>Уровни воспитательных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1c065a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c065a"/>
                      </a:solidFill>
                    </a:lnB>
                    <a:noFill/>
                  </a:tcPr>
                </a:tc>
              </a:tr>
              <a:tr h="2194920">
                <a:tc rowSpan="2">
                  <a:txBody>
                    <a:bodyPr lIns="66960" rIns="669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1c065a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1" i="1" lang="ru-RU" sz="1800" spc="-1" strike="noStrike">
                          <a:solidFill>
                            <a:srgbClr val="1c065a"/>
                          </a:solidFill>
                          <a:latin typeface="Arial"/>
                          <a:ea typeface="Calibri"/>
                        </a:rPr>
                        <a:t>Морально-этическая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1c065a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1" i="1" lang="ru-RU" sz="1800" spc="-1" strike="noStrike">
                          <a:solidFill>
                            <a:srgbClr val="1c065a"/>
                          </a:solidFill>
                          <a:latin typeface="Arial"/>
                          <a:ea typeface="Calibri"/>
                        </a:rPr>
                        <a:t>ориентаци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c065a"/>
                          </a:solidFill>
                          <a:latin typeface="Arial"/>
                          <a:ea typeface="Calibri"/>
                        </a:rPr>
                        <a:t>- нравственные нормы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c065a"/>
                          </a:solidFill>
                          <a:latin typeface="Arial"/>
                          <a:ea typeface="Calibri"/>
                        </a:rPr>
                        <a:t>- ценностно-смысловы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c065a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1c065a"/>
                          </a:solidFill>
                          <a:latin typeface="Arial"/>
                          <a:ea typeface="Calibri"/>
                        </a:rPr>
                        <a:t>установк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c065a"/>
                          </a:solidFill>
                          <a:latin typeface="Arial"/>
                          <a:ea typeface="Calibri"/>
                        </a:rPr>
                        <a:t>- опыт социальног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c065a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1c065a"/>
                          </a:solidFill>
                          <a:latin typeface="Arial"/>
                          <a:ea typeface="Calibri"/>
                        </a:rPr>
                        <a:t>и межличностного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c065a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1c065a"/>
                          </a:solidFill>
                          <a:latin typeface="Arial"/>
                          <a:ea typeface="Calibri"/>
                        </a:rPr>
                        <a:t>взаимодейств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 w="5760">
                      <a:solidFill>
                        <a:srgbClr val="1c065a"/>
                      </a:solidFill>
                    </a:lnR>
                    <a:lnT w="5760">
                      <a:solidFill>
                        <a:srgbClr val="1c065a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1c065a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1" i="1" lang="ru-RU" sz="1800" spc="-1" strike="noStrike">
                          <a:solidFill>
                            <a:srgbClr val="1c065a"/>
                          </a:solidFill>
                          <a:latin typeface="Arial"/>
                          <a:ea typeface="Calibri"/>
                        </a:rPr>
                        <a:t>1 уровень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c065a"/>
                          </a:solidFill>
                          <a:latin typeface="Arial"/>
                          <a:ea typeface="Calibri"/>
                        </a:rPr>
                        <a:t>- представления о моральных норма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c065a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1c065a"/>
                          </a:solidFill>
                          <a:latin typeface="Arial"/>
                          <a:ea typeface="Calibri"/>
                        </a:rPr>
                        <a:t>и правилах нравственного поведения между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c065a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1c065a"/>
                          </a:solidFill>
                          <a:latin typeface="Arial"/>
                          <a:ea typeface="Calibri"/>
                        </a:rPr>
                        <a:t>этносам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c065a"/>
                          </a:solidFill>
                          <a:latin typeface="Arial"/>
                          <a:ea typeface="Calibri"/>
                        </a:rPr>
                        <a:t>- понимание индивидуаль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c065a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1c065a"/>
                          </a:solidFill>
                          <a:latin typeface="Arial"/>
                          <a:ea typeface="Calibri"/>
                        </a:rPr>
                        <a:t>и самобытности национальных культу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c065a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1c065a"/>
                          </a:solidFill>
                          <a:latin typeface="Arial"/>
                          <a:ea typeface="Calibri"/>
                        </a:rPr>
                        <a:t>народов Росс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1c065a"/>
                      </a:solidFill>
                    </a:lnL>
                    <a:lnR>
                      <a:noFill/>
                    </a:lnR>
                    <a:lnT w="5760">
                      <a:solidFill>
                        <a:srgbClr val="1c065a"/>
                      </a:solidFill>
                    </a:lnT>
                    <a:lnB w="5760">
                      <a:solidFill>
                        <a:srgbClr val="1c065a"/>
                      </a:solidFill>
                    </a:lnB>
                    <a:noFill/>
                  </a:tcPr>
                </a:tc>
              </a:tr>
              <a:tr h="173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1c065a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1" i="1" lang="ru-RU" sz="1800" spc="-1" strike="noStrike">
                          <a:solidFill>
                            <a:srgbClr val="1c065a"/>
                          </a:solidFill>
                          <a:latin typeface="Arial"/>
                          <a:ea typeface="Calibri"/>
                        </a:rPr>
                        <a:t>2 уровень</a:t>
                      </a:r>
                      <a:r>
                        <a:rPr b="0" i="1" lang="ru-RU" sz="1800" spc="-1" strike="noStrike">
                          <a:solidFill>
                            <a:srgbClr val="1c065a"/>
                          </a:solidFill>
                          <a:latin typeface="Arial"/>
                          <a:ea typeface="Calibri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c065a"/>
                          </a:solidFill>
                          <a:latin typeface="Arial"/>
                          <a:ea typeface="Calibri"/>
                        </a:rPr>
                        <a:t>- чувство дружбы к представителям разных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c065a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1c065a"/>
                          </a:solidFill>
                          <a:latin typeface="Arial"/>
                          <a:ea typeface="Calibri"/>
                        </a:rPr>
                        <a:t>национальностей РФ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c065a"/>
                          </a:solidFill>
                          <a:latin typeface="Arial"/>
                          <a:ea typeface="Calibri"/>
                        </a:rPr>
                        <a:t>- опыт эмоционального постижения традиц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c065a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1c065a"/>
                          </a:solidFill>
                          <a:latin typeface="Arial"/>
                          <a:ea typeface="Calibri"/>
                        </a:rPr>
                        <a:t>и культур других народов в разных вида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c065a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1c065a"/>
                          </a:solidFill>
                          <a:latin typeface="Arial"/>
                          <a:ea typeface="Calibri"/>
                        </a:rPr>
                        <a:t>творческ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1c065a"/>
                      </a:solidFill>
                    </a:lnL>
                    <a:lnR>
                      <a:noFill/>
                    </a:lnR>
                    <a:lnT w="5760">
                      <a:solidFill>
                        <a:srgbClr val="1c065a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8" name="TextBox 5"/>
          <p:cNvSpPr/>
          <p:nvPr/>
        </p:nvSpPr>
        <p:spPr>
          <a:xfrm>
            <a:off x="2000160" y="642960"/>
            <a:ext cx="64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c065a"/>
                </a:solidFill>
                <a:latin typeface="Arial"/>
              </a:rPr>
              <a:t>ОЖИДАЕМЫЕ РЕЗУЛЬТАТ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Box 3"/>
          <p:cNvSpPr/>
          <p:nvPr/>
        </p:nvSpPr>
        <p:spPr>
          <a:xfrm>
            <a:off x="357120" y="2000160"/>
            <a:ext cx="8572680" cy="39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1c06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065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c065a"/>
                </a:solidFill>
                <a:latin typeface="Arial"/>
              </a:rPr>
              <a:t>ВОСПИТАТЕЛЬНЫЙ ЭФФЕКТ: толерантное отнош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065a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1c065a"/>
                </a:solidFill>
                <a:latin typeface="Arial"/>
              </a:rPr>
              <a:t>к окружающим людям, готовность к конструктивно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065a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1c065a"/>
                </a:solidFill>
                <a:latin typeface="Arial"/>
              </a:rPr>
              <a:t>взаимодействию с носителями разных убежде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065a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1c065a"/>
                </a:solidFill>
                <a:latin typeface="Arial"/>
              </a:rPr>
              <a:t>представителями разных народов и различ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065a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1c065a"/>
                </a:solidFill>
                <a:latin typeface="Arial"/>
              </a:rPr>
              <a:t>социальных груп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1c06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065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c065a"/>
                </a:solidFill>
                <a:latin typeface="Arial"/>
              </a:rPr>
              <a:t>ЭФФЕКТИВНОСТЬ ВОСПИТАТЕЛЬНОЙ ФОР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065a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1c065a"/>
                </a:solidFill>
                <a:latin typeface="Arial"/>
              </a:rPr>
              <a:t>с позиции современных требований: мажорный то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065a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1c065a"/>
                </a:solidFill>
                <a:latin typeface="Arial"/>
              </a:rPr>
              <a:t>эмоциональная окраска, игровая инструментов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065a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1c065a"/>
                </a:solidFill>
                <a:latin typeface="Arial"/>
              </a:rPr>
              <a:t>вариативность, формирование позитивного социаль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065a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1c065a"/>
                </a:solidFill>
                <a:latin typeface="Arial"/>
              </a:rPr>
              <a:t>опыта на уровне доброжелательных отно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6"/>
          <p:cNvSpPr/>
          <p:nvPr/>
        </p:nvSpPr>
        <p:spPr>
          <a:xfrm>
            <a:off x="1785960" y="371520"/>
            <a:ext cx="678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065a"/>
                </a:solidFill>
                <a:latin typeface="Arial"/>
              </a:rPr>
              <a:t>ТЕХНОЛОГИЧЕСКАЯ КАРТА </a:t>
            </a:r>
            <a:br>
              <a:rPr sz="2400"/>
            </a:br>
            <a:r>
              <a:rPr b="0" lang="ru-RU" sz="2400" spc="-1" strike="noStrike">
                <a:solidFill>
                  <a:srgbClr val="1c065a"/>
                </a:solidFill>
                <a:latin typeface="Arial"/>
              </a:rPr>
              <a:t>ФЕСТИВАЛЯ ТОЛЕРАНТНОСТИ </a:t>
            </a:r>
            <a:br>
              <a:rPr sz="2400"/>
            </a:br>
            <a:r>
              <a:rPr b="0" lang="ru-RU" sz="2400" spc="-1" strike="noStrike">
                <a:solidFill>
                  <a:srgbClr val="1c065a"/>
                </a:solidFill>
                <a:latin typeface="Arial"/>
              </a:rPr>
              <a:t>В КОНТЕКСТЕ ТРЕБОВАНИЙ ФГ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Box 3"/>
          <p:cNvSpPr/>
          <p:nvPr/>
        </p:nvSpPr>
        <p:spPr>
          <a:xfrm>
            <a:off x="500040" y="1643040"/>
            <a:ext cx="8643960" cy="49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c06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065a"/>
                </a:solidFill>
                <a:latin typeface="Arial"/>
              </a:rPr>
              <a:t> </a:t>
            </a:r>
            <a:r>
              <a:rPr b="0" lang="ru-RU" sz="2300" spc="-1" strike="noStrike" u="sng">
                <a:solidFill>
                  <a:srgbClr val="1c065a"/>
                </a:solidFill>
                <a:uFillTx/>
                <a:latin typeface="Arial"/>
              </a:rPr>
              <a:t>Психологический аспек</a:t>
            </a:r>
            <a:r>
              <a:rPr b="0" lang="ru-RU" sz="2300" spc="-1" strike="noStrike">
                <a:solidFill>
                  <a:srgbClr val="1c065a"/>
                </a:solidFill>
                <a:latin typeface="Arial"/>
              </a:rPr>
              <a:t>т – создание доброжелательной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c065a"/>
                </a:solidFill>
                <a:latin typeface="Arial"/>
              </a:rPr>
              <a:t>  </a:t>
            </a:r>
            <a:r>
              <a:rPr b="0" lang="ru-RU" sz="2300" spc="-1" strike="noStrike">
                <a:solidFill>
                  <a:srgbClr val="1c065a"/>
                </a:solidFill>
                <a:latin typeface="Arial"/>
              </a:rPr>
              <a:t>атмосферы в ОУ для детей разных национальностей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06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065a"/>
                </a:solidFill>
                <a:latin typeface="Arial"/>
              </a:rPr>
              <a:t> </a:t>
            </a:r>
            <a:r>
              <a:rPr b="0" lang="ru-RU" sz="2300" spc="-1" strike="noStrike" u="sng">
                <a:solidFill>
                  <a:srgbClr val="1c065a"/>
                </a:solidFill>
                <a:uFillTx/>
                <a:latin typeface="Arial"/>
              </a:rPr>
              <a:t>Познавательный аспект </a:t>
            </a:r>
            <a:r>
              <a:rPr b="0" lang="ru-RU" sz="2300" spc="-1" strike="noStrike">
                <a:solidFill>
                  <a:srgbClr val="1c065a"/>
                </a:solidFill>
                <a:latin typeface="Arial"/>
              </a:rPr>
              <a:t>– система представлений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c065a"/>
                </a:solidFill>
                <a:latin typeface="Arial"/>
              </a:rPr>
              <a:t>  </a:t>
            </a:r>
            <a:r>
              <a:rPr b="0" lang="ru-RU" sz="2300" spc="-1" strike="noStrike">
                <a:solidFill>
                  <a:srgbClr val="1c065a"/>
                </a:solidFill>
                <a:latin typeface="Arial"/>
              </a:rPr>
              <a:t>о народах РФ, толерантности как норме нравственных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c065a"/>
                </a:solidFill>
                <a:latin typeface="Arial"/>
              </a:rPr>
              <a:t>  </a:t>
            </a:r>
            <a:r>
              <a:rPr b="0" lang="ru-RU" sz="2300" spc="-1" strike="noStrike">
                <a:solidFill>
                  <a:srgbClr val="1c065a"/>
                </a:solidFill>
                <a:latin typeface="Arial"/>
              </a:rPr>
              <a:t>взаимоотношений между людьми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 u="sng">
                <a:solidFill>
                  <a:srgbClr val="1c065a"/>
                </a:solidFill>
                <a:uFillTx/>
                <a:latin typeface="Arial"/>
              </a:rPr>
              <a:t>Воспитательный аспект</a:t>
            </a:r>
            <a:r>
              <a:rPr b="0" lang="ru-RU" sz="2300" spc="-1" strike="noStrike">
                <a:solidFill>
                  <a:srgbClr val="1c065a"/>
                </a:solidFill>
                <a:latin typeface="Arial"/>
              </a:rPr>
              <a:t>–индивидуальная и коллективна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c065a"/>
                </a:solidFill>
                <a:latin typeface="Arial"/>
              </a:rPr>
              <a:t>  </a:t>
            </a:r>
            <a:r>
              <a:rPr b="0" lang="ru-RU" sz="2300" spc="-1" strike="noStrike">
                <a:solidFill>
                  <a:srgbClr val="1c065a"/>
                </a:solidFill>
                <a:latin typeface="Arial"/>
              </a:rPr>
              <a:t>ответственность за порученное дело, опыт совместной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c065a"/>
                </a:solidFill>
                <a:latin typeface="Arial"/>
              </a:rPr>
              <a:t>  </a:t>
            </a:r>
            <a:r>
              <a:rPr b="0" lang="ru-RU" sz="2300" spc="-1" strike="noStrike">
                <a:solidFill>
                  <a:srgbClr val="1c065a"/>
                </a:solidFill>
                <a:latin typeface="Arial"/>
              </a:rPr>
              <a:t>деятельности, готовность к установлению дружеских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c065a"/>
                </a:solidFill>
                <a:latin typeface="Arial"/>
              </a:rPr>
              <a:t>  </a:t>
            </a:r>
            <a:r>
              <a:rPr b="0" lang="ru-RU" sz="2300" spc="-1" strike="noStrike">
                <a:solidFill>
                  <a:srgbClr val="1c065a"/>
                </a:solidFill>
                <a:latin typeface="Arial"/>
              </a:rPr>
              <a:t>отношений между представителями разных  народов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06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c065a"/>
                </a:solidFill>
                <a:latin typeface="Arial"/>
              </a:rPr>
              <a:t> </a:t>
            </a:r>
            <a:r>
              <a:rPr b="0" lang="ru-RU" sz="2300" spc="-1" strike="noStrike" u="sng">
                <a:solidFill>
                  <a:srgbClr val="1c065a"/>
                </a:solidFill>
                <a:uFillTx/>
                <a:latin typeface="Arial"/>
              </a:rPr>
              <a:t>Технологичность</a:t>
            </a:r>
            <a:r>
              <a:rPr b="0" lang="ru-RU" sz="2300" spc="-1" strike="noStrike">
                <a:solidFill>
                  <a:srgbClr val="1c065a"/>
                </a:solidFill>
                <a:latin typeface="Arial"/>
              </a:rPr>
              <a:t> – единство замысла, вариативность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c065a"/>
                </a:solidFill>
                <a:latin typeface="Arial"/>
              </a:rPr>
              <a:t>  </a:t>
            </a:r>
            <a:r>
              <a:rPr b="0" lang="ru-RU" sz="2300" spc="-1" strike="noStrike">
                <a:solidFill>
                  <a:srgbClr val="1c065a"/>
                </a:solidFill>
                <a:latin typeface="Arial"/>
              </a:rPr>
              <a:t>тематики и методов демонстрации, соревновательный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c065a"/>
                </a:solidFill>
                <a:latin typeface="Arial"/>
              </a:rPr>
              <a:t>  </a:t>
            </a:r>
            <a:r>
              <a:rPr b="0" lang="ru-RU" sz="2300" spc="-1" strike="noStrike">
                <a:solidFill>
                  <a:srgbClr val="1c065a"/>
                </a:solidFill>
                <a:latin typeface="Arial"/>
              </a:rPr>
              <a:t>характер, эмоциональное переживание проблемы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c065a"/>
                </a:solidFill>
                <a:latin typeface="Arial"/>
              </a:rPr>
              <a:t>  </a:t>
            </a:r>
            <a:r>
              <a:rPr b="0" lang="ru-RU" sz="2300" spc="-1" strike="noStrike">
                <a:solidFill>
                  <a:srgbClr val="1c065a"/>
                </a:solidFill>
                <a:latin typeface="Arial"/>
              </a:rPr>
              <a:t>в творческой деятельности</a:t>
            </a:r>
            <a:r>
              <a:rPr b="0" lang="ru-RU" sz="2400" spc="-1" strike="noStrike">
                <a:solidFill>
                  <a:srgbClr val="1c065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5"/>
          <p:cNvSpPr/>
          <p:nvPr/>
        </p:nvSpPr>
        <p:spPr>
          <a:xfrm>
            <a:off x="2000160" y="571680"/>
            <a:ext cx="700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c065a"/>
                </a:solidFill>
                <a:latin typeface="Arial"/>
              </a:rPr>
              <a:t>ПРЕИМУЩЕСТВА ФОРМЫ ВОСПИТА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42600" y="46483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endParaRPr b="0" lang="en-US" sz="1800" spc="-1" strike="noStrike">
              <a:solidFill>
                <a:srgbClr val="303030"/>
              </a:solidFill>
              <a:latin typeface="Century Gothic"/>
            </a:endParaRPr>
          </a:p>
          <a:p>
            <a:pPr marL="114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604440" y="32270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СПАСИБО ЗА ВНИМАНИЕ!</a:t>
            </a:r>
            <a:endParaRPr b="0" lang="en-US" sz="3600" spc="-1" strike="noStrike">
              <a:solidFill>
                <a:srgbClr val="82010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3T14:22:31Z</dcterms:created>
  <dc:creator>Орешкова</dc:creator>
  <dc:description/>
  <dc:language>en-US</dc:language>
  <cp:lastModifiedBy>Наталья</cp:lastModifiedBy>
  <cp:lastPrinted>2014-09-04T05:52:33Z</cp:lastPrinted>
  <dcterms:modified xsi:type="dcterms:W3CDTF">2016-09-25T15:53:59Z</dcterms:modified>
  <cp:revision>110</cp:revision>
  <dc:subject/>
  <dc:title>Презентация PowerPoint</dc:title>
</cp:coreProperties>
</file>