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C51-23D3-4EA7-B279-0F9EB3BE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F40-9193-40F8-A518-968D5EA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0D5-986D-4F8C-BAF8-230C950E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60F-8EE4-4792-9E73-03BBABD7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E87-576A-44EF-8FC0-F86CDC7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AD2-C96B-4C17-A58E-6959FCD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0F2-5FCC-42C4-8169-5F9C8CF6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A13-B7F5-48E1-94CD-CFA0D24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D20-E128-4975-B150-DE3B6E17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A41-D4D5-4B47-86AD-341456C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18D-5E88-46C2-AAD1-EC22918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3FA-C157-4F3B-B030-F157337A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4F44-1E26-4247-A9E1-94BCCB9BD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image" Target="../media/image2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Передай другом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Цель: изучить особенности передачи веществ по цепям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запомнить местонахождение организмов в табл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ворачивая карточки найди сначала всю саранчу, затем лягушек, ежей (у тебя по 8 попыт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изображение найденного животного отмечено красной точкой, значит это животное накопило в себе дозу я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читай количество накопленного яда в каждом звене цепи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ерехода по слайдам используй стрелку пере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"/>
          <a:stretch/>
        </p:blipFill>
        <p:spPr>
          <a:xfrm>
            <a:off x="4143240" y="2143080"/>
            <a:ext cx="1516320" cy="104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2"/>
          <a:stretch/>
        </p:blipFill>
        <p:spPr>
          <a:xfrm>
            <a:off x="785880" y="221472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3"/>
          <a:stretch/>
        </p:blipFill>
        <p:spPr>
          <a:xfrm>
            <a:off x="4071960" y="3500280"/>
            <a:ext cx="1584360" cy="109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4"/>
          <a:stretch/>
        </p:blipFill>
        <p:spPr>
          <a:xfrm>
            <a:off x="2428920" y="3643200"/>
            <a:ext cx="1189080" cy="10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5"/>
          <a:stretch/>
        </p:blipFill>
        <p:spPr>
          <a:xfrm>
            <a:off x="5857920" y="2143080"/>
            <a:ext cx="1189080" cy="106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6"/>
          <a:stretch/>
        </p:blipFill>
        <p:spPr>
          <a:xfrm>
            <a:off x="4214880" y="78588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Алёна\Конкурс\современный урок 2010\для презентации игры\Еж.jpeg"/>
          <p:cNvPicPr/>
          <p:nvPr/>
        </p:nvPicPr>
        <p:blipFill>
          <a:blip r:embed="rId7"/>
          <a:stretch/>
        </p:blipFill>
        <p:spPr>
          <a:xfrm>
            <a:off x="1000080" y="364320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Алёна\Конкурс\современный урок 2010\для презентации игры\Еж.jpeg"/>
          <p:cNvPicPr/>
          <p:nvPr/>
        </p:nvPicPr>
        <p:blipFill>
          <a:blip r:embed="rId8"/>
          <a:stretch/>
        </p:blipFill>
        <p:spPr>
          <a:xfrm>
            <a:off x="2714760" y="2214720"/>
            <a:ext cx="1288800" cy="100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Алёна\Конкурс\современный урок 2010\для презентации игры\Еж.jpeg"/>
          <p:cNvPicPr/>
          <p:nvPr/>
        </p:nvPicPr>
        <p:blipFill>
          <a:blip r:embed="rId9"/>
          <a:stretch/>
        </p:blipFill>
        <p:spPr>
          <a:xfrm>
            <a:off x="5857920" y="364320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0"/>
          <a:stretch/>
        </p:blipFill>
        <p:spPr>
          <a:xfrm>
            <a:off x="785880" y="521496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1"/>
          <a:stretch/>
        </p:blipFill>
        <p:spPr>
          <a:xfrm>
            <a:off x="4214880" y="500076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:\Алёна\Конкурс\современный урок 2010\для презентации игры\Еж.jpeg"/>
          <p:cNvPicPr/>
          <p:nvPr/>
        </p:nvPicPr>
        <p:blipFill>
          <a:blip r:embed="rId12"/>
          <a:stretch/>
        </p:blipFill>
        <p:spPr>
          <a:xfrm>
            <a:off x="2643120" y="5000760"/>
            <a:ext cx="1289160" cy="100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3"/>
          <a:stretch/>
        </p:blipFill>
        <p:spPr>
          <a:xfrm>
            <a:off x="5715000" y="492912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4"/>
          <a:stretch/>
        </p:blipFill>
        <p:spPr>
          <a:xfrm>
            <a:off x="857160" y="78588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5"/>
          <a:stretch/>
        </p:blipFill>
        <p:spPr>
          <a:xfrm>
            <a:off x="2500200" y="714240"/>
            <a:ext cx="1584360" cy="109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857920" y="785880"/>
            <a:ext cx="128916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>
            <a:off x="7500960" y="785880"/>
            <a:ext cx="128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6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6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2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7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3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75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4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5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8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6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"/>
          <p:cNvGrpSpPr/>
          <p:nvPr/>
        </p:nvGrpSpPr>
        <p:grpSpPr>
          <a:xfrm>
            <a:off x="857160" y="785880"/>
            <a:ext cx="1189080" cy="1063440"/>
            <a:chOff x="857160" y="785880"/>
            <a:chExt cx="1189080" cy="1063440"/>
          </a:xfrm>
        </p:grpSpPr>
        <p:pic>
          <p:nvPicPr>
            <p:cNvPr id="8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7"/>
            <a:stretch/>
          </p:blipFill>
          <p:spPr>
            <a:xfrm>
              <a:off x="857160" y="7858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7-конечная звезда 3"/>
            <p:cNvSpPr/>
            <p:nvPr/>
          </p:nvSpPr>
          <p:spPr>
            <a:xfrm>
              <a:off x="150012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88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8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9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9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94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0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1"/>
          <a:stretch/>
        </p:blipFill>
        <p:spPr>
          <a:xfrm>
            <a:off x="4214880" y="785880"/>
            <a:ext cx="1189080" cy="106344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33"/>
          <p:cNvGrpSpPr/>
          <p:nvPr/>
        </p:nvGrpSpPr>
        <p:grpSpPr>
          <a:xfrm>
            <a:off x="5857920" y="785880"/>
            <a:ext cx="1289160" cy="1006560"/>
            <a:chOff x="5857920" y="785880"/>
            <a:chExt cx="1289160" cy="1006560"/>
          </a:xfrm>
        </p:grpSpPr>
        <p:pic>
          <p:nvPicPr>
            <p:cNvPr id="98" name="Picture 12" descr="D:\Алёна\Конкурс\современный урок 2010\для презентации игры\Еж.jpeg"/>
            <p:cNvPicPr/>
            <p:nvPr/>
          </p:nvPicPr>
          <p:blipFill>
            <a:blip r:embed="rId12"/>
            <a:stretch/>
          </p:blipFill>
          <p:spPr>
            <a:xfrm>
              <a:off x="5857920" y="7858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7-конечная звезда 35"/>
            <p:cNvSpPr/>
            <p:nvPr/>
          </p:nvSpPr>
          <p:spPr>
            <a:xfrm>
              <a:off x="6357960" y="10717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36"/>
          <p:cNvGrpSpPr/>
          <p:nvPr/>
        </p:nvGrpSpPr>
        <p:grpSpPr>
          <a:xfrm>
            <a:off x="2643120" y="2143080"/>
            <a:ext cx="1289160" cy="1006560"/>
            <a:chOff x="2643120" y="2143080"/>
            <a:chExt cx="1289160" cy="1006560"/>
          </a:xfrm>
        </p:grpSpPr>
        <p:pic>
          <p:nvPicPr>
            <p:cNvPr id="101" name="Picture 12" descr="D:\Алёна\Конкурс\современный урок 2010\для презентации игры\Еж.jpeg"/>
            <p:cNvPicPr/>
            <p:nvPr/>
          </p:nvPicPr>
          <p:blipFill>
            <a:blip r:embed="rId13"/>
            <a:stretch/>
          </p:blipFill>
          <p:spPr>
            <a:xfrm>
              <a:off x="26431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7-конечная звезда 38"/>
            <p:cNvSpPr/>
            <p:nvPr/>
          </p:nvSpPr>
          <p:spPr>
            <a:xfrm>
              <a:off x="31431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04" name="Picture 12" descr="D:\Алёна\Конкурс\современный урок 2010\для презентации игры\Еж.jpeg"/>
            <p:cNvPicPr/>
            <p:nvPr/>
          </p:nvPicPr>
          <p:blipFill>
            <a:blip r:embed="rId14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07" name="Picture 12" descr="D:\Алёна\Конкурс\современный урок 2010\для презентации игры\Еж.jpeg"/>
            <p:cNvPicPr/>
            <p:nvPr/>
          </p:nvPicPr>
          <p:blipFill>
            <a:blip r:embed="rId15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3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52761 -0.05255 E">
                                      <p:cBhvr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70868 -0.07338 E">
                                      <p:cBhvr>
                                        <p:cTn id="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0.33854 0.10486 E">
                                      <p:cBhvr>
                                        <p:cTn id="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0.35382 0.03588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0.72882 -0.05672 E">
                                      <p:cBhvr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67362E-019 L 0.18107 0.06296 E">
                                      <p:cBhvr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12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12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2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129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3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4"/>
          <a:stretch/>
        </p:blipFill>
        <p:spPr>
          <a:xfrm>
            <a:off x="4143240" y="571680"/>
            <a:ext cx="1189080" cy="10634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857160" y="571680"/>
            <a:ext cx="1189080" cy="1063440"/>
            <a:chOff x="857160" y="571680"/>
            <a:chExt cx="1189080" cy="1063440"/>
          </a:xfrm>
        </p:grpSpPr>
        <p:pic>
          <p:nvPicPr>
            <p:cNvPr id="13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5"/>
            <a:stretch/>
          </p:blipFill>
          <p:spPr>
            <a:xfrm>
              <a:off x="857160" y="5716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7-конечная звезда 3"/>
            <p:cNvSpPr/>
            <p:nvPr/>
          </p:nvSpPr>
          <p:spPr>
            <a:xfrm>
              <a:off x="1500120" y="9288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139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6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14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7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14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8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15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9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0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15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1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33"/>
          <p:cNvGrpSpPr/>
          <p:nvPr/>
        </p:nvGrpSpPr>
        <p:grpSpPr>
          <a:xfrm>
            <a:off x="5857920" y="785880"/>
            <a:ext cx="1289160" cy="1006560"/>
            <a:chOff x="5857920" y="785880"/>
            <a:chExt cx="1289160" cy="1006560"/>
          </a:xfrm>
        </p:grpSpPr>
        <p:pic>
          <p:nvPicPr>
            <p:cNvPr id="161" name="Picture 12" descr="D:\Алёна\Конкурс\современный урок 2010\для презентации игры\Еж.jpeg"/>
            <p:cNvPicPr/>
            <p:nvPr/>
          </p:nvPicPr>
          <p:blipFill>
            <a:blip r:embed="rId12"/>
            <a:stretch/>
          </p:blipFill>
          <p:spPr>
            <a:xfrm>
              <a:off x="5857920" y="7858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7-конечная звезда 35"/>
            <p:cNvSpPr/>
            <p:nvPr/>
          </p:nvSpPr>
          <p:spPr>
            <a:xfrm>
              <a:off x="6357960" y="10717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36"/>
          <p:cNvGrpSpPr/>
          <p:nvPr/>
        </p:nvGrpSpPr>
        <p:grpSpPr>
          <a:xfrm>
            <a:off x="2643120" y="2143080"/>
            <a:ext cx="1289160" cy="1006560"/>
            <a:chOff x="2643120" y="2143080"/>
            <a:chExt cx="1289160" cy="1006560"/>
          </a:xfrm>
        </p:grpSpPr>
        <p:pic>
          <p:nvPicPr>
            <p:cNvPr id="164" name="Picture 12" descr="D:\Алёна\Конкурс\современный урок 2010\для презентации игры\Еж.jpeg"/>
            <p:cNvPicPr/>
            <p:nvPr/>
          </p:nvPicPr>
          <p:blipFill>
            <a:blip r:embed="rId13"/>
            <a:stretch/>
          </p:blipFill>
          <p:spPr>
            <a:xfrm>
              <a:off x="26431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7-конечная звезда 38"/>
            <p:cNvSpPr/>
            <p:nvPr/>
          </p:nvSpPr>
          <p:spPr>
            <a:xfrm>
              <a:off x="31431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67" name="Picture 12" descr="D:\Алёна\Конкурс\современный урок 2010\для презентации игры\Еж.jpeg"/>
            <p:cNvPicPr/>
            <p:nvPr/>
          </p:nvPicPr>
          <p:blipFill>
            <a:blip r:embed="rId14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70" name="Picture 12" descr="D:\Алёна\Конкурс\современный урок 2010\для презентации игры\Еж.jpeg"/>
            <p:cNvPicPr/>
            <p:nvPr/>
          </p:nvPicPr>
          <p:blipFill>
            <a:blip r:embed="rId15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3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718 L 0.70365 -0.04931 E">
                                      <p:cBhvr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33854 0.12593 E">
                                      <p:cBhvr>
                                        <p:cTn id="13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0.18889 0.07361 E">
                                      <p:cBhvr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0.55122 0.04213 E">
                                      <p:cBhvr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5.18519E-006 L 0.34652 0.01041 E">
                                      <p:cBhvr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79" name="Picture 12" descr="D:\Алёна\Конкурс\современный урок 2010\для презентации игры\Еж.jpeg"/>
            <p:cNvPicPr/>
            <p:nvPr/>
          </p:nvPicPr>
          <p:blipFill>
            <a:blip r:embed="rId1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D:\Алёна\Конкурс\современный урок 2010\для презентации игры\Еж.jpeg"/>
          <p:cNvPicPr/>
          <p:nvPr/>
        </p:nvPicPr>
        <p:blipFill>
          <a:blip r:embed="rId2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85" name="Picture 12" descr="D:\Алёна\Конкурс\современный урок 2010\для презентации игры\Еж.jpeg"/>
            <p:cNvPicPr/>
            <p:nvPr/>
          </p:nvPicPr>
          <p:blipFill>
            <a:blip r:embed="rId3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6"/>
          <p:cNvGrpSpPr/>
          <p:nvPr/>
        </p:nvGrpSpPr>
        <p:grpSpPr>
          <a:xfrm>
            <a:off x="2428920" y="2143080"/>
            <a:ext cx="1289160" cy="1006560"/>
            <a:chOff x="2428920" y="2143080"/>
            <a:chExt cx="1289160" cy="1006560"/>
          </a:xfrm>
        </p:grpSpPr>
        <p:pic>
          <p:nvPicPr>
            <p:cNvPr id="189" name="Picture 12" descr="D:\Алёна\Конкурс\современный урок 2010\для презентации игры\Еж.jpeg"/>
            <p:cNvPicPr/>
            <p:nvPr/>
          </p:nvPicPr>
          <p:blipFill>
            <a:blip r:embed="rId4"/>
            <a:stretch/>
          </p:blipFill>
          <p:spPr>
            <a:xfrm>
              <a:off x="24289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7-конечная звезда 38"/>
            <p:cNvSpPr/>
            <p:nvPr/>
          </p:nvSpPr>
          <p:spPr>
            <a:xfrm>
              <a:off x="29289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643720" y="571680"/>
            <a:ext cx="1288800" cy="1006200"/>
            <a:chOff x="5643720" y="571680"/>
            <a:chExt cx="1288800" cy="1006200"/>
          </a:xfrm>
        </p:grpSpPr>
        <p:pic>
          <p:nvPicPr>
            <p:cNvPr id="193" name="Picture 12" descr="D:\Алёна\Конкурс\современный урок 2010\для презентации игры\Еж.jpeg"/>
            <p:cNvPicPr/>
            <p:nvPr/>
          </p:nvPicPr>
          <p:blipFill>
            <a:blip r:embed="rId5"/>
            <a:stretch/>
          </p:blipFill>
          <p:spPr>
            <a:xfrm>
              <a:off x="5643720" y="571680"/>
              <a:ext cx="12888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7-конечная звезда 35"/>
            <p:cNvSpPr/>
            <p:nvPr/>
          </p:nvSpPr>
          <p:spPr>
            <a:xfrm>
              <a:off x="6143760" y="857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197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6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20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7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20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8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9"/>
          <a:stretch/>
        </p:blipFill>
        <p:spPr>
          <a:xfrm>
            <a:off x="4143240" y="571680"/>
            <a:ext cx="1189080" cy="10634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Группа 1"/>
          <p:cNvGrpSpPr/>
          <p:nvPr/>
        </p:nvGrpSpPr>
        <p:grpSpPr>
          <a:xfrm>
            <a:off x="857160" y="571680"/>
            <a:ext cx="1189080" cy="1063440"/>
            <a:chOff x="857160" y="571680"/>
            <a:chExt cx="1189080" cy="1063440"/>
          </a:xfrm>
        </p:grpSpPr>
        <p:pic>
          <p:nvPicPr>
            <p:cNvPr id="21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0"/>
            <a:stretch/>
          </p:blipFill>
          <p:spPr>
            <a:xfrm>
              <a:off x="857160" y="5716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7-конечная звезда 3"/>
            <p:cNvSpPr/>
            <p:nvPr/>
          </p:nvSpPr>
          <p:spPr>
            <a:xfrm>
              <a:off x="1500120" y="9288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215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1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219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2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22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3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22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4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5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23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6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7.40741E-007 L 0.18907 -0.0419 E">
                                      <p:cBhvr>
                                        <p:cTn id="24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53403 -0.08542 E">
                                      <p:cBhvr>
                                        <p:cTn id="25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73229 -0.08402 E">
                                      <p:cBhvr>
                                        <p:cTn id="27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1.48148E-006 L 0.20487 0.1051 E">
                                      <p:cBhvr>
                                        <p:cTn id="29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18519E-006 L 0.54341 0.07337 E">
                                      <p:cBhvr>
                                        <p:cTn id="31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523880" y="1397160"/>
          <a:ext cx="6096240" cy="239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во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ойманных особ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заражен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яг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2"/>
          <p:cNvSpPr/>
          <p:nvPr/>
        </p:nvSpPr>
        <p:spPr>
          <a:xfrm>
            <a:off x="1928880" y="5000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6-10-03T16:20:27Z</dcterms:modified>
  <cp:revision>22</cp:revision>
  <dc:subject/>
  <dc:title>Слайд 1</dc:title>
</cp:coreProperties>
</file>