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C227-A30C-46AE-8B8B-E4C3A0967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DD2-868D-4D49-93FC-EF38E07FE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0FCC-4F21-4449-B369-3989249ABC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E71-A84A-46AA-B2BE-E7062CA5D2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- ориент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1145-A60E-4D09-8C5B-7077D06D5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- ориент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DDD-339D-4CA2-BAD0-57944DC33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- ориент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73E6-80E0-4907-A33E-61F80D6F2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чение – это труд, полный активности и мысли» (К.Д. Ушински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держания образования соотнесена с шестью ведущими сторонами культуры человека: нравственной, познавательной, коммуникативной, эстетической, трудовой и физической культурой (К.Д. Ушинский, В.C. Ледне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826B-6FDF-4254-BCD7-F51465CAA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чение – это труд, полный активности и мысли» (К.Д. Ушински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одержания образования соотнесена с шестью ведущими сторонами культуры человека: нравственной, познавательной, коммуникативной, эстетической, трудовой и физической культурой (К.Д. Ушинский, В.C. Леднев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0C3B-DF2A-452B-A760-BC03992C01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4D6F-0C08-4996-941F-F5E300231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B7E-96D9-4863-AE0E-9DA7F288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741-A479-43D9-8EF8-63F67B4D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FEC-98DE-4215-8928-AD8CC21E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E71-F2C9-4D7C-B35C-6A3382684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437-9515-4F72-9304-5F89A33F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0C9-06FC-4E5E-9F00-38EEA849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9B3-4164-4FF9-B1C5-9FEA3EFC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AF7-0CFD-43BF-BE95-49A48536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D4C-C094-4015-BE8B-1D96FE3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D17-DE53-4F88-A58A-41C11AF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C8FE-CD79-42BC-807A-E8A45E84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FBD-D459-47C6-8817-80C41A4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5FB4-75C8-49D2-B0B1-D37F90A27F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lena-sedova@ismorao.r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848360" cy="26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мати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п.н. Е.А. Сед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dova@ismorao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НУ «Институт содержания и методов обуче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йской академии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828440"/>
            <a:ext cx="85201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учащихся по видам деятельност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IMSS-201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 8 класс, математ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2763720"/>
          <a:ext cx="8207280" cy="3292560"/>
        </p:xfrm>
        <a:graphic>
          <a:graphicData uri="http://schemas.openxmlformats.org/drawingml/2006/table">
            <a:tbl>
              <a:tblPr/>
              <a:tblGrid>
                <a:gridCol w="2590560"/>
                <a:gridCol w="1905120"/>
                <a:gridCol w="1828800"/>
                <a:gridCol w="1882800"/>
              </a:tblGrid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 (средний бал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Я  (6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ГАПУР (6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ВАНЬ (6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КОНГ (5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(5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 (5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18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1371600"/>
            <a:ext cx="8424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вывод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TIMSS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9120" y="1904760"/>
            <a:ext cx="889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российского образования относительно высо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гативные фак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начительное отличие структуры и содержания математического и естественнонаучного образования в России по сравнению с международными стандарт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блемы познавательной активности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сбаланс учебного процесса: значительный вес контроля знаний, большой объем домашних заданий, уменьшение доли практических, экспериментальных и исследовательски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380880" y="228600"/>
            <a:ext cx="8520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Состояние математической грамотности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SA - 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304920" y="4723560"/>
            <a:ext cx="8839080" cy="1743120"/>
          </a:xfrm>
          <a:custGeom>
            <a:avLst/>
            <a:gdLst>
              <a:gd name="textAreaLeft" fmla="*/ 2017800 w 8839080"/>
              <a:gd name="textAreaRight" fmla="*/ 6821280 w 8839080"/>
              <a:gd name="textAreaTop" fmla="*/ 397800 h 1743120"/>
              <a:gd name="textAreaBottom" fmla="*/ 1345320 h 17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6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балл статистически ниже среднего балл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533520" y="1029600"/>
            <a:ext cx="8001000" cy="1743120"/>
          </a:xfrm>
          <a:custGeom>
            <a:avLst/>
            <a:gdLst>
              <a:gd name="textAreaLeft" fmla="*/ 1826280 w 8001000"/>
              <a:gd name="textAreaRight" fmla="*/ 6174720 w 8001000"/>
              <a:gd name="textAreaTop" fmla="*/ 397800 h 1743120"/>
              <a:gd name="textAreaBottom" fmla="*/ 1345320 h 17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9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балл статистически выше среднего балла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1"/>
          <p:cNvSpPr/>
          <p:nvPr/>
        </p:nvSpPr>
        <p:spPr>
          <a:xfrm>
            <a:off x="0" y="3028320"/>
            <a:ext cx="8839080" cy="1743120"/>
          </a:xfrm>
          <a:custGeom>
            <a:avLst/>
            <a:gdLst>
              <a:gd name="textAreaLeft" fmla="*/ 2017800 w 8839080"/>
              <a:gd name="textAreaRight" fmla="*/ 6821280 w 8839080"/>
              <a:gd name="textAreaTop" fmla="*/ 397800 h 1743120"/>
              <a:gd name="textAreaBottom" fmla="*/ 1345320 h 1743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ий балл статистически равен среднему баллу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5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95880"/>
          </a:xfrm>
          <a:prstGeom prst="rect">
            <a:avLst/>
          </a:prstGeom>
          <a:ln w="0">
            <a:noFill/>
          </a:ln>
        </p:spPr>
      </p:pic>
      <p:sp>
        <p:nvSpPr>
          <p:cNvPr id="133" name="Title 1"/>
          <p:cNvSpPr/>
          <p:nvPr/>
        </p:nvSpPr>
        <p:spPr>
          <a:xfrm>
            <a:off x="380880" y="228600"/>
            <a:ext cx="8520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Arial"/>
              </a:rPr>
              <a:t>Математическая грамотность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SA - 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Объект 2" descr=""/>
          <p:cNvPicPr/>
          <p:nvPr/>
        </p:nvPicPr>
        <p:blipFill>
          <a:blip r:embed="rId1"/>
          <a:stretch/>
        </p:blipFill>
        <p:spPr>
          <a:xfrm>
            <a:off x="558720" y="1789200"/>
            <a:ext cx="8051760" cy="51195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ни математической грамот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3520" y="-360"/>
            <a:ext cx="85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Уровни функциональной грамотности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IS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457200" y="5562720"/>
            <a:ext cx="68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ая прямоугольная выноска 31"/>
          <p:cNvSpPr/>
          <p:nvPr/>
        </p:nvSpPr>
        <p:spPr>
          <a:xfrm>
            <a:off x="2057400" y="914400"/>
            <a:ext cx="6705720" cy="1447920"/>
          </a:xfrm>
          <a:prstGeom prst="wedgeRoundRectCallout">
            <a:avLst>
              <a:gd name="adj1" fmla="val -55777"/>
              <a:gd name="adj2" fmla="val 3398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6 уров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мыслящие и способные функционировать в сложных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ая прямоугольная выноска 32"/>
          <p:cNvSpPr/>
          <p:nvPr/>
        </p:nvSpPr>
        <p:spPr>
          <a:xfrm>
            <a:off x="2209680" y="4419720"/>
            <a:ext cx="6477120" cy="1676160"/>
          </a:xfrm>
          <a:prstGeom prst="wedgeRoundRectCallout">
            <a:avLst>
              <a:gd name="adj1" fmla="val -61740"/>
              <a:gd name="adj2" fmla="val -7291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роговый, при достижении которого учащиеся начинают демонстрировать применение знаний и умений в простейших не учебных ситу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ая прямоугольная выноска 32"/>
          <p:cNvSpPr/>
          <p:nvPr/>
        </p:nvSpPr>
        <p:spPr>
          <a:xfrm>
            <a:off x="2133720" y="2514600"/>
            <a:ext cx="6699240" cy="1447920"/>
          </a:xfrm>
          <a:prstGeom prst="wedgeRoundRectCallout">
            <a:avLst>
              <a:gd name="adj1" fmla="val -58555"/>
              <a:gd name="adj2" fmla="val -6361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является способность использовать имеющиеся знания и умения для получения н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457200" y="4572000"/>
            <a:ext cx="685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6"/>
          <p:cNvSpPr/>
          <p:nvPr/>
        </p:nvSpPr>
        <p:spPr>
          <a:xfrm>
            <a:off x="457200" y="3581280"/>
            <a:ext cx="68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457200" y="2590920"/>
            <a:ext cx="68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6"/>
          <p:cNvSpPr/>
          <p:nvPr/>
        </p:nvSpPr>
        <p:spPr>
          <a:xfrm>
            <a:off x="457200" y="1600200"/>
            <a:ext cx="68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380880" y="609480"/>
            <a:ext cx="681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1219320" y="1676520"/>
            <a:ext cx="228600" cy="990360"/>
          </a:xfrm>
          <a:prstGeom prst="rect">
            <a:avLst/>
          </a:prstGeom>
          <a:solidFill>
            <a:srgbClr val="333399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1219320" y="2666880"/>
            <a:ext cx="228600" cy="9907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1219320" y="3657600"/>
            <a:ext cx="228600" cy="990720"/>
          </a:xfrm>
          <a:prstGeom prst="rect">
            <a:avLst/>
          </a:prstGeom>
          <a:solidFill>
            <a:srgbClr val="3333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>
            <a:off x="1219320" y="4648320"/>
            <a:ext cx="228600" cy="990360"/>
          </a:xfrm>
          <a:prstGeom prst="rect">
            <a:avLst/>
          </a:prstGeom>
          <a:solidFill>
            <a:srgbClr val="333399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2"/>
          <p:cNvSpPr/>
          <p:nvPr/>
        </p:nvSpPr>
        <p:spPr>
          <a:xfrm>
            <a:off x="1219320" y="5638680"/>
            <a:ext cx="2286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3"/>
          <p:cNvSpPr/>
          <p:nvPr/>
        </p:nvSpPr>
        <p:spPr>
          <a:xfrm>
            <a:off x="1219320" y="685800"/>
            <a:ext cx="22860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ий балл российски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них учащих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I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11036" t="0" r="0" b="0"/>
          <a:stretch/>
        </p:blipFill>
        <p:spPr>
          <a:xfrm>
            <a:off x="1600200" y="2379600"/>
            <a:ext cx="57150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304920" y="0"/>
            <a:ext cx="862164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ие вывод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SA -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380880" y="2743200"/>
            <a:ext cx="83059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ицей в расходах на одного ученика в разных странах можно объяснить менее 20% разброс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яде стран не достигает порогового уровня математической грамотности очень малый процент учащихся, что подтверждает тезис «нет детей, не способных к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 система оценки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ременн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нденции дидактик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ма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ые образовательн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волюция педаг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уманистическая педаг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ая педаг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диционная педаг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" descr="C:\Users\Елена\Desktop\0037-015-Obrazovanie-v-rannem-Srednevekove-5-11-vv.png"/>
          <p:cNvPicPr/>
          <p:nvPr/>
        </p:nvPicPr>
        <p:blipFill>
          <a:blip r:embed="rId1"/>
          <a:stretch/>
        </p:blipFill>
        <p:spPr>
          <a:xfrm>
            <a:off x="2244600" y="0"/>
            <a:ext cx="53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волюция образователь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ы на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2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ые, метапредметные, предметные образователь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но-исследов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результатам индивидуальных достижений обучающихся, не подлежащим итоговой оценке качества освоения основной образовательной программы …, относятся: ценностные ориентации обучающегося; индивидуальные личностные характеристики … и др. Обобщенная оценка этих и других личностных результатов учебной деятельности обучающихся может осуществляться в ходе различных мониторинговых исследований [ФГОС НОО, параграф 13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ные и метапредметные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ом итоговой оценки освоения обучающимися основной образовательной программы начального общего образования должно быть достижение предметных и метапредметных результатов освоения основной образовательной программы начального общего образования, необходимых для продолжения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ФГОС НОО, параграф 13.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апредмет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ают освоенные обучающимися универсальные учебные действия (познавательные, регулятивные и коммуникативные), обеспечивающие овладение ключевыми компетенциями, составляющими основу умения учиться, и межпредметными понят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[ФГОС НОО, параграф 9.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сли к одному зерну добавлять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 зёрнышку, то в какой момент образуется куч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tangle 3" descr=""/>
          <p:cNvPicPr/>
          <p:nvPr/>
        </p:nvPicPr>
        <p:blipFill>
          <a:blip r:embed="rId1"/>
          <a:stretch/>
        </p:blipFill>
        <p:spPr>
          <a:xfrm>
            <a:off x="2133720" y="2554200"/>
            <a:ext cx="51051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оценки достижения планируемых результатов освоения основной образовательной программы основного общего образования должна включать описание … оценки проектной деятельности обучающихся [ФГОС ООО, Параграф 18.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цепция развития математического образования в Росс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математики в современном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математ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учебная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ревающее содержание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ые пробл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ия развития математического образования (дошкольного, общего, профессионального, дополнительн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система оценки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кая информация об исследован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S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 in Mathematics and Science Stud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ценка качества математического и естественнонаучного образования в 4, 8 и 11 классах (1995, 1999, 2003,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20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Programme for International Student Assessme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функциональной грамотности 15-летних учащихся в области математики, чтения и естествознания (2000, 2003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1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основания формирования современных образовательных результат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и школьного математ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каждого школьника развивающей интеллектуальн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каждого школьника к успешной жизни в современном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ка достаточного для экономики страны числа абитуриентов, склонных к преподаванию математики и математических исследований, к работе в сфере информацион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нденции дидактики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ация содержания школьного математ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современной образовательной среды, реализующей потенциал для предметной, метапредметной и личностной составляющих образования в индивидуальных пропор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аспространение культуры работы с современной образовательной средой (профессиональное образование и система повышения квалификации уч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математическо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ирующая (предметная и метапредметная составляющ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ого математического образован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к решению математических задач из окружающего мира, из повседневных ситуаций, из «чистой» математики и других на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базы для дальнейшего успешного обучения и освоения профессиональны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щая (личностная составляющая школьного математического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любознательности, интереса и позитивного отношения к математической деятельности и к процессу образования в ц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и фант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е и речев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ботка привычки к умственному труду, к концентрации внимания и к усид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аккуратности, самостоятельности и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 развитие социально значимых качеств и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дактические п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возможно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я математик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на различных уровн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математики с миром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тором живет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шк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откры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как основной принцип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актив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методы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обуч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ревнование и сотрудн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х сторон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ьтур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равст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те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ов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0"/>
          <p:cNvSpPr/>
          <p:nvPr/>
        </p:nvSpPr>
        <p:spPr>
          <a:xfrm>
            <a:off x="914400" y="5105520"/>
            <a:ext cx="7416720" cy="45720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ее значение шкал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SS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33720" y="2209680"/>
          <a:ext cx="4800600" cy="2198880"/>
        </p:xfrm>
        <a:graphic>
          <a:graphicData uri="http://schemas.openxmlformats.org/drawingml/2006/table">
            <a:tbl>
              <a:tblPr/>
              <a:tblGrid>
                <a:gridCol w="269388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публика Кор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гап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йв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9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нко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6" name="Прямоугольник 16"/>
          <p:cNvSpPr/>
          <p:nvPr/>
        </p:nvSpPr>
        <p:spPr>
          <a:xfrm>
            <a:off x="2133720" y="2209680"/>
            <a:ext cx="480060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380880" y="1447920"/>
            <a:ext cx="85201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ояние математического образования в основной школе России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SS – 201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4440240"/>
          <a:ext cx="4800600" cy="365040"/>
        </p:xfrm>
        <a:graphic>
          <a:graphicData uri="http://schemas.openxmlformats.org/drawingml/2006/table">
            <a:tbl>
              <a:tblPr/>
              <a:tblGrid>
                <a:gridCol w="2693880"/>
                <a:gridCol w="2106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9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Прямоугольник 23"/>
          <p:cNvSpPr/>
          <p:nvPr/>
        </p:nvSpPr>
        <p:spPr>
          <a:xfrm>
            <a:off x="2133720" y="4440240"/>
            <a:ext cx="4800600" cy="3808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1"/>
          <p:cNvSpPr/>
          <p:nvPr/>
        </p:nvSpPr>
        <p:spPr>
          <a:xfrm>
            <a:off x="3429000" y="5605200"/>
            <a:ext cx="2895480" cy="7336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167400 h 733680"/>
              <a:gd name="textAreaBottom" fmla="*/ 56628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6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591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ий балл российских восьмикласс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IM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75"/>
          <p:cNvGrpSpPr/>
          <p:nvPr/>
        </p:nvGrpSpPr>
        <p:grpSpPr>
          <a:xfrm>
            <a:off x="2133720" y="2286000"/>
            <a:ext cx="4876560" cy="4038480"/>
            <a:chOff x="2133720" y="2286000"/>
            <a:chExt cx="4876560" cy="4038480"/>
          </a:xfrm>
        </p:grpSpPr>
        <p:sp>
          <p:nvSpPr>
            <p:cNvPr id="65" name="Rectangle 40"/>
            <p:cNvSpPr/>
            <p:nvPr/>
          </p:nvSpPr>
          <p:spPr>
            <a:xfrm>
              <a:off x="2759040" y="2514600"/>
              <a:ext cx="4222800" cy="1219320"/>
            </a:xfrm>
            <a:prstGeom prst="rect">
              <a:avLst/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2" descr=""/>
            <p:cNvPicPr/>
            <p:nvPr/>
          </p:nvPicPr>
          <p:blipFill>
            <a:blip r:embed="rId1"/>
            <a:srcRect l="0" t="0" r="92964" b="0"/>
            <a:stretch/>
          </p:blipFill>
          <p:spPr>
            <a:xfrm>
              <a:off x="2133720" y="2286000"/>
              <a:ext cx="625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Freeform 12"/>
            <p:cNvSpPr/>
            <p:nvPr/>
          </p:nvSpPr>
          <p:spPr>
            <a:xfrm>
              <a:off x="2995560" y="2495520"/>
              <a:ext cx="3760920" cy="2192400"/>
            </a:xfrm>
            <a:custGeom>
              <a:avLst/>
              <a:gdLst/>
              <a:ahLst/>
              <a:rect l="l" t="t" r="r" b="b"/>
              <a:pathLst>
                <a:path w="2123" h="1381">
                  <a:moveTo>
                    <a:pt x="0" y="1372"/>
                  </a:moveTo>
                  <a:lnTo>
                    <a:pt x="27" y="1372"/>
                  </a:lnTo>
                  <a:lnTo>
                    <a:pt x="27" y="1381"/>
                  </a:lnTo>
                  <a:lnTo>
                    <a:pt x="0" y="1381"/>
                  </a:lnTo>
                  <a:lnTo>
                    <a:pt x="0" y="1372"/>
                  </a:lnTo>
                  <a:close/>
                  <a:moveTo>
                    <a:pt x="36" y="1372"/>
                  </a:moveTo>
                  <a:lnTo>
                    <a:pt x="62" y="1372"/>
                  </a:lnTo>
                  <a:lnTo>
                    <a:pt x="62" y="1381"/>
                  </a:lnTo>
                  <a:lnTo>
                    <a:pt x="36" y="1381"/>
                  </a:lnTo>
                  <a:lnTo>
                    <a:pt x="36" y="1372"/>
                  </a:lnTo>
                  <a:close/>
                  <a:moveTo>
                    <a:pt x="71" y="1372"/>
                  </a:moveTo>
                  <a:lnTo>
                    <a:pt x="98" y="1372"/>
                  </a:lnTo>
                  <a:lnTo>
                    <a:pt x="98" y="1381"/>
                  </a:lnTo>
                  <a:lnTo>
                    <a:pt x="71" y="1381"/>
                  </a:lnTo>
                  <a:lnTo>
                    <a:pt x="71" y="1372"/>
                  </a:lnTo>
                  <a:close/>
                  <a:moveTo>
                    <a:pt x="107" y="1372"/>
                  </a:moveTo>
                  <a:lnTo>
                    <a:pt x="134" y="1372"/>
                  </a:lnTo>
                  <a:lnTo>
                    <a:pt x="134" y="1381"/>
                  </a:lnTo>
                  <a:lnTo>
                    <a:pt x="107" y="1381"/>
                  </a:lnTo>
                  <a:lnTo>
                    <a:pt x="107" y="1372"/>
                  </a:lnTo>
                  <a:close/>
                  <a:moveTo>
                    <a:pt x="142" y="1372"/>
                  </a:moveTo>
                  <a:lnTo>
                    <a:pt x="169" y="1372"/>
                  </a:lnTo>
                  <a:lnTo>
                    <a:pt x="169" y="1381"/>
                  </a:lnTo>
                  <a:lnTo>
                    <a:pt x="142" y="1381"/>
                  </a:lnTo>
                  <a:lnTo>
                    <a:pt x="142" y="1372"/>
                  </a:lnTo>
                  <a:close/>
                  <a:moveTo>
                    <a:pt x="178" y="1372"/>
                  </a:moveTo>
                  <a:lnTo>
                    <a:pt x="205" y="1372"/>
                  </a:lnTo>
                  <a:lnTo>
                    <a:pt x="205" y="1381"/>
                  </a:lnTo>
                  <a:lnTo>
                    <a:pt x="178" y="1381"/>
                  </a:lnTo>
                  <a:lnTo>
                    <a:pt x="178" y="1372"/>
                  </a:lnTo>
                  <a:close/>
                  <a:moveTo>
                    <a:pt x="213" y="1372"/>
                  </a:moveTo>
                  <a:lnTo>
                    <a:pt x="240" y="1372"/>
                  </a:lnTo>
                  <a:lnTo>
                    <a:pt x="240" y="1381"/>
                  </a:lnTo>
                  <a:lnTo>
                    <a:pt x="213" y="1381"/>
                  </a:lnTo>
                  <a:lnTo>
                    <a:pt x="213" y="1372"/>
                  </a:lnTo>
                  <a:close/>
                  <a:moveTo>
                    <a:pt x="249" y="1372"/>
                  </a:moveTo>
                  <a:lnTo>
                    <a:pt x="276" y="1372"/>
                  </a:lnTo>
                  <a:lnTo>
                    <a:pt x="276" y="1381"/>
                  </a:lnTo>
                  <a:lnTo>
                    <a:pt x="249" y="1381"/>
                  </a:lnTo>
                  <a:lnTo>
                    <a:pt x="249" y="1372"/>
                  </a:lnTo>
                  <a:close/>
                  <a:moveTo>
                    <a:pt x="285" y="1372"/>
                  </a:moveTo>
                  <a:lnTo>
                    <a:pt x="311" y="1372"/>
                  </a:lnTo>
                  <a:lnTo>
                    <a:pt x="311" y="1381"/>
                  </a:lnTo>
                  <a:lnTo>
                    <a:pt x="285" y="1381"/>
                  </a:lnTo>
                  <a:lnTo>
                    <a:pt x="285" y="1372"/>
                  </a:lnTo>
                  <a:close/>
                  <a:moveTo>
                    <a:pt x="320" y="1372"/>
                  </a:moveTo>
                  <a:lnTo>
                    <a:pt x="347" y="1372"/>
                  </a:lnTo>
                  <a:lnTo>
                    <a:pt x="347" y="1381"/>
                  </a:lnTo>
                  <a:lnTo>
                    <a:pt x="320" y="1381"/>
                  </a:lnTo>
                  <a:lnTo>
                    <a:pt x="320" y="1372"/>
                  </a:lnTo>
                  <a:close/>
                  <a:moveTo>
                    <a:pt x="356" y="1372"/>
                  </a:moveTo>
                  <a:lnTo>
                    <a:pt x="382" y="1372"/>
                  </a:lnTo>
                  <a:lnTo>
                    <a:pt x="382" y="1381"/>
                  </a:lnTo>
                  <a:lnTo>
                    <a:pt x="356" y="1381"/>
                  </a:lnTo>
                  <a:lnTo>
                    <a:pt x="356" y="1372"/>
                  </a:lnTo>
                  <a:close/>
                  <a:moveTo>
                    <a:pt x="391" y="1372"/>
                  </a:moveTo>
                  <a:lnTo>
                    <a:pt x="418" y="1372"/>
                  </a:lnTo>
                  <a:lnTo>
                    <a:pt x="418" y="1381"/>
                  </a:lnTo>
                  <a:lnTo>
                    <a:pt x="391" y="1381"/>
                  </a:lnTo>
                  <a:lnTo>
                    <a:pt x="391" y="1372"/>
                  </a:lnTo>
                  <a:close/>
                  <a:moveTo>
                    <a:pt x="427" y="1372"/>
                  </a:moveTo>
                  <a:lnTo>
                    <a:pt x="453" y="1372"/>
                  </a:lnTo>
                  <a:lnTo>
                    <a:pt x="453" y="1381"/>
                  </a:lnTo>
                  <a:lnTo>
                    <a:pt x="427" y="1381"/>
                  </a:lnTo>
                  <a:lnTo>
                    <a:pt x="427" y="1372"/>
                  </a:lnTo>
                  <a:close/>
                  <a:moveTo>
                    <a:pt x="462" y="1372"/>
                  </a:moveTo>
                  <a:lnTo>
                    <a:pt x="489" y="1372"/>
                  </a:lnTo>
                  <a:lnTo>
                    <a:pt x="489" y="1381"/>
                  </a:lnTo>
                  <a:lnTo>
                    <a:pt x="462" y="1381"/>
                  </a:lnTo>
                  <a:lnTo>
                    <a:pt x="462" y="1372"/>
                  </a:lnTo>
                  <a:close/>
                  <a:moveTo>
                    <a:pt x="498" y="1372"/>
                  </a:moveTo>
                  <a:lnTo>
                    <a:pt x="524" y="1372"/>
                  </a:lnTo>
                  <a:lnTo>
                    <a:pt x="524" y="1381"/>
                  </a:lnTo>
                  <a:lnTo>
                    <a:pt x="498" y="1381"/>
                  </a:lnTo>
                  <a:lnTo>
                    <a:pt x="498" y="1372"/>
                  </a:lnTo>
                  <a:close/>
                  <a:moveTo>
                    <a:pt x="533" y="1372"/>
                  </a:moveTo>
                  <a:lnTo>
                    <a:pt x="560" y="1372"/>
                  </a:lnTo>
                  <a:lnTo>
                    <a:pt x="560" y="1381"/>
                  </a:lnTo>
                  <a:lnTo>
                    <a:pt x="533" y="1381"/>
                  </a:lnTo>
                  <a:lnTo>
                    <a:pt x="533" y="1372"/>
                  </a:lnTo>
                  <a:close/>
                  <a:moveTo>
                    <a:pt x="569" y="1372"/>
                  </a:moveTo>
                  <a:lnTo>
                    <a:pt x="595" y="1372"/>
                  </a:lnTo>
                  <a:lnTo>
                    <a:pt x="595" y="1381"/>
                  </a:lnTo>
                  <a:lnTo>
                    <a:pt x="569" y="1381"/>
                  </a:lnTo>
                  <a:lnTo>
                    <a:pt x="569" y="1372"/>
                  </a:lnTo>
                  <a:close/>
                  <a:moveTo>
                    <a:pt x="604" y="1372"/>
                  </a:moveTo>
                  <a:lnTo>
                    <a:pt x="631" y="1372"/>
                  </a:lnTo>
                  <a:lnTo>
                    <a:pt x="631" y="1381"/>
                  </a:lnTo>
                  <a:lnTo>
                    <a:pt x="604" y="1381"/>
                  </a:lnTo>
                  <a:lnTo>
                    <a:pt x="604" y="1372"/>
                  </a:lnTo>
                  <a:close/>
                  <a:moveTo>
                    <a:pt x="640" y="1372"/>
                  </a:moveTo>
                  <a:lnTo>
                    <a:pt x="667" y="1372"/>
                  </a:lnTo>
                  <a:lnTo>
                    <a:pt x="667" y="1381"/>
                  </a:lnTo>
                  <a:lnTo>
                    <a:pt x="640" y="1381"/>
                  </a:lnTo>
                  <a:lnTo>
                    <a:pt x="640" y="1372"/>
                  </a:lnTo>
                  <a:close/>
                  <a:moveTo>
                    <a:pt x="675" y="1372"/>
                  </a:moveTo>
                  <a:lnTo>
                    <a:pt x="702" y="1372"/>
                  </a:lnTo>
                  <a:lnTo>
                    <a:pt x="702" y="1381"/>
                  </a:lnTo>
                  <a:lnTo>
                    <a:pt x="675" y="1381"/>
                  </a:lnTo>
                  <a:lnTo>
                    <a:pt x="675" y="1372"/>
                  </a:lnTo>
                  <a:close/>
                  <a:moveTo>
                    <a:pt x="711" y="1372"/>
                  </a:moveTo>
                  <a:lnTo>
                    <a:pt x="738" y="1372"/>
                  </a:lnTo>
                  <a:lnTo>
                    <a:pt x="738" y="1381"/>
                  </a:lnTo>
                  <a:lnTo>
                    <a:pt x="711" y="1381"/>
                  </a:lnTo>
                  <a:lnTo>
                    <a:pt x="711" y="1372"/>
                  </a:lnTo>
                  <a:close/>
                  <a:moveTo>
                    <a:pt x="746" y="1372"/>
                  </a:moveTo>
                  <a:lnTo>
                    <a:pt x="773" y="1372"/>
                  </a:lnTo>
                  <a:lnTo>
                    <a:pt x="773" y="1381"/>
                  </a:lnTo>
                  <a:lnTo>
                    <a:pt x="746" y="1381"/>
                  </a:lnTo>
                  <a:lnTo>
                    <a:pt x="746" y="1372"/>
                  </a:lnTo>
                  <a:close/>
                  <a:moveTo>
                    <a:pt x="782" y="1372"/>
                  </a:moveTo>
                  <a:lnTo>
                    <a:pt x="809" y="1372"/>
                  </a:lnTo>
                  <a:lnTo>
                    <a:pt x="809" y="1381"/>
                  </a:lnTo>
                  <a:lnTo>
                    <a:pt x="782" y="1381"/>
                  </a:lnTo>
                  <a:lnTo>
                    <a:pt x="782" y="1372"/>
                  </a:lnTo>
                  <a:close/>
                  <a:moveTo>
                    <a:pt x="818" y="1372"/>
                  </a:moveTo>
                  <a:lnTo>
                    <a:pt x="844" y="1372"/>
                  </a:lnTo>
                  <a:lnTo>
                    <a:pt x="844" y="1381"/>
                  </a:lnTo>
                  <a:lnTo>
                    <a:pt x="818" y="1381"/>
                  </a:lnTo>
                  <a:lnTo>
                    <a:pt x="818" y="1372"/>
                  </a:lnTo>
                  <a:close/>
                  <a:moveTo>
                    <a:pt x="853" y="1372"/>
                  </a:moveTo>
                  <a:lnTo>
                    <a:pt x="880" y="1372"/>
                  </a:lnTo>
                  <a:lnTo>
                    <a:pt x="880" y="1381"/>
                  </a:lnTo>
                  <a:lnTo>
                    <a:pt x="853" y="1381"/>
                  </a:lnTo>
                  <a:lnTo>
                    <a:pt x="853" y="1372"/>
                  </a:lnTo>
                  <a:close/>
                  <a:moveTo>
                    <a:pt x="889" y="1372"/>
                  </a:moveTo>
                  <a:lnTo>
                    <a:pt x="915" y="1372"/>
                  </a:lnTo>
                  <a:lnTo>
                    <a:pt x="915" y="1381"/>
                  </a:lnTo>
                  <a:lnTo>
                    <a:pt x="889" y="1381"/>
                  </a:lnTo>
                  <a:lnTo>
                    <a:pt x="889" y="1372"/>
                  </a:lnTo>
                  <a:close/>
                  <a:moveTo>
                    <a:pt x="924" y="1372"/>
                  </a:moveTo>
                  <a:lnTo>
                    <a:pt x="951" y="1372"/>
                  </a:lnTo>
                  <a:lnTo>
                    <a:pt x="951" y="1381"/>
                  </a:lnTo>
                  <a:lnTo>
                    <a:pt x="924" y="1381"/>
                  </a:lnTo>
                  <a:lnTo>
                    <a:pt x="924" y="1372"/>
                  </a:lnTo>
                  <a:close/>
                  <a:moveTo>
                    <a:pt x="960" y="1372"/>
                  </a:moveTo>
                  <a:lnTo>
                    <a:pt x="986" y="1372"/>
                  </a:lnTo>
                  <a:lnTo>
                    <a:pt x="986" y="1381"/>
                  </a:lnTo>
                  <a:lnTo>
                    <a:pt x="960" y="1381"/>
                  </a:lnTo>
                  <a:lnTo>
                    <a:pt x="960" y="1372"/>
                  </a:lnTo>
                  <a:close/>
                  <a:moveTo>
                    <a:pt x="995" y="1372"/>
                  </a:moveTo>
                  <a:lnTo>
                    <a:pt x="1022" y="1372"/>
                  </a:lnTo>
                  <a:lnTo>
                    <a:pt x="1022" y="1381"/>
                  </a:lnTo>
                  <a:lnTo>
                    <a:pt x="995" y="1381"/>
                  </a:lnTo>
                  <a:lnTo>
                    <a:pt x="995" y="1372"/>
                  </a:lnTo>
                  <a:close/>
                  <a:moveTo>
                    <a:pt x="1031" y="1372"/>
                  </a:moveTo>
                  <a:lnTo>
                    <a:pt x="1057" y="1372"/>
                  </a:lnTo>
                  <a:lnTo>
                    <a:pt x="1057" y="1381"/>
                  </a:lnTo>
                  <a:lnTo>
                    <a:pt x="1031" y="1381"/>
                  </a:lnTo>
                  <a:lnTo>
                    <a:pt x="1031" y="1372"/>
                  </a:lnTo>
                  <a:close/>
                  <a:moveTo>
                    <a:pt x="1066" y="1372"/>
                  </a:moveTo>
                  <a:lnTo>
                    <a:pt x="1093" y="1372"/>
                  </a:lnTo>
                  <a:lnTo>
                    <a:pt x="1093" y="1381"/>
                  </a:lnTo>
                  <a:lnTo>
                    <a:pt x="1066" y="1381"/>
                  </a:lnTo>
                  <a:lnTo>
                    <a:pt x="1066" y="1372"/>
                  </a:lnTo>
                  <a:close/>
                  <a:moveTo>
                    <a:pt x="1102" y="1372"/>
                  </a:moveTo>
                  <a:lnTo>
                    <a:pt x="1128" y="1372"/>
                  </a:lnTo>
                  <a:lnTo>
                    <a:pt x="1128" y="1381"/>
                  </a:lnTo>
                  <a:lnTo>
                    <a:pt x="1102" y="1381"/>
                  </a:lnTo>
                  <a:lnTo>
                    <a:pt x="1102" y="1372"/>
                  </a:lnTo>
                  <a:close/>
                  <a:moveTo>
                    <a:pt x="1137" y="1372"/>
                  </a:moveTo>
                  <a:lnTo>
                    <a:pt x="1164" y="1372"/>
                  </a:lnTo>
                  <a:lnTo>
                    <a:pt x="1164" y="1381"/>
                  </a:lnTo>
                  <a:lnTo>
                    <a:pt x="1137" y="1381"/>
                  </a:lnTo>
                  <a:lnTo>
                    <a:pt x="1137" y="1372"/>
                  </a:lnTo>
                  <a:close/>
                  <a:moveTo>
                    <a:pt x="1173" y="1372"/>
                  </a:moveTo>
                  <a:lnTo>
                    <a:pt x="1200" y="1372"/>
                  </a:lnTo>
                  <a:lnTo>
                    <a:pt x="1200" y="1381"/>
                  </a:lnTo>
                  <a:lnTo>
                    <a:pt x="1173" y="1381"/>
                  </a:lnTo>
                  <a:lnTo>
                    <a:pt x="1173" y="1372"/>
                  </a:lnTo>
                  <a:close/>
                  <a:moveTo>
                    <a:pt x="1208" y="1372"/>
                  </a:moveTo>
                  <a:lnTo>
                    <a:pt x="1235" y="1372"/>
                  </a:lnTo>
                  <a:lnTo>
                    <a:pt x="1235" y="1381"/>
                  </a:lnTo>
                  <a:lnTo>
                    <a:pt x="1208" y="1381"/>
                  </a:lnTo>
                  <a:lnTo>
                    <a:pt x="1208" y="1372"/>
                  </a:lnTo>
                  <a:close/>
                  <a:moveTo>
                    <a:pt x="1244" y="1372"/>
                  </a:moveTo>
                  <a:lnTo>
                    <a:pt x="1271" y="1372"/>
                  </a:lnTo>
                  <a:lnTo>
                    <a:pt x="1271" y="1381"/>
                  </a:lnTo>
                  <a:lnTo>
                    <a:pt x="1244" y="1381"/>
                  </a:lnTo>
                  <a:lnTo>
                    <a:pt x="1244" y="1372"/>
                  </a:lnTo>
                  <a:close/>
                  <a:moveTo>
                    <a:pt x="1280" y="1372"/>
                  </a:moveTo>
                  <a:lnTo>
                    <a:pt x="1306" y="1372"/>
                  </a:lnTo>
                  <a:lnTo>
                    <a:pt x="1306" y="1381"/>
                  </a:lnTo>
                  <a:lnTo>
                    <a:pt x="1280" y="1381"/>
                  </a:lnTo>
                  <a:lnTo>
                    <a:pt x="1280" y="1372"/>
                  </a:lnTo>
                  <a:close/>
                  <a:moveTo>
                    <a:pt x="1315" y="1372"/>
                  </a:moveTo>
                  <a:lnTo>
                    <a:pt x="1342" y="1372"/>
                  </a:lnTo>
                  <a:lnTo>
                    <a:pt x="1342" y="1381"/>
                  </a:lnTo>
                  <a:lnTo>
                    <a:pt x="1315" y="1381"/>
                  </a:lnTo>
                  <a:lnTo>
                    <a:pt x="1315" y="1372"/>
                  </a:lnTo>
                  <a:close/>
                  <a:moveTo>
                    <a:pt x="1351" y="1372"/>
                  </a:moveTo>
                  <a:lnTo>
                    <a:pt x="1377" y="1372"/>
                  </a:lnTo>
                  <a:lnTo>
                    <a:pt x="1377" y="1381"/>
                  </a:lnTo>
                  <a:lnTo>
                    <a:pt x="1351" y="1381"/>
                  </a:lnTo>
                  <a:lnTo>
                    <a:pt x="1351" y="1372"/>
                  </a:lnTo>
                  <a:close/>
                  <a:moveTo>
                    <a:pt x="1386" y="1372"/>
                  </a:moveTo>
                  <a:lnTo>
                    <a:pt x="1413" y="1372"/>
                  </a:lnTo>
                  <a:lnTo>
                    <a:pt x="1413" y="1381"/>
                  </a:lnTo>
                  <a:lnTo>
                    <a:pt x="1386" y="1381"/>
                  </a:lnTo>
                  <a:lnTo>
                    <a:pt x="1386" y="1372"/>
                  </a:lnTo>
                  <a:close/>
                  <a:moveTo>
                    <a:pt x="1422" y="1372"/>
                  </a:moveTo>
                  <a:lnTo>
                    <a:pt x="1448" y="1372"/>
                  </a:lnTo>
                  <a:lnTo>
                    <a:pt x="1448" y="1381"/>
                  </a:lnTo>
                  <a:lnTo>
                    <a:pt x="1422" y="1381"/>
                  </a:lnTo>
                  <a:lnTo>
                    <a:pt x="1422" y="1372"/>
                  </a:lnTo>
                  <a:close/>
                  <a:moveTo>
                    <a:pt x="1457" y="1372"/>
                  </a:moveTo>
                  <a:lnTo>
                    <a:pt x="1484" y="1372"/>
                  </a:lnTo>
                  <a:lnTo>
                    <a:pt x="1484" y="1381"/>
                  </a:lnTo>
                  <a:lnTo>
                    <a:pt x="1457" y="1381"/>
                  </a:lnTo>
                  <a:lnTo>
                    <a:pt x="1457" y="1372"/>
                  </a:lnTo>
                  <a:close/>
                  <a:moveTo>
                    <a:pt x="1493" y="1372"/>
                  </a:moveTo>
                  <a:lnTo>
                    <a:pt x="1519" y="1372"/>
                  </a:lnTo>
                  <a:lnTo>
                    <a:pt x="1519" y="1381"/>
                  </a:lnTo>
                  <a:lnTo>
                    <a:pt x="1493" y="1381"/>
                  </a:lnTo>
                  <a:lnTo>
                    <a:pt x="1493" y="1372"/>
                  </a:lnTo>
                  <a:close/>
                  <a:moveTo>
                    <a:pt x="1528" y="1372"/>
                  </a:moveTo>
                  <a:lnTo>
                    <a:pt x="1555" y="1372"/>
                  </a:lnTo>
                  <a:lnTo>
                    <a:pt x="1555" y="1381"/>
                  </a:lnTo>
                  <a:lnTo>
                    <a:pt x="1528" y="1381"/>
                  </a:lnTo>
                  <a:lnTo>
                    <a:pt x="1528" y="1372"/>
                  </a:lnTo>
                  <a:close/>
                  <a:moveTo>
                    <a:pt x="1564" y="1372"/>
                  </a:moveTo>
                  <a:lnTo>
                    <a:pt x="1590" y="1372"/>
                  </a:lnTo>
                  <a:lnTo>
                    <a:pt x="1590" y="1381"/>
                  </a:lnTo>
                  <a:lnTo>
                    <a:pt x="1564" y="1381"/>
                  </a:lnTo>
                  <a:lnTo>
                    <a:pt x="1564" y="1372"/>
                  </a:lnTo>
                  <a:close/>
                  <a:moveTo>
                    <a:pt x="1599" y="1372"/>
                  </a:moveTo>
                  <a:lnTo>
                    <a:pt x="1626" y="1372"/>
                  </a:lnTo>
                  <a:lnTo>
                    <a:pt x="1626" y="1381"/>
                  </a:lnTo>
                  <a:lnTo>
                    <a:pt x="1599" y="1381"/>
                  </a:lnTo>
                  <a:lnTo>
                    <a:pt x="1599" y="1372"/>
                  </a:lnTo>
                  <a:close/>
                  <a:moveTo>
                    <a:pt x="1635" y="1372"/>
                  </a:moveTo>
                  <a:lnTo>
                    <a:pt x="1662" y="1372"/>
                  </a:lnTo>
                  <a:lnTo>
                    <a:pt x="1662" y="1381"/>
                  </a:lnTo>
                  <a:lnTo>
                    <a:pt x="1635" y="1381"/>
                  </a:lnTo>
                  <a:lnTo>
                    <a:pt x="1635" y="1372"/>
                  </a:lnTo>
                  <a:close/>
                  <a:moveTo>
                    <a:pt x="1670" y="1372"/>
                  </a:moveTo>
                  <a:lnTo>
                    <a:pt x="1697" y="1372"/>
                  </a:lnTo>
                  <a:lnTo>
                    <a:pt x="1697" y="1381"/>
                  </a:lnTo>
                  <a:lnTo>
                    <a:pt x="1670" y="1381"/>
                  </a:lnTo>
                  <a:lnTo>
                    <a:pt x="1670" y="1372"/>
                  </a:lnTo>
                  <a:close/>
                  <a:moveTo>
                    <a:pt x="1706" y="1372"/>
                  </a:moveTo>
                  <a:lnTo>
                    <a:pt x="1733" y="1372"/>
                  </a:lnTo>
                  <a:lnTo>
                    <a:pt x="1733" y="1381"/>
                  </a:lnTo>
                  <a:lnTo>
                    <a:pt x="1706" y="1381"/>
                  </a:lnTo>
                  <a:lnTo>
                    <a:pt x="1706" y="1372"/>
                  </a:lnTo>
                  <a:close/>
                  <a:moveTo>
                    <a:pt x="1741" y="1372"/>
                  </a:moveTo>
                  <a:lnTo>
                    <a:pt x="1768" y="1372"/>
                  </a:lnTo>
                  <a:lnTo>
                    <a:pt x="1768" y="1381"/>
                  </a:lnTo>
                  <a:lnTo>
                    <a:pt x="1741" y="1381"/>
                  </a:lnTo>
                  <a:lnTo>
                    <a:pt x="1741" y="1372"/>
                  </a:lnTo>
                  <a:close/>
                  <a:moveTo>
                    <a:pt x="1777" y="1372"/>
                  </a:moveTo>
                  <a:lnTo>
                    <a:pt x="1804" y="1372"/>
                  </a:lnTo>
                  <a:lnTo>
                    <a:pt x="1804" y="1381"/>
                  </a:lnTo>
                  <a:lnTo>
                    <a:pt x="1777" y="1381"/>
                  </a:lnTo>
                  <a:lnTo>
                    <a:pt x="1777" y="1372"/>
                  </a:lnTo>
                  <a:close/>
                  <a:moveTo>
                    <a:pt x="1813" y="1372"/>
                  </a:moveTo>
                  <a:lnTo>
                    <a:pt x="1839" y="1372"/>
                  </a:lnTo>
                  <a:lnTo>
                    <a:pt x="1839" y="1381"/>
                  </a:lnTo>
                  <a:lnTo>
                    <a:pt x="1813" y="1381"/>
                  </a:lnTo>
                  <a:lnTo>
                    <a:pt x="1813" y="1372"/>
                  </a:lnTo>
                  <a:close/>
                  <a:moveTo>
                    <a:pt x="1848" y="1372"/>
                  </a:moveTo>
                  <a:lnTo>
                    <a:pt x="1875" y="1372"/>
                  </a:lnTo>
                  <a:lnTo>
                    <a:pt x="1875" y="1381"/>
                  </a:lnTo>
                  <a:lnTo>
                    <a:pt x="1848" y="1381"/>
                  </a:lnTo>
                  <a:lnTo>
                    <a:pt x="1848" y="1372"/>
                  </a:lnTo>
                  <a:close/>
                  <a:moveTo>
                    <a:pt x="1884" y="1372"/>
                  </a:moveTo>
                  <a:lnTo>
                    <a:pt x="1910" y="1372"/>
                  </a:lnTo>
                  <a:lnTo>
                    <a:pt x="1910" y="1381"/>
                  </a:lnTo>
                  <a:lnTo>
                    <a:pt x="1884" y="1381"/>
                  </a:lnTo>
                  <a:lnTo>
                    <a:pt x="1884" y="1372"/>
                  </a:lnTo>
                  <a:close/>
                  <a:moveTo>
                    <a:pt x="1919" y="1372"/>
                  </a:moveTo>
                  <a:lnTo>
                    <a:pt x="1946" y="1372"/>
                  </a:lnTo>
                  <a:lnTo>
                    <a:pt x="1946" y="1381"/>
                  </a:lnTo>
                  <a:lnTo>
                    <a:pt x="1919" y="1381"/>
                  </a:lnTo>
                  <a:lnTo>
                    <a:pt x="1919" y="1372"/>
                  </a:lnTo>
                  <a:close/>
                  <a:moveTo>
                    <a:pt x="1955" y="1372"/>
                  </a:moveTo>
                  <a:lnTo>
                    <a:pt x="1981" y="1372"/>
                  </a:lnTo>
                  <a:lnTo>
                    <a:pt x="1981" y="1381"/>
                  </a:lnTo>
                  <a:lnTo>
                    <a:pt x="1955" y="1381"/>
                  </a:lnTo>
                  <a:lnTo>
                    <a:pt x="1955" y="1372"/>
                  </a:lnTo>
                  <a:close/>
                  <a:moveTo>
                    <a:pt x="1990" y="1372"/>
                  </a:moveTo>
                  <a:lnTo>
                    <a:pt x="2017" y="1372"/>
                  </a:lnTo>
                  <a:lnTo>
                    <a:pt x="2017" y="1381"/>
                  </a:lnTo>
                  <a:lnTo>
                    <a:pt x="1990" y="1381"/>
                  </a:lnTo>
                  <a:lnTo>
                    <a:pt x="1990" y="1372"/>
                  </a:lnTo>
                  <a:close/>
                  <a:moveTo>
                    <a:pt x="2026" y="1372"/>
                  </a:moveTo>
                  <a:lnTo>
                    <a:pt x="2052" y="1372"/>
                  </a:lnTo>
                  <a:lnTo>
                    <a:pt x="2052" y="1381"/>
                  </a:lnTo>
                  <a:lnTo>
                    <a:pt x="2026" y="1381"/>
                  </a:lnTo>
                  <a:lnTo>
                    <a:pt x="2026" y="1372"/>
                  </a:lnTo>
                  <a:close/>
                  <a:moveTo>
                    <a:pt x="2061" y="1372"/>
                  </a:moveTo>
                  <a:lnTo>
                    <a:pt x="2088" y="1372"/>
                  </a:lnTo>
                  <a:lnTo>
                    <a:pt x="2088" y="1381"/>
                  </a:lnTo>
                  <a:lnTo>
                    <a:pt x="2061" y="1381"/>
                  </a:lnTo>
                  <a:lnTo>
                    <a:pt x="2061" y="1372"/>
                  </a:lnTo>
                  <a:close/>
                  <a:moveTo>
                    <a:pt x="2097" y="1372"/>
                  </a:moveTo>
                  <a:lnTo>
                    <a:pt x="2123" y="1372"/>
                  </a:lnTo>
                  <a:lnTo>
                    <a:pt x="2123" y="1381"/>
                  </a:lnTo>
                  <a:lnTo>
                    <a:pt x="2097" y="1381"/>
                  </a:lnTo>
                  <a:lnTo>
                    <a:pt x="2097" y="1372"/>
                  </a:lnTo>
                  <a:close/>
                  <a:moveTo>
                    <a:pt x="0" y="915"/>
                  </a:moveTo>
                  <a:lnTo>
                    <a:pt x="27" y="915"/>
                  </a:lnTo>
                  <a:lnTo>
                    <a:pt x="27" y="923"/>
                  </a:lnTo>
                  <a:lnTo>
                    <a:pt x="0" y="923"/>
                  </a:lnTo>
                  <a:lnTo>
                    <a:pt x="0" y="915"/>
                  </a:lnTo>
                  <a:close/>
                  <a:moveTo>
                    <a:pt x="36" y="915"/>
                  </a:moveTo>
                  <a:lnTo>
                    <a:pt x="62" y="915"/>
                  </a:lnTo>
                  <a:lnTo>
                    <a:pt x="62" y="923"/>
                  </a:lnTo>
                  <a:lnTo>
                    <a:pt x="36" y="923"/>
                  </a:lnTo>
                  <a:lnTo>
                    <a:pt x="36" y="915"/>
                  </a:lnTo>
                  <a:close/>
                  <a:moveTo>
                    <a:pt x="71" y="915"/>
                  </a:moveTo>
                  <a:lnTo>
                    <a:pt x="98" y="915"/>
                  </a:lnTo>
                  <a:lnTo>
                    <a:pt x="98" y="923"/>
                  </a:lnTo>
                  <a:lnTo>
                    <a:pt x="71" y="923"/>
                  </a:lnTo>
                  <a:lnTo>
                    <a:pt x="71" y="915"/>
                  </a:lnTo>
                  <a:close/>
                  <a:moveTo>
                    <a:pt x="107" y="915"/>
                  </a:moveTo>
                  <a:lnTo>
                    <a:pt x="134" y="915"/>
                  </a:lnTo>
                  <a:lnTo>
                    <a:pt x="134" y="923"/>
                  </a:lnTo>
                  <a:lnTo>
                    <a:pt x="107" y="923"/>
                  </a:lnTo>
                  <a:lnTo>
                    <a:pt x="107" y="915"/>
                  </a:lnTo>
                  <a:close/>
                  <a:moveTo>
                    <a:pt x="142" y="915"/>
                  </a:moveTo>
                  <a:lnTo>
                    <a:pt x="169" y="915"/>
                  </a:lnTo>
                  <a:lnTo>
                    <a:pt x="169" y="923"/>
                  </a:lnTo>
                  <a:lnTo>
                    <a:pt x="142" y="923"/>
                  </a:lnTo>
                  <a:lnTo>
                    <a:pt x="142" y="915"/>
                  </a:lnTo>
                  <a:close/>
                  <a:moveTo>
                    <a:pt x="178" y="915"/>
                  </a:moveTo>
                  <a:lnTo>
                    <a:pt x="205" y="915"/>
                  </a:lnTo>
                  <a:lnTo>
                    <a:pt x="205" y="923"/>
                  </a:lnTo>
                  <a:lnTo>
                    <a:pt x="178" y="923"/>
                  </a:lnTo>
                  <a:lnTo>
                    <a:pt x="178" y="915"/>
                  </a:lnTo>
                  <a:close/>
                  <a:moveTo>
                    <a:pt x="213" y="915"/>
                  </a:moveTo>
                  <a:lnTo>
                    <a:pt x="240" y="915"/>
                  </a:lnTo>
                  <a:lnTo>
                    <a:pt x="240" y="923"/>
                  </a:lnTo>
                  <a:lnTo>
                    <a:pt x="213" y="923"/>
                  </a:lnTo>
                  <a:lnTo>
                    <a:pt x="213" y="915"/>
                  </a:lnTo>
                  <a:close/>
                  <a:moveTo>
                    <a:pt x="249" y="915"/>
                  </a:moveTo>
                  <a:lnTo>
                    <a:pt x="276" y="915"/>
                  </a:lnTo>
                  <a:lnTo>
                    <a:pt x="276" y="923"/>
                  </a:lnTo>
                  <a:lnTo>
                    <a:pt x="249" y="923"/>
                  </a:lnTo>
                  <a:lnTo>
                    <a:pt x="249" y="915"/>
                  </a:lnTo>
                  <a:close/>
                  <a:moveTo>
                    <a:pt x="285" y="915"/>
                  </a:moveTo>
                  <a:lnTo>
                    <a:pt x="311" y="915"/>
                  </a:lnTo>
                  <a:lnTo>
                    <a:pt x="311" y="923"/>
                  </a:lnTo>
                  <a:lnTo>
                    <a:pt x="285" y="923"/>
                  </a:lnTo>
                  <a:lnTo>
                    <a:pt x="285" y="915"/>
                  </a:lnTo>
                  <a:close/>
                  <a:moveTo>
                    <a:pt x="320" y="915"/>
                  </a:moveTo>
                  <a:lnTo>
                    <a:pt x="347" y="915"/>
                  </a:lnTo>
                  <a:lnTo>
                    <a:pt x="347" y="923"/>
                  </a:lnTo>
                  <a:lnTo>
                    <a:pt x="320" y="923"/>
                  </a:lnTo>
                  <a:lnTo>
                    <a:pt x="320" y="915"/>
                  </a:lnTo>
                  <a:close/>
                  <a:moveTo>
                    <a:pt x="356" y="915"/>
                  </a:moveTo>
                  <a:lnTo>
                    <a:pt x="382" y="915"/>
                  </a:lnTo>
                  <a:lnTo>
                    <a:pt x="382" y="923"/>
                  </a:lnTo>
                  <a:lnTo>
                    <a:pt x="356" y="923"/>
                  </a:lnTo>
                  <a:lnTo>
                    <a:pt x="356" y="915"/>
                  </a:lnTo>
                  <a:close/>
                  <a:moveTo>
                    <a:pt x="391" y="915"/>
                  </a:moveTo>
                  <a:lnTo>
                    <a:pt x="418" y="915"/>
                  </a:lnTo>
                  <a:lnTo>
                    <a:pt x="418" y="923"/>
                  </a:lnTo>
                  <a:lnTo>
                    <a:pt x="391" y="923"/>
                  </a:lnTo>
                  <a:lnTo>
                    <a:pt x="391" y="915"/>
                  </a:lnTo>
                  <a:close/>
                  <a:moveTo>
                    <a:pt x="427" y="915"/>
                  </a:moveTo>
                  <a:lnTo>
                    <a:pt x="453" y="915"/>
                  </a:lnTo>
                  <a:lnTo>
                    <a:pt x="453" y="923"/>
                  </a:lnTo>
                  <a:lnTo>
                    <a:pt x="427" y="923"/>
                  </a:lnTo>
                  <a:lnTo>
                    <a:pt x="427" y="915"/>
                  </a:lnTo>
                  <a:close/>
                  <a:moveTo>
                    <a:pt x="462" y="915"/>
                  </a:moveTo>
                  <a:lnTo>
                    <a:pt x="489" y="915"/>
                  </a:lnTo>
                  <a:lnTo>
                    <a:pt x="489" y="923"/>
                  </a:lnTo>
                  <a:lnTo>
                    <a:pt x="462" y="923"/>
                  </a:lnTo>
                  <a:lnTo>
                    <a:pt x="462" y="915"/>
                  </a:lnTo>
                  <a:close/>
                  <a:moveTo>
                    <a:pt x="498" y="915"/>
                  </a:moveTo>
                  <a:lnTo>
                    <a:pt x="524" y="915"/>
                  </a:lnTo>
                  <a:lnTo>
                    <a:pt x="524" y="923"/>
                  </a:lnTo>
                  <a:lnTo>
                    <a:pt x="498" y="923"/>
                  </a:lnTo>
                  <a:lnTo>
                    <a:pt x="498" y="915"/>
                  </a:lnTo>
                  <a:close/>
                  <a:moveTo>
                    <a:pt x="533" y="915"/>
                  </a:moveTo>
                  <a:lnTo>
                    <a:pt x="560" y="915"/>
                  </a:lnTo>
                  <a:lnTo>
                    <a:pt x="560" y="923"/>
                  </a:lnTo>
                  <a:lnTo>
                    <a:pt x="533" y="923"/>
                  </a:lnTo>
                  <a:lnTo>
                    <a:pt x="533" y="915"/>
                  </a:lnTo>
                  <a:close/>
                  <a:moveTo>
                    <a:pt x="569" y="915"/>
                  </a:moveTo>
                  <a:lnTo>
                    <a:pt x="595" y="915"/>
                  </a:lnTo>
                  <a:lnTo>
                    <a:pt x="595" y="923"/>
                  </a:lnTo>
                  <a:lnTo>
                    <a:pt x="569" y="923"/>
                  </a:lnTo>
                  <a:lnTo>
                    <a:pt x="569" y="915"/>
                  </a:lnTo>
                  <a:close/>
                  <a:moveTo>
                    <a:pt x="604" y="915"/>
                  </a:moveTo>
                  <a:lnTo>
                    <a:pt x="631" y="915"/>
                  </a:lnTo>
                  <a:lnTo>
                    <a:pt x="631" y="923"/>
                  </a:lnTo>
                  <a:lnTo>
                    <a:pt x="604" y="923"/>
                  </a:lnTo>
                  <a:lnTo>
                    <a:pt x="604" y="915"/>
                  </a:lnTo>
                  <a:close/>
                  <a:moveTo>
                    <a:pt x="640" y="915"/>
                  </a:moveTo>
                  <a:lnTo>
                    <a:pt x="667" y="915"/>
                  </a:lnTo>
                  <a:lnTo>
                    <a:pt x="667" y="923"/>
                  </a:lnTo>
                  <a:lnTo>
                    <a:pt x="640" y="923"/>
                  </a:lnTo>
                  <a:lnTo>
                    <a:pt x="640" y="915"/>
                  </a:lnTo>
                  <a:close/>
                  <a:moveTo>
                    <a:pt x="675" y="915"/>
                  </a:moveTo>
                  <a:lnTo>
                    <a:pt x="702" y="915"/>
                  </a:lnTo>
                  <a:lnTo>
                    <a:pt x="702" y="923"/>
                  </a:lnTo>
                  <a:lnTo>
                    <a:pt x="675" y="923"/>
                  </a:lnTo>
                  <a:lnTo>
                    <a:pt x="675" y="915"/>
                  </a:lnTo>
                  <a:close/>
                  <a:moveTo>
                    <a:pt x="711" y="915"/>
                  </a:moveTo>
                  <a:lnTo>
                    <a:pt x="738" y="915"/>
                  </a:lnTo>
                  <a:lnTo>
                    <a:pt x="738" y="923"/>
                  </a:lnTo>
                  <a:lnTo>
                    <a:pt x="711" y="923"/>
                  </a:lnTo>
                  <a:lnTo>
                    <a:pt x="711" y="915"/>
                  </a:lnTo>
                  <a:close/>
                  <a:moveTo>
                    <a:pt x="746" y="915"/>
                  </a:moveTo>
                  <a:lnTo>
                    <a:pt x="773" y="915"/>
                  </a:lnTo>
                  <a:lnTo>
                    <a:pt x="773" y="923"/>
                  </a:lnTo>
                  <a:lnTo>
                    <a:pt x="746" y="923"/>
                  </a:lnTo>
                  <a:lnTo>
                    <a:pt x="746" y="915"/>
                  </a:lnTo>
                  <a:close/>
                  <a:moveTo>
                    <a:pt x="782" y="915"/>
                  </a:moveTo>
                  <a:lnTo>
                    <a:pt x="809" y="915"/>
                  </a:lnTo>
                  <a:lnTo>
                    <a:pt x="809" y="923"/>
                  </a:lnTo>
                  <a:lnTo>
                    <a:pt x="782" y="923"/>
                  </a:lnTo>
                  <a:lnTo>
                    <a:pt x="782" y="915"/>
                  </a:lnTo>
                  <a:close/>
                  <a:moveTo>
                    <a:pt x="818" y="915"/>
                  </a:moveTo>
                  <a:lnTo>
                    <a:pt x="844" y="915"/>
                  </a:lnTo>
                  <a:lnTo>
                    <a:pt x="844" y="923"/>
                  </a:lnTo>
                  <a:lnTo>
                    <a:pt x="818" y="923"/>
                  </a:lnTo>
                  <a:lnTo>
                    <a:pt x="818" y="915"/>
                  </a:lnTo>
                  <a:close/>
                  <a:moveTo>
                    <a:pt x="853" y="915"/>
                  </a:moveTo>
                  <a:lnTo>
                    <a:pt x="880" y="915"/>
                  </a:lnTo>
                  <a:lnTo>
                    <a:pt x="880" y="923"/>
                  </a:lnTo>
                  <a:lnTo>
                    <a:pt x="853" y="923"/>
                  </a:lnTo>
                  <a:lnTo>
                    <a:pt x="853" y="915"/>
                  </a:lnTo>
                  <a:close/>
                  <a:moveTo>
                    <a:pt x="889" y="915"/>
                  </a:moveTo>
                  <a:lnTo>
                    <a:pt x="915" y="915"/>
                  </a:lnTo>
                  <a:lnTo>
                    <a:pt x="915" y="923"/>
                  </a:lnTo>
                  <a:lnTo>
                    <a:pt x="889" y="923"/>
                  </a:lnTo>
                  <a:lnTo>
                    <a:pt x="889" y="915"/>
                  </a:lnTo>
                  <a:close/>
                  <a:moveTo>
                    <a:pt x="924" y="915"/>
                  </a:moveTo>
                  <a:lnTo>
                    <a:pt x="951" y="915"/>
                  </a:lnTo>
                  <a:lnTo>
                    <a:pt x="951" y="923"/>
                  </a:lnTo>
                  <a:lnTo>
                    <a:pt x="924" y="923"/>
                  </a:lnTo>
                  <a:lnTo>
                    <a:pt x="924" y="915"/>
                  </a:lnTo>
                  <a:close/>
                  <a:moveTo>
                    <a:pt x="960" y="915"/>
                  </a:moveTo>
                  <a:lnTo>
                    <a:pt x="986" y="915"/>
                  </a:lnTo>
                  <a:lnTo>
                    <a:pt x="986" y="923"/>
                  </a:lnTo>
                  <a:lnTo>
                    <a:pt x="960" y="923"/>
                  </a:lnTo>
                  <a:lnTo>
                    <a:pt x="960" y="915"/>
                  </a:lnTo>
                  <a:close/>
                  <a:moveTo>
                    <a:pt x="995" y="915"/>
                  </a:moveTo>
                  <a:lnTo>
                    <a:pt x="1022" y="915"/>
                  </a:lnTo>
                  <a:lnTo>
                    <a:pt x="1022" y="923"/>
                  </a:lnTo>
                  <a:lnTo>
                    <a:pt x="995" y="923"/>
                  </a:lnTo>
                  <a:lnTo>
                    <a:pt x="995" y="915"/>
                  </a:lnTo>
                  <a:close/>
                  <a:moveTo>
                    <a:pt x="1031" y="915"/>
                  </a:moveTo>
                  <a:lnTo>
                    <a:pt x="1057" y="915"/>
                  </a:lnTo>
                  <a:lnTo>
                    <a:pt x="1057" y="923"/>
                  </a:lnTo>
                  <a:lnTo>
                    <a:pt x="1031" y="923"/>
                  </a:lnTo>
                  <a:lnTo>
                    <a:pt x="1031" y="915"/>
                  </a:lnTo>
                  <a:close/>
                  <a:moveTo>
                    <a:pt x="1066" y="915"/>
                  </a:moveTo>
                  <a:lnTo>
                    <a:pt x="1093" y="915"/>
                  </a:lnTo>
                  <a:lnTo>
                    <a:pt x="1093" y="923"/>
                  </a:lnTo>
                  <a:lnTo>
                    <a:pt x="1066" y="923"/>
                  </a:lnTo>
                  <a:lnTo>
                    <a:pt x="1066" y="915"/>
                  </a:lnTo>
                  <a:close/>
                  <a:moveTo>
                    <a:pt x="1102" y="915"/>
                  </a:moveTo>
                  <a:lnTo>
                    <a:pt x="1128" y="915"/>
                  </a:lnTo>
                  <a:lnTo>
                    <a:pt x="1128" y="923"/>
                  </a:lnTo>
                  <a:lnTo>
                    <a:pt x="1102" y="923"/>
                  </a:lnTo>
                  <a:lnTo>
                    <a:pt x="1102" y="915"/>
                  </a:lnTo>
                  <a:close/>
                  <a:moveTo>
                    <a:pt x="1137" y="915"/>
                  </a:moveTo>
                  <a:lnTo>
                    <a:pt x="1164" y="915"/>
                  </a:lnTo>
                  <a:lnTo>
                    <a:pt x="1164" y="923"/>
                  </a:lnTo>
                  <a:lnTo>
                    <a:pt x="1137" y="923"/>
                  </a:lnTo>
                  <a:lnTo>
                    <a:pt x="1137" y="915"/>
                  </a:lnTo>
                  <a:close/>
                  <a:moveTo>
                    <a:pt x="1173" y="915"/>
                  </a:moveTo>
                  <a:lnTo>
                    <a:pt x="1200" y="915"/>
                  </a:lnTo>
                  <a:lnTo>
                    <a:pt x="1200" y="923"/>
                  </a:lnTo>
                  <a:lnTo>
                    <a:pt x="1173" y="923"/>
                  </a:lnTo>
                  <a:lnTo>
                    <a:pt x="1173" y="915"/>
                  </a:lnTo>
                  <a:close/>
                  <a:moveTo>
                    <a:pt x="1208" y="915"/>
                  </a:moveTo>
                  <a:lnTo>
                    <a:pt x="1235" y="915"/>
                  </a:lnTo>
                  <a:lnTo>
                    <a:pt x="1235" y="923"/>
                  </a:lnTo>
                  <a:lnTo>
                    <a:pt x="1208" y="923"/>
                  </a:lnTo>
                  <a:lnTo>
                    <a:pt x="1208" y="915"/>
                  </a:lnTo>
                  <a:close/>
                  <a:moveTo>
                    <a:pt x="1244" y="915"/>
                  </a:moveTo>
                  <a:lnTo>
                    <a:pt x="1271" y="915"/>
                  </a:lnTo>
                  <a:lnTo>
                    <a:pt x="1271" y="923"/>
                  </a:lnTo>
                  <a:lnTo>
                    <a:pt x="1244" y="923"/>
                  </a:lnTo>
                  <a:lnTo>
                    <a:pt x="1244" y="915"/>
                  </a:lnTo>
                  <a:close/>
                  <a:moveTo>
                    <a:pt x="1280" y="915"/>
                  </a:moveTo>
                  <a:lnTo>
                    <a:pt x="1306" y="915"/>
                  </a:lnTo>
                  <a:lnTo>
                    <a:pt x="1306" y="923"/>
                  </a:lnTo>
                  <a:lnTo>
                    <a:pt x="1280" y="923"/>
                  </a:lnTo>
                  <a:lnTo>
                    <a:pt x="1280" y="915"/>
                  </a:lnTo>
                  <a:close/>
                  <a:moveTo>
                    <a:pt x="1315" y="915"/>
                  </a:moveTo>
                  <a:lnTo>
                    <a:pt x="1342" y="915"/>
                  </a:lnTo>
                  <a:lnTo>
                    <a:pt x="1342" y="923"/>
                  </a:lnTo>
                  <a:lnTo>
                    <a:pt x="1315" y="923"/>
                  </a:lnTo>
                  <a:lnTo>
                    <a:pt x="1315" y="915"/>
                  </a:lnTo>
                  <a:close/>
                  <a:moveTo>
                    <a:pt x="1351" y="915"/>
                  </a:moveTo>
                  <a:lnTo>
                    <a:pt x="1377" y="915"/>
                  </a:lnTo>
                  <a:lnTo>
                    <a:pt x="1377" y="923"/>
                  </a:lnTo>
                  <a:lnTo>
                    <a:pt x="1351" y="923"/>
                  </a:lnTo>
                  <a:lnTo>
                    <a:pt x="1351" y="915"/>
                  </a:lnTo>
                  <a:close/>
                  <a:moveTo>
                    <a:pt x="1386" y="915"/>
                  </a:moveTo>
                  <a:lnTo>
                    <a:pt x="1413" y="915"/>
                  </a:lnTo>
                  <a:lnTo>
                    <a:pt x="1413" y="923"/>
                  </a:lnTo>
                  <a:lnTo>
                    <a:pt x="1386" y="923"/>
                  </a:lnTo>
                  <a:lnTo>
                    <a:pt x="1386" y="915"/>
                  </a:lnTo>
                  <a:close/>
                  <a:moveTo>
                    <a:pt x="1422" y="915"/>
                  </a:moveTo>
                  <a:lnTo>
                    <a:pt x="1448" y="915"/>
                  </a:lnTo>
                  <a:lnTo>
                    <a:pt x="1448" y="923"/>
                  </a:lnTo>
                  <a:lnTo>
                    <a:pt x="1422" y="923"/>
                  </a:lnTo>
                  <a:lnTo>
                    <a:pt x="1422" y="915"/>
                  </a:lnTo>
                  <a:close/>
                  <a:moveTo>
                    <a:pt x="1457" y="915"/>
                  </a:moveTo>
                  <a:lnTo>
                    <a:pt x="1484" y="915"/>
                  </a:lnTo>
                  <a:lnTo>
                    <a:pt x="1484" y="923"/>
                  </a:lnTo>
                  <a:lnTo>
                    <a:pt x="1457" y="923"/>
                  </a:lnTo>
                  <a:lnTo>
                    <a:pt x="1457" y="915"/>
                  </a:lnTo>
                  <a:close/>
                  <a:moveTo>
                    <a:pt x="1493" y="915"/>
                  </a:moveTo>
                  <a:lnTo>
                    <a:pt x="1519" y="915"/>
                  </a:lnTo>
                  <a:lnTo>
                    <a:pt x="1519" y="923"/>
                  </a:lnTo>
                  <a:lnTo>
                    <a:pt x="1493" y="923"/>
                  </a:lnTo>
                  <a:lnTo>
                    <a:pt x="1493" y="915"/>
                  </a:lnTo>
                  <a:close/>
                  <a:moveTo>
                    <a:pt x="1528" y="915"/>
                  </a:moveTo>
                  <a:lnTo>
                    <a:pt x="1555" y="915"/>
                  </a:lnTo>
                  <a:lnTo>
                    <a:pt x="1555" y="923"/>
                  </a:lnTo>
                  <a:lnTo>
                    <a:pt x="1528" y="923"/>
                  </a:lnTo>
                  <a:lnTo>
                    <a:pt x="1528" y="915"/>
                  </a:lnTo>
                  <a:close/>
                  <a:moveTo>
                    <a:pt x="1564" y="915"/>
                  </a:moveTo>
                  <a:lnTo>
                    <a:pt x="1590" y="915"/>
                  </a:lnTo>
                  <a:lnTo>
                    <a:pt x="1590" y="923"/>
                  </a:lnTo>
                  <a:lnTo>
                    <a:pt x="1564" y="923"/>
                  </a:lnTo>
                  <a:lnTo>
                    <a:pt x="1564" y="915"/>
                  </a:lnTo>
                  <a:close/>
                  <a:moveTo>
                    <a:pt x="1599" y="915"/>
                  </a:moveTo>
                  <a:lnTo>
                    <a:pt x="1626" y="915"/>
                  </a:lnTo>
                  <a:lnTo>
                    <a:pt x="1626" y="923"/>
                  </a:lnTo>
                  <a:lnTo>
                    <a:pt x="1599" y="923"/>
                  </a:lnTo>
                  <a:lnTo>
                    <a:pt x="1599" y="915"/>
                  </a:lnTo>
                  <a:close/>
                  <a:moveTo>
                    <a:pt x="1635" y="915"/>
                  </a:moveTo>
                  <a:lnTo>
                    <a:pt x="1662" y="915"/>
                  </a:lnTo>
                  <a:lnTo>
                    <a:pt x="1662" y="923"/>
                  </a:lnTo>
                  <a:lnTo>
                    <a:pt x="1635" y="923"/>
                  </a:lnTo>
                  <a:lnTo>
                    <a:pt x="1635" y="915"/>
                  </a:lnTo>
                  <a:close/>
                  <a:moveTo>
                    <a:pt x="1670" y="915"/>
                  </a:moveTo>
                  <a:lnTo>
                    <a:pt x="1697" y="915"/>
                  </a:lnTo>
                  <a:lnTo>
                    <a:pt x="1697" y="923"/>
                  </a:lnTo>
                  <a:lnTo>
                    <a:pt x="1670" y="923"/>
                  </a:lnTo>
                  <a:lnTo>
                    <a:pt x="1670" y="915"/>
                  </a:lnTo>
                  <a:close/>
                  <a:moveTo>
                    <a:pt x="1706" y="915"/>
                  </a:moveTo>
                  <a:lnTo>
                    <a:pt x="1733" y="915"/>
                  </a:lnTo>
                  <a:lnTo>
                    <a:pt x="1733" y="923"/>
                  </a:lnTo>
                  <a:lnTo>
                    <a:pt x="1706" y="923"/>
                  </a:lnTo>
                  <a:lnTo>
                    <a:pt x="1706" y="915"/>
                  </a:lnTo>
                  <a:close/>
                  <a:moveTo>
                    <a:pt x="1741" y="915"/>
                  </a:moveTo>
                  <a:lnTo>
                    <a:pt x="1768" y="915"/>
                  </a:lnTo>
                  <a:lnTo>
                    <a:pt x="1768" y="923"/>
                  </a:lnTo>
                  <a:lnTo>
                    <a:pt x="1741" y="923"/>
                  </a:lnTo>
                  <a:lnTo>
                    <a:pt x="1741" y="915"/>
                  </a:lnTo>
                  <a:close/>
                  <a:moveTo>
                    <a:pt x="1777" y="915"/>
                  </a:moveTo>
                  <a:lnTo>
                    <a:pt x="1804" y="915"/>
                  </a:lnTo>
                  <a:lnTo>
                    <a:pt x="1804" y="923"/>
                  </a:lnTo>
                  <a:lnTo>
                    <a:pt x="1777" y="923"/>
                  </a:lnTo>
                  <a:lnTo>
                    <a:pt x="1777" y="915"/>
                  </a:lnTo>
                  <a:close/>
                  <a:moveTo>
                    <a:pt x="1813" y="915"/>
                  </a:moveTo>
                  <a:lnTo>
                    <a:pt x="1839" y="915"/>
                  </a:lnTo>
                  <a:lnTo>
                    <a:pt x="1839" y="923"/>
                  </a:lnTo>
                  <a:lnTo>
                    <a:pt x="1813" y="923"/>
                  </a:lnTo>
                  <a:lnTo>
                    <a:pt x="1813" y="915"/>
                  </a:lnTo>
                  <a:close/>
                  <a:moveTo>
                    <a:pt x="1848" y="915"/>
                  </a:moveTo>
                  <a:lnTo>
                    <a:pt x="1875" y="915"/>
                  </a:lnTo>
                  <a:lnTo>
                    <a:pt x="1875" y="923"/>
                  </a:lnTo>
                  <a:lnTo>
                    <a:pt x="1848" y="923"/>
                  </a:lnTo>
                  <a:lnTo>
                    <a:pt x="1848" y="915"/>
                  </a:lnTo>
                  <a:close/>
                  <a:moveTo>
                    <a:pt x="1884" y="915"/>
                  </a:moveTo>
                  <a:lnTo>
                    <a:pt x="1910" y="915"/>
                  </a:lnTo>
                  <a:lnTo>
                    <a:pt x="1910" y="923"/>
                  </a:lnTo>
                  <a:lnTo>
                    <a:pt x="1884" y="923"/>
                  </a:lnTo>
                  <a:lnTo>
                    <a:pt x="1884" y="915"/>
                  </a:lnTo>
                  <a:close/>
                  <a:moveTo>
                    <a:pt x="1919" y="915"/>
                  </a:moveTo>
                  <a:lnTo>
                    <a:pt x="1946" y="915"/>
                  </a:lnTo>
                  <a:lnTo>
                    <a:pt x="1946" y="923"/>
                  </a:lnTo>
                  <a:lnTo>
                    <a:pt x="1919" y="923"/>
                  </a:lnTo>
                  <a:lnTo>
                    <a:pt x="1919" y="915"/>
                  </a:lnTo>
                  <a:close/>
                  <a:moveTo>
                    <a:pt x="1955" y="915"/>
                  </a:moveTo>
                  <a:lnTo>
                    <a:pt x="1981" y="915"/>
                  </a:lnTo>
                  <a:lnTo>
                    <a:pt x="1981" y="923"/>
                  </a:lnTo>
                  <a:lnTo>
                    <a:pt x="1955" y="923"/>
                  </a:lnTo>
                  <a:lnTo>
                    <a:pt x="1955" y="915"/>
                  </a:lnTo>
                  <a:close/>
                  <a:moveTo>
                    <a:pt x="1990" y="915"/>
                  </a:moveTo>
                  <a:lnTo>
                    <a:pt x="2017" y="915"/>
                  </a:lnTo>
                  <a:lnTo>
                    <a:pt x="2017" y="923"/>
                  </a:lnTo>
                  <a:lnTo>
                    <a:pt x="1990" y="923"/>
                  </a:lnTo>
                  <a:lnTo>
                    <a:pt x="1990" y="915"/>
                  </a:lnTo>
                  <a:close/>
                  <a:moveTo>
                    <a:pt x="2026" y="915"/>
                  </a:moveTo>
                  <a:lnTo>
                    <a:pt x="2052" y="915"/>
                  </a:lnTo>
                  <a:lnTo>
                    <a:pt x="2052" y="923"/>
                  </a:lnTo>
                  <a:lnTo>
                    <a:pt x="2026" y="923"/>
                  </a:lnTo>
                  <a:lnTo>
                    <a:pt x="2026" y="915"/>
                  </a:lnTo>
                  <a:close/>
                  <a:moveTo>
                    <a:pt x="2061" y="915"/>
                  </a:moveTo>
                  <a:lnTo>
                    <a:pt x="2088" y="915"/>
                  </a:lnTo>
                  <a:lnTo>
                    <a:pt x="2088" y="923"/>
                  </a:lnTo>
                  <a:lnTo>
                    <a:pt x="2061" y="923"/>
                  </a:lnTo>
                  <a:lnTo>
                    <a:pt x="2061" y="915"/>
                  </a:lnTo>
                  <a:close/>
                  <a:moveTo>
                    <a:pt x="2097" y="915"/>
                  </a:moveTo>
                  <a:lnTo>
                    <a:pt x="2123" y="915"/>
                  </a:lnTo>
                  <a:lnTo>
                    <a:pt x="2123" y="923"/>
                  </a:lnTo>
                  <a:lnTo>
                    <a:pt x="2097" y="923"/>
                  </a:lnTo>
                  <a:lnTo>
                    <a:pt x="2097" y="915"/>
                  </a:lnTo>
                  <a:close/>
                  <a:moveTo>
                    <a:pt x="0" y="458"/>
                  </a:moveTo>
                  <a:lnTo>
                    <a:pt x="27" y="458"/>
                  </a:lnTo>
                  <a:lnTo>
                    <a:pt x="27" y="466"/>
                  </a:lnTo>
                  <a:lnTo>
                    <a:pt x="0" y="466"/>
                  </a:lnTo>
                  <a:lnTo>
                    <a:pt x="0" y="458"/>
                  </a:lnTo>
                  <a:close/>
                  <a:moveTo>
                    <a:pt x="36" y="458"/>
                  </a:moveTo>
                  <a:lnTo>
                    <a:pt x="62" y="458"/>
                  </a:lnTo>
                  <a:lnTo>
                    <a:pt x="62" y="466"/>
                  </a:lnTo>
                  <a:lnTo>
                    <a:pt x="36" y="466"/>
                  </a:lnTo>
                  <a:lnTo>
                    <a:pt x="36" y="458"/>
                  </a:lnTo>
                  <a:close/>
                  <a:moveTo>
                    <a:pt x="71" y="458"/>
                  </a:moveTo>
                  <a:lnTo>
                    <a:pt x="98" y="458"/>
                  </a:lnTo>
                  <a:lnTo>
                    <a:pt x="98" y="466"/>
                  </a:lnTo>
                  <a:lnTo>
                    <a:pt x="71" y="466"/>
                  </a:lnTo>
                  <a:lnTo>
                    <a:pt x="71" y="458"/>
                  </a:lnTo>
                  <a:close/>
                  <a:moveTo>
                    <a:pt x="107" y="458"/>
                  </a:moveTo>
                  <a:lnTo>
                    <a:pt x="134" y="458"/>
                  </a:lnTo>
                  <a:lnTo>
                    <a:pt x="134" y="466"/>
                  </a:lnTo>
                  <a:lnTo>
                    <a:pt x="107" y="466"/>
                  </a:lnTo>
                  <a:lnTo>
                    <a:pt x="107" y="458"/>
                  </a:lnTo>
                  <a:close/>
                  <a:moveTo>
                    <a:pt x="142" y="458"/>
                  </a:moveTo>
                  <a:lnTo>
                    <a:pt x="169" y="458"/>
                  </a:lnTo>
                  <a:lnTo>
                    <a:pt x="169" y="466"/>
                  </a:lnTo>
                  <a:lnTo>
                    <a:pt x="142" y="466"/>
                  </a:lnTo>
                  <a:lnTo>
                    <a:pt x="142" y="458"/>
                  </a:lnTo>
                  <a:close/>
                  <a:moveTo>
                    <a:pt x="178" y="458"/>
                  </a:moveTo>
                  <a:lnTo>
                    <a:pt x="205" y="458"/>
                  </a:lnTo>
                  <a:lnTo>
                    <a:pt x="205" y="466"/>
                  </a:lnTo>
                  <a:lnTo>
                    <a:pt x="178" y="466"/>
                  </a:lnTo>
                  <a:lnTo>
                    <a:pt x="178" y="458"/>
                  </a:lnTo>
                  <a:close/>
                  <a:moveTo>
                    <a:pt x="213" y="458"/>
                  </a:moveTo>
                  <a:lnTo>
                    <a:pt x="240" y="458"/>
                  </a:lnTo>
                  <a:lnTo>
                    <a:pt x="240" y="466"/>
                  </a:lnTo>
                  <a:lnTo>
                    <a:pt x="213" y="466"/>
                  </a:lnTo>
                  <a:lnTo>
                    <a:pt x="213" y="458"/>
                  </a:lnTo>
                  <a:close/>
                  <a:moveTo>
                    <a:pt x="249" y="458"/>
                  </a:moveTo>
                  <a:lnTo>
                    <a:pt x="276" y="458"/>
                  </a:lnTo>
                  <a:lnTo>
                    <a:pt x="276" y="466"/>
                  </a:lnTo>
                  <a:lnTo>
                    <a:pt x="249" y="466"/>
                  </a:lnTo>
                  <a:lnTo>
                    <a:pt x="249" y="458"/>
                  </a:lnTo>
                  <a:close/>
                  <a:moveTo>
                    <a:pt x="285" y="458"/>
                  </a:moveTo>
                  <a:lnTo>
                    <a:pt x="311" y="458"/>
                  </a:lnTo>
                  <a:lnTo>
                    <a:pt x="311" y="466"/>
                  </a:lnTo>
                  <a:lnTo>
                    <a:pt x="285" y="466"/>
                  </a:lnTo>
                  <a:lnTo>
                    <a:pt x="285" y="458"/>
                  </a:lnTo>
                  <a:close/>
                  <a:moveTo>
                    <a:pt x="320" y="458"/>
                  </a:moveTo>
                  <a:lnTo>
                    <a:pt x="347" y="458"/>
                  </a:lnTo>
                  <a:lnTo>
                    <a:pt x="347" y="466"/>
                  </a:lnTo>
                  <a:lnTo>
                    <a:pt x="320" y="466"/>
                  </a:lnTo>
                  <a:lnTo>
                    <a:pt x="320" y="458"/>
                  </a:lnTo>
                  <a:close/>
                  <a:moveTo>
                    <a:pt x="356" y="458"/>
                  </a:moveTo>
                  <a:lnTo>
                    <a:pt x="382" y="458"/>
                  </a:lnTo>
                  <a:lnTo>
                    <a:pt x="382" y="466"/>
                  </a:lnTo>
                  <a:lnTo>
                    <a:pt x="356" y="466"/>
                  </a:lnTo>
                  <a:lnTo>
                    <a:pt x="356" y="458"/>
                  </a:lnTo>
                  <a:close/>
                  <a:moveTo>
                    <a:pt x="391" y="458"/>
                  </a:moveTo>
                  <a:lnTo>
                    <a:pt x="418" y="458"/>
                  </a:lnTo>
                  <a:lnTo>
                    <a:pt x="418" y="466"/>
                  </a:lnTo>
                  <a:lnTo>
                    <a:pt x="391" y="466"/>
                  </a:lnTo>
                  <a:lnTo>
                    <a:pt x="391" y="458"/>
                  </a:lnTo>
                  <a:close/>
                  <a:moveTo>
                    <a:pt x="427" y="458"/>
                  </a:moveTo>
                  <a:lnTo>
                    <a:pt x="453" y="458"/>
                  </a:lnTo>
                  <a:lnTo>
                    <a:pt x="453" y="466"/>
                  </a:lnTo>
                  <a:lnTo>
                    <a:pt x="427" y="466"/>
                  </a:lnTo>
                  <a:lnTo>
                    <a:pt x="427" y="458"/>
                  </a:lnTo>
                  <a:close/>
                  <a:moveTo>
                    <a:pt x="462" y="458"/>
                  </a:moveTo>
                  <a:lnTo>
                    <a:pt x="489" y="458"/>
                  </a:lnTo>
                  <a:lnTo>
                    <a:pt x="489" y="466"/>
                  </a:lnTo>
                  <a:lnTo>
                    <a:pt x="462" y="466"/>
                  </a:lnTo>
                  <a:lnTo>
                    <a:pt x="462" y="458"/>
                  </a:lnTo>
                  <a:close/>
                  <a:moveTo>
                    <a:pt x="498" y="458"/>
                  </a:moveTo>
                  <a:lnTo>
                    <a:pt x="524" y="458"/>
                  </a:lnTo>
                  <a:lnTo>
                    <a:pt x="524" y="466"/>
                  </a:lnTo>
                  <a:lnTo>
                    <a:pt x="498" y="466"/>
                  </a:lnTo>
                  <a:lnTo>
                    <a:pt x="498" y="458"/>
                  </a:lnTo>
                  <a:close/>
                  <a:moveTo>
                    <a:pt x="533" y="458"/>
                  </a:moveTo>
                  <a:lnTo>
                    <a:pt x="560" y="458"/>
                  </a:lnTo>
                  <a:lnTo>
                    <a:pt x="560" y="466"/>
                  </a:lnTo>
                  <a:lnTo>
                    <a:pt x="533" y="466"/>
                  </a:lnTo>
                  <a:lnTo>
                    <a:pt x="533" y="458"/>
                  </a:lnTo>
                  <a:close/>
                  <a:moveTo>
                    <a:pt x="569" y="458"/>
                  </a:moveTo>
                  <a:lnTo>
                    <a:pt x="595" y="458"/>
                  </a:lnTo>
                  <a:lnTo>
                    <a:pt x="595" y="466"/>
                  </a:lnTo>
                  <a:lnTo>
                    <a:pt x="569" y="466"/>
                  </a:lnTo>
                  <a:lnTo>
                    <a:pt x="569" y="458"/>
                  </a:lnTo>
                  <a:close/>
                  <a:moveTo>
                    <a:pt x="604" y="458"/>
                  </a:moveTo>
                  <a:lnTo>
                    <a:pt x="631" y="458"/>
                  </a:lnTo>
                  <a:lnTo>
                    <a:pt x="631" y="466"/>
                  </a:lnTo>
                  <a:lnTo>
                    <a:pt x="604" y="466"/>
                  </a:lnTo>
                  <a:lnTo>
                    <a:pt x="604" y="458"/>
                  </a:lnTo>
                  <a:close/>
                  <a:moveTo>
                    <a:pt x="640" y="458"/>
                  </a:moveTo>
                  <a:lnTo>
                    <a:pt x="667" y="458"/>
                  </a:lnTo>
                  <a:lnTo>
                    <a:pt x="667" y="466"/>
                  </a:lnTo>
                  <a:lnTo>
                    <a:pt x="640" y="466"/>
                  </a:lnTo>
                  <a:lnTo>
                    <a:pt x="640" y="458"/>
                  </a:lnTo>
                  <a:close/>
                  <a:moveTo>
                    <a:pt x="675" y="458"/>
                  </a:moveTo>
                  <a:lnTo>
                    <a:pt x="702" y="458"/>
                  </a:lnTo>
                  <a:lnTo>
                    <a:pt x="702" y="466"/>
                  </a:lnTo>
                  <a:lnTo>
                    <a:pt x="675" y="466"/>
                  </a:lnTo>
                  <a:lnTo>
                    <a:pt x="675" y="458"/>
                  </a:lnTo>
                  <a:close/>
                  <a:moveTo>
                    <a:pt x="711" y="458"/>
                  </a:moveTo>
                  <a:lnTo>
                    <a:pt x="738" y="458"/>
                  </a:lnTo>
                  <a:lnTo>
                    <a:pt x="738" y="466"/>
                  </a:lnTo>
                  <a:lnTo>
                    <a:pt x="711" y="466"/>
                  </a:lnTo>
                  <a:lnTo>
                    <a:pt x="711" y="458"/>
                  </a:lnTo>
                  <a:close/>
                  <a:moveTo>
                    <a:pt x="746" y="458"/>
                  </a:moveTo>
                  <a:lnTo>
                    <a:pt x="773" y="458"/>
                  </a:lnTo>
                  <a:lnTo>
                    <a:pt x="773" y="466"/>
                  </a:lnTo>
                  <a:lnTo>
                    <a:pt x="746" y="466"/>
                  </a:lnTo>
                  <a:lnTo>
                    <a:pt x="746" y="458"/>
                  </a:lnTo>
                  <a:close/>
                  <a:moveTo>
                    <a:pt x="782" y="458"/>
                  </a:moveTo>
                  <a:lnTo>
                    <a:pt x="809" y="458"/>
                  </a:lnTo>
                  <a:lnTo>
                    <a:pt x="809" y="466"/>
                  </a:lnTo>
                  <a:lnTo>
                    <a:pt x="782" y="466"/>
                  </a:lnTo>
                  <a:lnTo>
                    <a:pt x="782" y="458"/>
                  </a:lnTo>
                  <a:close/>
                  <a:moveTo>
                    <a:pt x="818" y="458"/>
                  </a:moveTo>
                  <a:lnTo>
                    <a:pt x="844" y="458"/>
                  </a:lnTo>
                  <a:lnTo>
                    <a:pt x="844" y="466"/>
                  </a:lnTo>
                  <a:lnTo>
                    <a:pt x="818" y="466"/>
                  </a:lnTo>
                  <a:lnTo>
                    <a:pt x="818" y="458"/>
                  </a:lnTo>
                  <a:close/>
                  <a:moveTo>
                    <a:pt x="853" y="458"/>
                  </a:moveTo>
                  <a:lnTo>
                    <a:pt x="880" y="458"/>
                  </a:lnTo>
                  <a:lnTo>
                    <a:pt x="880" y="466"/>
                  </a:lnTo>
                  <a:lnTo>
                    <a:pt x="853" y="466"/>
                  </a:lnTo>
                  <a:lnTo>
                    <a:pt x="853" y="458"/>
                  </a:lnTo>
                  <a:close/>
                  <a:moveTo>
                    <a:pt x="889" y="458"/>
                  </a:moveTo>
                  <a:lnTo>
                    <a:pt x="915" y="458"/>
                  </a:lnTo>
                  <a:lnTo>
                    <a:pt x="915" y="466"/>
                  </a:lnTo>
                  <a:lnTo>
                    <a:pt x="889" y="466"/>
                  </a:lnTo>
                  <a:lnTo>
                    <a:pt x="889" y="458"/>
                  </a:lnTo>
                  <a:close/>
                  <a:moveTo>
                    <a:pt x="924" y="458"/>
                  </a:moveTo>
                  <a:lnTo>
                    <a:pt x="951" y="458"/>
                  </a:lnTo>
                  <a:lnTo>
                    <a:pt x="951" y="466"/>
                  </a:lnTo>
                  <a:lnTo>
                    <a:pt x="924" y="466"/>
                  </a:lnTo>
                  <a:lnTo>
                    <a:pt x="924" y="458"/>
                  </a:lnTo>
                  <a:close/>
                  <a:moveTo>
                    <a:pt x="960" y="458"/>
                  </a:moveTo>
                  <a:lnTo>
                    <a:pt x="986" y="458"/>
                  </a:lnTo>
                  <a:lnTo>
                    <a:pt x="986" y="466"/>
                  </a:lnTo>
                  <a:lnTo>
                    <a:pt x="960" y="466"/>
                  </a:lnTo>
                  <a:lnTo>
                    <a:pt x="960" y="458"/>
                  </a:lnTo>
                  <a:close/>
                  <a:moveTo>
                    <a:pt x="995" y="458"/>
                  </a:moveTo>
                  <a:lnTo>
                    <a:pt x="1022" y="458"/>
                  </a:lnTo>
                  <a:lnTo>
                    <a:pt x="1022" y="466"/>
                  </a:lnTo>
                  <a:lnTo>
                    <a:pt x="995" y="466"/>
                  </a:lnTo>
                  <a:lnTo>
                    <a:pt x="995" y="458"/>
                  </a:lnTo>
                  <a:close/>
                  <a:moveTo>
                    <a:pt x="1031" y="458"/>
                  </a:moveTo>
                  <a:lnTo>
                    <a:pt x="1057" y="458"/>
                  </a:lnTo>
                  <a:lnTo>
                    <a:pt x="1057" y="466"/>
                  </a:lnTo>
                  <a:lnTo>
                    <a:pt x="1031" y="466"/>
                  </a:lnTo>
                  <a:lnTo>
                    <a:pt x="1031" y="458"/>
                  </a:lnTo>
                  <a:close/>
                  <a:moveTo>
                    <a:pt x="1066" y="458"/>
                  </a:moveTo>
                  <a:lnTo>
                    <a:pt x="1093" y="458"/>
                  </a:lnTo>
                  <a:lnTo>
                    <a:pt x="1093" y="466"/>
                  </a:lnTo>
                  <a:lnTo>
                    <a:pt x="1066" y="466"/>
                  </a:lnTo>
                  <a:lnTo>
                    <a:pt x="1066" y="458"/>
                  </a:lnTo>
                  <a:close/>
                  <a:moveTo>
                    <a:pt x="1102" y="458"/>
                  </a:moveTo>
                  <a:lnTo>
                    <a:pt x="1128" y="458"/>
                  </a:lnTo>
                  <a:lnTo>
                    <a:pt x="1128" y="466"/>
                  </a:lnTo>
                  <a:lnTo>
                    <a:pt x="1102" y="466"/>
                  </a:lnTo>
                  <a:lnTo>
                    <a:pt x="1102" y="458"/>
                  </a:lnTo>
                  <a:close/>
                  <a:moveTo>
                    <a:pt x="1137" y="458"/>
                  </a:moveTo>
                  <a:lnTo>
                    <a:pt x="1164" y="458"/>
                  </a:lnTo>
                  <a:lnTo>
                    <a:pt x="1164" y="466"/>
                  </a:lnTo>
                  <a:lnTo>
                    <a:pt x="1137" y="466"/>
                  </a:lnTo>
                  <a:lnTo>
                    <a:pt x="1137" y="458"/>
                  </a:lnTo>
                  <a:close/>
                  <a:moveTo>
                    <a:pt x="1173" y="458"/>
                  </a:moveTo>
                  <a:lnTo>
                    <a:pt x="1200" y="458"/>
                  </a:lnTo>
                  <a:lnTo>
                    <a:pt x="1200" y="466"/>
                  </a:lnTo>
                  <a:lnTo>
                    <a:pt x="1173" y="466"/>
                  </a:lnTo>
                  <a:lnTo>
                    <a:pt x="1173" y="458"/>
                  </a:lnTo>
                  <a:close/>
                  <a:moveTo>
                    <a:pt x="1208" y="458"/>
                  </a:moveTo>
                  <a:lnTo>
                    <a:pt x="1235" y="458"/>
                  </a:lnTo>
                  <a:lnTo>
                    <a:pt x="1235" y="466"/>
                  </a:lnTo>
                  <a:lnTo>
                    <a:pt x="1208" y="466"/>
                  </a:lnTo>
                  <a:lnTo>
                    <a:pt x="1208" y="458"/>
                  </a:lnTo>
                  <a:close/>
                  <a:moveTo>
                    <a:pt x="1244" y="458"/>
                  </a:moveTo>
                  <a:lnTo>
                    <a:pt x="1271" y="458"/>
                  </a:lnTo>
                  <a:lnTo>
                    <a:pt x="1271" y="466"/>
                  </a:lnTo>
                  <a:lnTo>
                    <a:pt x="1244" y="466"/>
                  </a:lnTo>
                  <a:lnTo>
                    <a:pt x="1244" y="458"/>
                  </a:lnTo>
                  <a:close/>
                  <a:moveTo>
                    <a:pt x="1280" y="458"/>
                  </a:moveTo>
                  <a:lnTo>
                    <a:pt x="1306" y="458"/>
                  </a:lnTo>
                  <a:lnTo>
                    <a:pt x="1306" y="466"/>
                  </a:lnTo>
                  <a:lnTo>
                    <a:pt x="1280" y="466"/>
                  </a:lnTo>
                  <a:lnTo>
                    <a:pt x="1280" y="458"/>
                  </a:lnTo>
                  <a:close/>
                  <a:moveTo>
                    <a:pt x="1315" y="458"/>
                  </a:moveTo>
                  <a:lnTo>
                    <a:pt x="1342" y="458"/>
                  </a:lnTo>
                  <a:lnTo>
                    <a:pt x="1342" y="466"/>
                  </a:lnTo>
                  <a:lnTo>
                    <a:pt x="1315" y="466"/>
                  </a:lnTo>
                  <a:lnTo>
                    <a:pt x="1315" y="458"/>
                  </a:lnTo>
                  <a:close/>
                  <a:moveTo>
                    <a:pt x="1351" y="458"/>
                  </a:moveTo>
                  <a:lnTo>
                    <a:pt x="1377" y="458"/>
                  </a:lnTo>
                  <a:lnTo>
                    <a:pt x="1377" y="466"/>
                  </a:lnTo>
                  <a:lnTo>
                    <a:pt x="1351" y="466"/>
                  </a:lnTo>
                  <a:lnTo>
                    <a:pt x="1351" y="458"/>
                  </a:lnTo>
                  <a:close/>
                  <a:moveTo>
                    <a:pt x="1386" y="458"/>
                  </a:moveTo>
                  <a:lnTo>
                    <a:pt x="1413" y="458"/>
                  </a:lnTo>
                  <a:lnTo>
                    <a:pt x="1413" y="466"/>
                  </a:lnTo>
                  <a:lnTo>
                    <a:pt x="1386" y="466"/>
                  </a:lnTo>
                  <a:lnTo>
                    <a:pt x="1386" y="458"/>
                  </a:lnTo>
                  <a:close/>
                  <a:moveTo>
                    <a:pt x="1422" y="458"/>
                  </a:moveTo>
                  <a:lnTo>
                    <a:pt x="1448" y="458"/>
                  </a:lnTo>
                  <a:lnTo>
                    <a:pt x="1448" y="466"/>
                  </a:lnTo>
                  <a:lnTo>
                    <a:pt x="1422" y="466"/>
                  </a:lnTo>
                  <a:lnTo>
                    <a:pt x="1422" y="458"/>
                  </a:lnTo>
                  <a:close/>
                  <a:moveTo>
                    <a:pt x="1457" y="458"/>
                  </a:moveTo>
                  <a:lnTo>
                    <a:pt x="1484" y="458"/>
                  </a:lnTo>
                  <a:lnTo>
                    <a:pt x="1484" y="466"/>
                  </a:lnTo>
                  <a:lnTo>
                    <a:pt x="1457" y="466"/>
                  </a:lnTo>
                  <a:lnTo>
                    <a:pt x="1457" y="458"/>
                  </a:lnTo>
                  <a:close/>
                  <a:moveTo>
                    <a:pt x="1493" y="458"/>
                  </a:moveTo>
                  <a:lnTo>
                    <a:pt x="1519" y="458"/>
                  </a:lnTo>
                  <a:lnTo>
                    <a:pt x="1519" y="466"/>
                  </a:lnTo>
                  <a:lnTo>
                    <a:pt x="1493" y="466"/>
                  </a:lnTo>
                  <a:lnTo>
                    <a:pt x="1493" y="458"/>
                  </a:lnTo>
                  <a:close/>
                  <a:moveTo>
                    <a:pt x="1528" y="458"/>
                  </a:moveTo>
                  <a:lnTo>
                    <a:pt x="1555" y="458"/>
                  </a:lnTo>
                  <a:lnTo>
                    <a:pt x="1555" y="466"/>
                  </a:lnTo>
                  <a:lnTo>
                    <a:pt x="1528" y="466"/>
                  </a:lnTo>
                  <a:lnTo>
                    <a:pt x="1528" y="458"/>
                  </a:lnTo>
                  <a:close/>
                  <a:moveTo>
                    <a:pt x="1564" y="458"/>
                  </a:moveTo>
                  <a:lnTo>
                    <a:pt x="1590" y="458"/>
                  </a:lnTo>
                  <a:lnTo>
                    <a:pt x="1590" y="466"/>
                  </a:lnTo>
                  <a:lnTo>
                    <a:pt x="1564" y="466"/>
                  </a:lnTo>
                  <a:lnTo>
                    <a:pt x="1564" y="458"/>
                  </a:lnTo>
                  <a:close/>
                  <a:moveTo>
                    <a:pt x="1599" y="458"/>
                  </a:moveTo>
                  <a:lnTo>
                    <a:pt x="1626" y="458"/>
                  </a:lnTo>
                  <a:lnTo>
                    <a:pt x="1626" y="466"/>
                  </a:lnTo>
                  <a:lnTo>
                    <a:pt x="1599" y="466"/>
                  </a:lnTo>
                  <a:lnTo>
                    <a:pt x="1599" y="458"/>
                  </a:lnTo>
                  <a:close/>
                  <a:moveTo>
                    <a:pt x="1635" y="458"/>
                  </a:moveTo>
                  <a:lnTo>
                    <a:pt x="1662" y="458"/>
                  </a:lnTo>
                  <a:lnTo>
                    <a:pt x="1662" y="466"/>
                  </a:lnTo>
                  <a:lnTo>
                    <a:pt x="1635" y="466"/>
                  </a:lnTo>
                  <a:lnTo>
                    <a:pt x="1635" y="458"/>
                  </a:lnTo>
                  <a:close/>
                  <a:moveTo>
                    <a:pt x="1670" y="458"/>
                  </a:moveTo>
                  <a:lnTo>
                    <a:pt x="1697" y="458"/>
                  </a:lnTo>
                  <a:lnTo>
                    <a:pt x="1697" y="466"/>
                  </a:lnTo>
                  <a:lnTo>
                    <a:pt x="1670" y="466"/>
                  </a:lnTo>
                  <a:lnTo>
                    <a:pt x="1670" y="458"/>
                  </a:lnTo>
                  <a:close/>
                  <a:moveTo>
                    <a:pt x="1706" y="458"/>
                  </a:moveTo>
                  <a:lnTo>
                    <a:pt x="1733" y="458"/>
                  </a:lnTo>
                  <a:lnTo>
                    <a:pt x="1733" y="466"/>
                  </a:lnTo>
                  <a:lnTo>
                    <a:pt x="1706" y="466"/>
                  </a:lnTo>
                  <a:lnTo>
                    <a:pt x="1706" y="458"/>
                  </a:lnTo>
                  <a:close/>
                  <a:moveTo>
                    <a:pt x="1741" y="458"/>
                  </a:moveTo>
                  <a:lnTo>
                    <a:pt x="1768" y="458"/>
                  </a:lnTo>
                  <a:lnTo>
                    <a:pt x="1768" y="466"/>
                  </a:lnTo>
                  <a:lnTo>
                    <a:pt x="1741" y="466"/>
                  </a:lnTo>
                  <a:lnTo>
                    <a:pt x="1741" y="458"/>
                  </a:lnTo>
                  <a:close/>
                  <a:moveTo>
                    <a:pt x="1777" y="458"/>
                  </a:moveTo>
                  <a:lnTo>
                    <a:pt x="1804" y="458"/>
                  </a:lnTo>
                  <a:lnTo>
                    <a:pt x="1804" y="466"/>
                  </a:lnTo>
                  <a:lnTo>
                    <a:pt x="1777" y="466"/>
                  </a:lnTo>
                  <a:lnTo>
                    <a:pt x="1777" y="458"/>
                  </a:lnTo>
                  <a:close/>
                  <a:moveTo>
                    <a:pt x="1813" y="458"/>
                  </a:moveTo>
                  <a:lnTo>
                    <a:pt x="1839" y="458"/>
                  </a:lnTo>
                  <a:lnTo>
                    <a:pt x="1839" y="466"/>
                  </a:lnTo>
                  <a:lnTo>
                    <a:pt x="1813" y="466"/>
                  </a:lnTo>
                  <a:lnTo>
                    <a:pt x="1813" y="458"/>
                  </a:lnTo>
                  <a:close/>
                  <a:moveTo>
                    <a:pt x="1848" y="458"/>
                  </a:moveTo>
                  <a:lnTo>
                    <a:pt x="1875" y="458"/>
                  </a:lnTo>
                  <a:lnTo>
                    <a:pt x="1875" y="466"/>
                  </a:lnTo>
                  <a:lnTo>
                    <a:pt x="1848" y="466"/>
                  </a:lnTo>
                  <a:lnTo>
                    <a:pt x="1848" y="458"/>
                  </a:lnTo>
                  <a:close/>
                  <a:moveTo>
                    <a:pt x="1884" y="458"/>
                  </a:moveTo>
                  <a:lnTo>
                    <a:pt x="1910" y="458"/>
                  </a:lnTo>
                  <a:lnTo>
                    <a:pt x="1910" y="466"/>
                  </a:lnTo>
                  <a:lnTo>
                    <a:pt x="1884" y="466"/>
                  </a:lnTo>
                  <a:lnTo>
                    <a:pt x="1884" y="458"/>
                  </a:lnTo>
                  <a:close/>
                  <a:moveTo>
                    <a:pt x="1919" y="458"/>
                  </a:moveTo>
                  <a:lnTo>
                    <a:pt x="1946" y="458"/>
                  </a:lnTo>
                  <a:lnTo>
                    <a:pt x="1946" y="466"/>
                  </a:lnTo>
                  <a:lnTo>
                    <a:pt x="1919" y="466"/>
                  </a:lnTo>
                  <a:lnTo>
                    <a:pt x="1919" y="458"/>
                  </a:lnTo>
                  <a:close/>
                  <a:moveTo>
                    <a:pt x="1955" y="458"/>
                  </a:moveTo>
                  <a:lnTo>
                    <a:pt x="1981" y="458"/>
                  </a:lnTo>
                  <a:lnTo>
                    <a:pt x="1981" y="466"/>
                  </a:lnTo>
                  <a:lnTo>
                    <a:pt x="1955" y="466"/>
                  </a:lnTo>
                  <a:lnTo>
                    <a:pt x="1955" y="458"/>
                  </a:lnTo>
                  <a:close/>
                  <a:moveTo>
                    <a:pt x="1990" y="458"/>
                  </a:moveTo>
                  <a:lnTo>
                    <a:pt x="2017" y="458"/>
                  </a:lnTo>
                  <a:lnTo>
                    <a:pt x="2017" y="466"/>
                  </a:lnTo>
                  <a:lnTo>
                    <a:pt x="1990" y="466"/>
                  </a:lnTo>
                  <a:lnTo>
                    <a:pt x="1990" y="458"/>
                  </a:lnTo>
                  <a:close/>
                  <a:moveTo>
                    <a:pt x="2026" y="458"/>
                  </a:moveTo>
                  <a:lnTo>
                    <a:pt x="2052" y="458"/>
                  </a:lnTo>
                  <a:lnTo>
                    <a:pt x="2052" y="466"/>
                  </a:lnTo>
                  <a:lnTo>
                    <a:pt x="2026" y="466"/>
                  </a:lnTo>
                  <a:lnTo>
                    <a:pt x="2026" y="458"/>
                  </a:lnTo>
                  <a:close/>
                  <a:moveTo>
                    <a:pt x="2061" y="458"/>
                  </a:moveTo>
                  <a:lnTo>
                    <a:pt x="2088" y="458"/>
                  </a:lnTo>
                  <a:lnTo>
                    <a:pt x="2088" y="466"/>
                  </a:lnTo>
                  <a:lnTo>
                    <a:pt x="2061" y="466"/>
                  </a:lnTo>
                  <a:lnTo>
                    <a:pt x="2061" y="458"/>
                  </a:lnTo>
                  <a:close/>
                  <a:moveTo>
                    <a:pt x="2097" y="458"/>
                  </a:moveTo>
                  <a:lnTo>
                    <a:pt x="2123" y="458"/>
                  </a:lnTo>
                  <a:lnTo>
                    <a:pt x="2123" y="466"/>
                  </a:lnTo>
                  <a:lnTo>
                    <a:pt x="2097" y="466"/>
                  </a:lnTo>
                  <a:lnTo>
                    <a:pt x="2097" y="458"/>
                  </a:lnTo>
                  <a:close/>
                  <a:moveTo>
                    <a:pt x="0" y="0"/>
                  </a:moveTo>
                  <a:lnTo>
                    <a:pt x="27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0"/>
                  </a:lnTo>
                  <a:close/>
                  <a:moveTo>
                    <a:pt x="36" y="0"/>
                  </a:moveTo>
                  <a:lnTo>
                    <a:pt x="62" y="0"/>
                  </a:lnTo>
                  <a:lnTo>
                    <a:pt x="62" y="9"/>
                  </a:lnTo>
                  <a:lnTo>
                    <a:pt x="36" y="9"/>
                  </a:lnTo>
                  <a:lnTo>
                    <a:pt x="36" y="0"/>
                  </a:lnTo>
                  <a:close/>
                  <a:moveTo>
                    <a:pt x="71" y="0"/>
                  </a:moveTo>
                  <a:lnTo>
                    <a:pt x="98" y="0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0"/>
                  </a:lnTo>
                  <a:close/>
                  <a:moveTo>
                    <a:pt x="107" y="0"/>
                  </a:moveTo>
                  <a:lnTo>
                    <a:pt x="134" y="0"/>
                  </a:lnTo>
                  <a:lnTo>
                    <a:pt x="134" y="9"/>
                  </a:lnTo>
                  <a:lnTo>
                    <a:pt x="107" y="9"/>
                  </a:lnTo>
                  <a:lnTo>
                    <a:pt x="107" y="0"/>
                  </a:lnTo>
                  <a:close/>
                  <a:moveTo>
                    <a:pt x="142" y="0"/>
                  </a:moveTo>
                  <a:lnTo>
                    <a:pt x="169" y="0"/>
                  </a:lnTo>
                  <a:lnTo>
                    <a:pt x="169" y="9"/>
                  </a:lnTo>
                  <a:lnTo>
                    <a:pt x="142" y="9"/>
                  </a:lnTo>
                  <a:lnTo>
                    <a:pt x="142" y="0"/>
                  </a:lnTo>
                  <a:close/>
                  <a:moveTo>
                    <a:pt x="178" y="0"/>
                  </a:moveTo>
                  <a:lnTo>
                    <a:pt x="205" y="0"/>
                  </a:lnTo>
                  <a:lnTo>
                    <a:pt x="205" y="9"/>
                  </a:lnTo>
                  <a:lnTo>
                    <a:pt x="178" y="9"/>
                  </a:lnTo>
                  <a:lnTo>
                    <a:pt x="178" y="0"/>
                  </a:lnTo>
                  <a:close/>
                  <a:moveTo>
                    <a:pt x="213" y="0"/>
                  </a:moveTo>
                  <a:lnTo>
                    <a:pt x="240" y="0"/>
                  </a:lnTo>
                  <a:lnTo>
                    <a:pt x="240" y="9"/>
                  </a:lnTo>
                  <a:lnTo>
                    <a:pt x="213" y="9"/>
                  </a:lnTo>
                  <a:lnTo>
                    <a:pt x="213" y="0"/>
                  </a:lnTo>
                  <a:close/>
                  <a:moveTo>
                    <a:pt x="249" y="0"/>
                  </a:moveTo>
                  <a:lnTo>
                    <a:pt x="276" y="0"/>
                  </a:lnTo>
                  <a:lnTo>
                    <a:pt x="276" y="9"/>
                  </a:lnTo>
                  <a:lnTo>
                    <a:pt x="249" y="9"/>
                  </a:lnTo>
                  <a:lnTo>
                    <a:pt x="249" y="0"/>
                  </a:lnTo>
                  <a:close/>
                  <a:moveTo>
                    <a:pt x="285" y="0"/>
                  </a:moveTo>
                  <a:lnTo>
                    <a:pt x="311" y="0"/>
                  </a:lnTo>
                  <a:lnTo>
                    <a:pt x="311" y="9"/>
                  </a:lnTo>
                  <a:lnTo>
                    <a:pt x="285" y="9"/>
                  </a:lnTo>
                  <a:lnTo>
                    <a:pt x="285" y="0"/>
                  </a:lnTo>
                  <a:close/>
                  <a:moveTo>
                    <a:pt x="320" y="0"/>
                  </a:moveTo>
                  <a:lnTo>
                    <a:pt x="347" y="0"/>
                  </a:lnTo>
                  <a:lnTo>
                    <a:pt x="347" y="9"/>
                  </a:lnTo>
                  <a:lnTo>
                    <a:pt x="320" y="9"/>
                  </a:lnTo>
                  <a:lnTo>
                    <a:pt x="320" y="0"/>
                  </a:lnTo>
                  <a:close/>
                  <a:moveTo>
                    <a:pt x="356" y="0"/>
                  </a:moveTo>
                  <a:lnTo>
                    <a:pt x="382" y="0"/>
                  </a:lnTo>
                  <a:lnTo>
                    <a:pt x="382" y="9"/>
                  </a:lnTo>
                  <a:lnTo>
                    <a:pt x="356" y="9"/>
                  </a:lnTo>
                  <a:lnTo>
                    <a:pt x="356" y="0"/>
                  </a:lnTo>
                  <a:close/>
                  <a:moveTo>
                    <a:pt x="391" y="0"/>
                  </a:moveTo>
                  <a:lnTo>
                    <a:pt x="418" y="0"/>
                  </a:lnTo>
                  <a:lnTo>
                    <a:pt x="418" y="9"/>
                  </a:lnTo>
                  <a:lnTo>
                    <a:pt x="391" y="9"/>
                  </a:lnTo>
                  <a:lnTo>
                    <a:pt x="391" y="0"/>
                  </a:lnTo>
                  <a:close/>
                  <a:moveTo>
                    <a:pt x="427" y="0"/>
                  </a:moveTo>
                  <a:lnTo>
                    <a:pt x="453" y="0"/>
                  </a:lnTo>
                  <a:lnTo>
                    <a:pt x="453" y="9"/>
                  </a:lnTo>
                  <a:lnTo>
                    <a:pt x="427" y="9"/>
                  </a:lnTo>
                  <a:lnTo>
                    <a:pt x="427" y="0"/>
                  </a:lnTo>
                  <a:close/>
                  <a:moveTo>
                    <a:pt x="462" y="0"/>
                  </a:moveTo>
                  <a:lnTo>
                    <a:pt x="489" y="0"/>
                  </a:lnTo>
                  <a:lnTo>
                    <a:pt x="489" y="9"/>
                  </a:lnTo>
                  <a:lnTo>
                    <a:pt x="462" y="9"/>
                  </a:lnTo>
                  <a:lnTo>
                    <a:pt x="462" y="0"/>
                  </a:lnTo>
                  <a:close/>
                  <a:moveTo>
                    <a:pt x="498" y="0"/>
                  </a:moveTo>
                  <a:lnTo>
                    <a:pt x="524" y="0"/>
                  </a:lnTo>
                  <a:lnTo>
                    <a:pt x="524" y="9"/>
                  </a:lnTo>
                  <a:lnTo>
                    <a:pt x="498" y="9"/>
                  </a:lnTo>
                  <a:lnTo>
                    <a:pt x="498" y="0"/>
                  </a:lnTo>
                  <a:close/>
                  <a:moveTo>
                    <a:pt x="533" y="0"/>
                  </a:moveTo>
                  <a:lnTo>
                    <a:pt x="560" y="0"/>
                  </a:lnTo>
                  <a:lnTo>
                    <a:pt x="560" y="9"/>
                  </a:lnTo>
                  <a:lnTo>
                    <a:pt x="533" y="9"/>
                  </a:lnTo>
                  <a:lnTo>
                    <a:pt x="533" y="0"/>
                  </a:lnTo>
                  <a:close/>
                  <a:moveTo>
                    <a:pt x="569" y="0"/>
                  </a:moveTo>
                  <a:lnTo>
                    <a:pt x="595" y="0"/>
                  </a:lnTo>
                  <a:lnTo>
                    <a:pt x="595" y="9"/>
                  </a:lnTo>
                  <a:lnTo>
                    <a:pt x="569" y="9"/>
                  </a:lnTo>
                  <a:lnTo>
                    <a:pt x="569" y="0"/>
                  </a:lnTo>
                  <a:close/>
                  <a:moveTo>
                    <a:pt x="604" y="0"/>
                  </a:moveTo>
                  <a:lnTo>
                    <a:pt x="631" y="0"/>
                  </a:lnTo>
                  <a:lnTo>
                    <a:pt x="631" y="9"/>
                  </a:lnTo>
                  <a:lnTo>
                    <a:pt x="604" y="9"/>
                  </a:lnTo>
                  <a:lnTo>
                    <a:pt x="604" y="0"/>
                  </a:lnTo>
                  <a:close/>
                  <a:moveTo>
                    <a:pt x="640" y="0"/>
                  </a:moveTo>
                  <a:lnTo>
                    <a:pt x="667" y="0"/>
                  </a:lnTo>
                  <a:lnTo>
                    <a:pt x="667" y="9"/>
                  </a:lnTo>
                  <a:lnTo>
                    <a:pt x="640" y="9"/>
                  </a:lnTo>
                  <a:lnTo>
                    <a:pt x="640" y="0"/>
                  </a:lnTo>
                  <a:close/>
                  <a:moveTo>
                    <a:pt x="675" y="0"/>
                  </a:moveTo>
                  <a:lnTo>
                    <a:pt x="702" y="0"/>
                  </a:lnTo>
                  <a:lnTo>
                    <a:pt x="702" y="9"/>
                  </a:lnTo>
                  <a:lnTo>
                    <a:pt x="675" y="9"/>
                  </a:lnTo>
                  <a:lnTo>
                    <a:pt x="675" y="0"/>
                  </a:lnTo>
                  <a:close/>
                  <a:moveTo>
                    <a:pt x="711" y="0"/>
                  </a:moveTo>
                  <a:lnTo>
                    <a:pt x="738" y="0"/>
                  </a:lnTo>
                  <a:lnTo>
                    <a:pt x="738" y="9"/>
                  </a:lnTo>
                  <a:lnTo>
                    <a:pt x="711" y="9"/>
                  </a:lnTo>
                  <a:lnTo>
                    <a:pt x="711" y="0"/>
                  </a:lnTo>
                  <a:close/>
                  <a:moveTo>
                    <a:pt x="746" y="0"/>
                  </a:moveTo>
                  <a:lnTo>
                    <a:pt x="773" y="0"/>
                  </a:lnTo>
                  <a:lnTo>
                    <a:pt x="773" y="9"/>
                  </a:lnTo>
                  <a:lnTo>
                    <a:pt x="746" y="9"/>
                  </a:lnTo>
                  <a:lnTo>
                    <a:pt x="746" y="0"/>
                  </a:lnTo>
                  <a:close/>
                  <a:moveTo>
                    <a:pt x="782" y="0"/>
                  </a:moveTo>
                  <a:lnTo>
                    <a:pt x="809" y="0"/>
                  </a:lnTo>
                  <a:lnTo>
                    <a:pt x="809" y="9"/>
                  </a:lnTo>
                  <a:lnTo>
                    <a:pt x="782" y="9"/>
                  </a:lnTo>
                  <a:lnTo>
                    <a:pt x="782" y="0"/>
                  </a:lnTo>
                  <a:close/>
                  <a:moveTo>
                    <a:pt x="818" y="0"/>
                  </a:moveTo>
                  <a:lnTo>
                    <a:pt x="844" y="0"/>
                  </a:lnTo>
                  <a:lnTo>
                    <a:pt x="844" y="9"/>
                  </a:lnTo>
                  <a:lnTo>
                    <a:pt x="818" y="9"/>
                  </a:lnTo>
                  <a:lnTo>
                    <a:pt x="818" y="0"/>
                  </a:lnTo>
                  <a:close/>
                  <a:moveTo>
                    <a:pt x="853" y="0"/>
                  </a:moveTo>
                  <a:lnTo>
                    <a:pt x="880" y="0"/>
                  </a:lnTo>
                  <a:lnTo>
                    <a:pt x="880" y="9"/>
                  </a:lnTo>
                  <a:lnTo>
                    <a:pt x="853" y="9"/>
                  </a:lnTo>
                  <a:lnTo>
                    <a:pt x="853" y="0"/>
                  </a:lnTo>
                  <a:close/>
                  <a:moveTo>
                    <a:pt x="889" y="0"/>
                  </a:moveTo>
                  <a:lnTo>
                    <a:pt x="915" y="0"/>
                  </a:lnTo>
                  <a:lnTo>
                    <a:pt x="915" y="9"/>
                  </a:lnTo>
                  <a:lnTo>
                    <a:pt x="889" y="9"/>
                  </a:lnTo>
                  <a:lnTo>
                    <a:pt x="889" y="0"/>
                  </a:lnTo>
                  <a:close/>
                  <a:moveTo>
                    <a:pt x="924" y="0"/>
                  </a:moveTo>
                  <a:lnTo>
                    <a:pt x="951" y="0"/>
                  </a:lnTo>
                  <a:lnTo>
                    <a:pt x="951" y="9"/>
                  </a:lnTo>
                  <a:lnTo>
                    <a:pt x="924" y="9"/>
                  </a:lnTo>
                  <a:lnTo>
                    <a:pt x="924" y="0"/>
                  </a:lnTo>
                  <a:close/>
                  <a:moveTo>
                    <a:pt x="960" y="0"/>
                  </a:moveTo>
                  <a:lnTo>
                    <a:pt x="986" y="0"/>
                  </a:lnTo>
                  <a:lnTo>
                    <a:pt x="986" y="9"/>
                  </a:lnTo>
                  <a:lnTo>
                    <a:pt x="960" y="9"/>
                  </a:lnTo>
                  <a:lnTo>
                    <a:pt x="960" y="0"/>
                  </a:lnTo>
                  <a:close/>
                  <a:moveTo>
                    <a:pt x="995" y="0"/>
                  </a:moveTo>
                  <a:lnTo>
                    <a:pt x="1022" y="0"/>
                  </a:lnTo>
                  <a:lnTo>
                    <a:pt x="1022" y="9"/>
                  </a:lnTo>
                  <a:lnTo>
                    <a:pt x="995" y="9"/>
                  </a:lnTo>
                  <a:lnTo>
                    <a:pt x="995" y="0"/>
                  </a:lnTo>
                  <a:close/>
                  <a:moveTo>
                    <a:pt x="1031" y="0"/>
                  </a:moveTo>
                  <a:lnTo>
                    <a:pt x="1057" y="0"/>
                  </a:lnTo>
                  <a:lnTo>
                    <a:pt x="1057" y="9"/>
                  </a:lnTo>
                  <a:lnTo>
                    <a:pt x="1031" y="9"/>
                  </a:lnTo>
                  <a:lnTo>
                    <a:pt x="1031" y="0"/>
                  </a:lnTo>
                  <a:close/>
                  <a:moveTo>
                    <a:pt x="1066" y="0"/>
                  </a:moveTo>
                  <a:lnTo>
                    <a:pt x="1093" y="0"/>
                  </a:lnTo>
                  <a:lnTo>
                    <a:pt x="1093" y="9"/>
                  </a:lnTo>
                  <a:lnTo>
                    <a:pt x="1066" y="9"/>
                  </a:lnTo>
                  <a:lnTo>
                    <a:pt x="1066" y="0"/>
                  </a:lnTo>
                  <a:close/>
                  <a:moveTo>
                    <a:pt x="1102" y="0"/>
                  </a:moveTo>
                  <a:lnTo>
                    <a:pt x="1128" y="0"/>
                  </a:lnTo>
                  <a:lnTo>
                    <a:pt x="1128" y="9"/>
                  </a:lnTo>
                  <a:lnTo>
                    <a:pt x="1102" y="9"/>
                  </a:lnTo>
                  <a:lnTo>
                    <a:pt x="1102" y="0"/>
                  </a:lnTo>
                  <a:close/>
                  <a:moveTo>
                    <a:pt x="1137" y="0"/>
                  </a:moveTo>
                  <a:lnTo>
                    <a:pt x="1164" y="0"/>
                  </a:lnTo>
                  <a:lnTo>
                    <a:pt x="1164" y="9"/>
                  </a:lnTo>
                  <a:lnTo>
                    <a:pt x="1137" y="9"/>
                  </a:lnTo>
                  <a:lnTo>
                    <a:pt x="1137" y="0"/>
                  </a:lnTo>
                  <a:close/>
                  <a:moveTo>
                    <a:pt x="1173" y="0"/>
                  </a:moveTo>
                  <a:lnTo>
                    <a:pt x="1200" y="0"/>
                  </a:lnTo>
                  <a:lnTo>
                    <a:pt x="1200" y="9"/>
                  </a:lnTo>
                  <a:lnTo>
                    <a:pt x="1173" y="9"/>
                  </a:lnTo>
                  <a:lnTo>
                    <a:pt x="1173" y="0"/>
                  </a:lnTo>
                  <a:close/>
                  <a:moveTo>
                    <a:pt x="1208" y="0"/>
                  </a:moveTo>
                  <a:lnTo>
                    <a:pt x="1235" y="0"/>
                  </a:lnTo>
                  <a:lnTo>
                    <a:pt x="1235" y="9"/>
                  </a:lnTo>
                  <a:lnTo>
                    <a:pt x="1208" y="9"/>
                  </a:lnTo>
                  <a:lnTo>
                    <a:pt x="1208" y="0"/>
                  </a:lnTo>
                  <a:close/>
                  <a:moveTo>
                    <a:pt x="1244" y="0"/>
                  </a:moveTo>
                  <a:lnTo>
                    <a:pt x="1271" y="0"/>
                  </a:lnTo>
                  <a:lnTo>
                    <a:pt x="1271" y="9"/>
                  </a:lnTo>
                  <a:lnTo>
                    <a:pt x="1244" y="9"/>
                  </a:lnTo>
                  <a:lnTo>
                    <a:pt x="1244" y="0"/>
                  </a:lnTo>
                  <a:close/>
                  <a:moveTo>
                    <a:pt x="1280" y="0"/>
                  </a:moveTo>
                  <a:lnTo>
                    <a:pt x="1306" y="0"/>
                  </a:lnTo>
                  <a:lnTo>
                    <a:pt x="1306" y="9"/>
                  </a:lnTo>
                  <a:lnTo>
                    <a:pt x="1280" y="9"/>
                  </a:lnTo>
                  <a:lnTo>
                    <a:pt x="1280" y="0"/>
                  </a:lnTo>
                  <a:close/>
                  <a:moveTo>
                    <a:pt x="1315" y="0"/>
                  </a:moveTo>
                  <a:lnTo>
                    <a:pt x="1342" y="0"/>
                  </a:lnTo>
                  <a:lnTo>
                    <a:pt x="1342" y="9"/>
                  </a:lnTo>
                  <a:lnTo>
                    <a:pt x="1315" y="9"/>
                  </a:lnTo>
                  <a:lnTo>
                    <a:pt x="1315" y="0"/>
                  </a:lnTo>
                  <a:close/>
                  <a:moveTo>
                    <a:pt x="1351" y="0"/>
                  </a:moveTo>
                  <a:lnTo>
                    <a:pt x="1377" y="0"/>
                  </a:lnTo>
                  <a:lnTo>
                    <a:pt x="1377" y="9"/>
                  </a:lnTo>
                  <a:lnTo>
                    <a:pt x="1351" y="9"/>
                  </a:lnTo>
                  <a:lnTo>
                    <a:pt x="1351" y="0"/>
                  </a:lnTo>
                  <a:close/>
                  <a:moveTo>
                    <a:pt x="1386" y="0"/>
                  </a:moveTo>
                  <a:lnTo>
                    <a:pt x="1413" y="0"/>
                  </a:lnTo>
                  <a:lnTo>
                    <a:pt x="1413" y="9"/>
                  </a:lnTo>
                  <a:lnTo>
                    <a:pt x="1386" y="9"/>
                  </a:lnTo>
                  <a:lnTo>
                    <a:pt x="1386" y="0"/>
                  </a:lnTo>
                  <a:close/>
                  <a:moveTo>
                    <a:pt x="1422" y="0"/>
                  </a:moveTo>
                  <a:lnTo>
                    <a:pt x="1448" y="0"/>
                  </a:lnTo>
                  <a:lnTo>
                    <a:pt x="1448" y="9"/>
                  </a:lnTo>
                  <a:lnTo>
                    <a:pt x="1422" y="9"/>
                  </a:lnTo>
                  <a:lnTo>
                    <a:pt x="1422" y="0"/>
                  </a:lnTo>
                  <a:close/>
                  <a:moveTo>
                    <a:pt x="1457" y="0"/>
                  </a:moveTo>
                  <a:lnTo>
                    <a:pt x="1484" y="0"/>
                  </a:lnTo>
                  <a:lnTo>
                    <a:pt x="1484" y="9"/>
                  </a:lnTo>
                  <a:lnTo>
                    <a:pt x="1457" y="9"/>
                  </a:lnTo>
                  <a:lnTo>
                    <a:pt x="1457" y="0"/>
                  </a:lnTo>
                  <a:close/>
                  <a:moveTo>
                    <a:pt x="1493" y="0"/>
                  </a:moveTo>
                  <a:lnTo>
                    <a:pt x="1519" y="0"/>
                  </a:lnTo>
                  <a:lnTo>
                    <a:pt x="1519" y="9"/>
                  </a:lnTo>
                  <a:lnTo>
                    <a:pt x="1493" y="9"/>
                  </a:lnTo>
                  <a:lnTo>
                    <a:pt x="1493" y="0"/>
                  </a:lnTo>
                  <a:close/>
                  <a:moveTo>
                    <a:pt x="1528" y="0"/>
                  </a:moveTo>
                  <a:lnTo>
                    <a:pt x="1555" y="0"/>
                  </a:lnTo>
                  <a:lnTo>
                    <a:pt x="1555" y="9"/>
                  </a:lnTo>
                  <a:lnTo>
                    <a:pt x="1528" y="9"/>
                  </a:lnTo>
                  <a:lnTo>
                    <a:pt x="1528" y="0"/>
                  </a:lnTo>
                  <a:close/>
                  <a:moveTo>
                    <a:pt x="1564" y="0"/>
                  </a:moveTo>
                  <a:lnTo>
                    <a:pt x="1590" y="0"/>
                  </a:lnTo>
                  <a:lnTo>
                    <a:pt x="1590" y="9"/>
                  </a:lnTo>
                  <a:lnTo>
                    <a:pt x="1564" y="9"/>
                  </a:lnTo>
                  <a:lnTo>
                    <a:pt x="1564" y="0"/>
                  </a:lnTo>
                  <a:close/>
                  <a:moveTo>
                    <a:pt x="1599" y="0"/>
                  </a:moveTo>
                  <a:lnTo>
                    <a:pt x="1626" y="0"/>
                  </a:lnTo>
                  <a:lnTo>
                    <a:pt x="1626" y="9"/>
                  </a:lnTo>
                  <a:lnTo>
                    <a:pt x="1599" y="9"/>
                  </a:lnTo>
                  <a:lnTo>
                    <a:pt x="1599" y="0"/>
                  </a:lnTo>
                  <a:close/>
                  <a:moveTo>
                    <a:pt x="1635" y="0"/>
                  </a:moveTo>
                  <a:lnTo>
                    <a:pt x="1662" y="0"/>
                  </a:lnTo>
                  <a:lnTo>
                    <a:pt x="1662" y="9"/>
                  </a:lnTo>
                  <a:lnTo>
                    <a:pt x="1635" y="9"/>
                  </a:lnTo>
                  <a:lnTo>
                    <a:pt x="1635" y="0"/>
                  </a:lnTo>
                  <a:close/>
                  <a:moveTo>
                    <a:pt x="1670" y="0"/>
                  </a:moveTo>
                  <a:lnTo>
                    <a:pt x="1697" y="0"/>
                  </a:lnTo>
                  <a:lnTo>
                    <a:pt x="1697" y="9"/>
                  </a:lnTo>
                  <a:lnTo>
                    <a:pt x="1670" y="9"/>
                  </a:lnTo>
                  <a:lnTo>
                    <a:pt x="1670" y="0"/>
                  </a:lnTo>
                  <a:close/>
                  <a:moveTo>
                    <a:pt x="1706" y="0"/>
                  </a:moveTo>
                  <a:lnTo>
                    <a:pt x="1733" y="0"/>
                  </a:lnTo>
                  <a:lnTo>
                    <a:pt x="1733" y="9"/>
                  </a:lnTo>
                  <a:lnTo>
                    <a:pt x="1706" y="9"/>
                  </a:lnTo>
                  <a:lnTo>
                    <a:pt x="1706" y="0"/>
                  </a:lnTo>
                  <a:close/>
                  <a:moveTo>
                    <a:pt x="1741" y="0"/>
                  </a:moveTo>
                  <a:lnTo>
                    <a:pt x="1768" y="0"/>
                  </a:lnTo>
                  <a:lnTo>
                    <a:pt x="1768" y="9"/>
                  </a:lnTo>
                  <a:lnTo>
                    <a:pt x="1741" y="9"/>
                  </a:lnTo>
                  <a:lnTo>
                    <a:pt x="1741" y="0"/>
                  </a:lnTo>
                  <a:close/>
                  <a:moveTo>
                    <a:pt x="1777" y="0"/>
                  </a:moveTo>
                  <a:lnTo>
                    <a:pt x="1804" y="0"/>
                  </a:lnTo>
                  <a:lnTo>
                    <a:pt x="1804" y="9"/>
                  </a:lnTo>
                  <a:lnTo>
                    <a:pt x="1777" y="9"/>
                  </a:lnTo>
                  <a:lnTo>
                    <a:pt x="1777" y="0"/>
                  </a:lnTo>
                  <a:close/>
                  <a:moveTo>
                    <a:pt x="1813" y="0"/>
                  </a:moveTo>
                  <a:lnTo>
                    <a:pt x="1839" y="0"/>
                  </a:lnTo>
                  <a:lnTo>
                    <a:pt x="1839" y="9"/>
                  </a:lnTo>
                  <a:lnTo>
                    <a:pt x="1813" y="9"/>
                  </a:lnTo>
                  <a:lnTo>
                    <a:pt x="1813" y="0"/>
                  </a:lnTo>
                  <a:close/>
                  <a:moveTo>
                    <a:pt x="1848" y="0"/>
                  </a:moveTo>
                  <a:lnTo>
                    <a:pt x="1875" y="0"/>
                  </a:lnTo>
                  <a:lnTo>
                    <a:pt x="1875" y="9"/>
                  </a:lnTo>
                  <a:lnTo>
                    <a:pt x="1848" y="9"/>
                  </a:lnTo>
                  <a:lnTo>
                    <a:pt x="1848" y="0"/>
                  </a:lnTo>
                  <a:close/>
                  <a:moveTo>
                    <a:pt x="1884" y="0"/>
                  </a:moveTo>
                  <a:lnTo>
                    <a:pt x="1910" y="0"/>
                  </a:lnTo>
                  <a:lnTo>
                    <a:pt x="1910" y="9"/>
                  </a:lnTo>
                  <a:lnTo>
                    <a:pt x="1884" y="9"/>
                  </a:lnTo>
                  <a:lnTo>
                    <a:pt x="1884" y="0"/>
                  </a:lnTo>
                  <a:close/>
                  <a:moveTo>
                    <a:pt x="1919" y="0"/>
                  </a:moveTo>
                  <a:lnTo>
                    <a:pt x="1946" y="0"/>
                  </a:lnTo>
                  <a:lnTo>
                    <a:pt x="1946" y="9"/>
                  </a:lnTo>
                  <a:lnTo>
                    <a:pt x="1919" y="9"/>
                  </a:lnTo>
                  <a:lnTo>
                    <a:pt x="1919" y="0"/>
                  </a:lnTo>
                  <a:close/>
                  <a:moveTo>
                    <a:pt x="1955" y="0"/>
                  </a:moveTo>
                  <a:lnTo>
                    <a:pt x="1981" y="0"/>
                  </a:lnTo>
                  <a:lnTo>
                    <a:pt x="1981" y="9"/>
                  </a:lnTo>
                  <a:lnTo>
                    <a:pt x="1955" y="9"/>
                  </a:lnTo>
                  <a:lnTo>
                    <a:pt x="1955" y="0"/>
                  </a:lnTo>
                  <a:close/>
                  <a:moveTo>
                    <a:pt x="1990" y="0"/>
                  </a:moveTo>
                  <a:lnTo>
                    <a:pt x="2017" y="0"/>
                  </a:lnTo>
                  <a:lnTo>
                    <a:pt x="2017" y="9"/>
                  </a:lnTo>
                  <a:lnTo>
                    <a:pt x="1990" y="9"/>
                  </a:lnTo>
                  <a:lnTo>
                    <a:pt x="1990" y="0"/>
                  </a:lnTo>
                  <a:close/>
                  <a:moveTo>
                    <a:pt x="2026" y="0"/>
                  </a:moveTo>
                  <a:lnTo>
                    <a:pt x="2052" y="0"/>
                  </a:lnTo>
                  <a:lnTo>
                    <a:pt x="2052" y="9"/>
                  </a:lnTo>
                  <a:lnTo>
                    <a:pt x="2026" y="9"/>
                  </a:lnTo>
                  <a:lnTo>
                    <a:pt x="2026" y="0"/>
                  </a:lnTo>
                  <a:close/>
                  <a:moveTo>
                    <a:pt x="2061" y="0"/>
                  </a:moveTo>
                  <a:lnTo>
                    <a:pt x="2088" y="0"/>
                  </a:lnTo>
                  <a:lnTo>
                    <a:pt x="2088" y="9"/>
                  </a:lnTo>
                  <a:lnTo>
                    <a:pt x="2061" y="9"/>
                  </a:lnTo>
                  <a:lnTo>
                    <a:pt x="2061" y="0"/>
                  </a:lnTo>
                  <a:close/>
                  <a:moveTo>
                    <a:pt x="2097" y="0"/>
                  </a:moveTo>
                  <a:lnTo>
                    <a:pt x="2123" y="0"/>
                  </a:lnTo>
                  <a:lnTo>
                    <a:pt x="2123" y="9"/>
                  </a:lnTo>
                  <a:lnTo>
                    <a:pt x="2097" y="9"/>
                  </a:lnTo>
                  <a:lnTo>
                    <a:pt x="2097" y="0"/>
                  </a:lnTo>
                  <a:close/>
                </a:path>
              </a:pathLst>
            </a:custGeom>
            <a:solidFill>
              <a:srgbClr val="868686"/>
            </a:solidFill>
            <a:ln w="144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3"/>
            <p:cNvSpPr/>
            <p:nvPr/>
          </p:nvSpPr>
          <p:spPr>
            <a:xfrm>
              <a:off x="2995560" y="5398920"/>
              <a:ext cx="3760920" cy="14400"/>
            </a:xfrm>
            <a:prstGeom prst="rect">
              <a:avLst/>
            </a:prstGeom>
            <a:solidFill>
              <a:srgbClr val="17375e"/>
            </a:solidFill>
            <a:ln w="1440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2995560" y="5398920"/>
              <a:ext cx="3776760" cy="397080"/>
            </a:xfrm>
            <a:custGeom>
              <a:avLst/>
              <a:gdLst/>
              <a:ahLst/>
              <a:rect l="l" t="t" r="r" b="b"/>
              <a:pathLst>
                <a:path w="2132" h="250">
                  <a:moveTo>
                    <a:pt x="9" y="0"/>
                  </a:moveTo>
                  <a:lnTo>
                    <a:pt x="9" y="43"/>
                  </a:lnTo>
                  <a:lnTo>
                    <a:pt x="0" y="43"/>
                  </a:lnTo>
                  <a:lnTo>
                    <a:pt x="0" y="0"/>
                  </a:lnTo>
                  <a:lnTo>
                    <a:pt x="9" y="0"/>
                  </a:lnTo>
                  <a:close/>
                  <a:moveTo>
                    <a:pt x="9" y="0"/>
                  </a:moveTo>
                  <a:lnTo>
                    <a:pt x="9" y="250"/>
                  </a:lnTo>
                  <a:lnTo>
                    <a:pt x="0" y="250"/>
                  </a:lnTo>
                  <a:lnTo>
                    <a:pt x="0" y="0"/>
                  </a:lnTo>
                  <a:lnTo>
                    <a:pt x="9" y="0"/>
                  </a:lnTo>
                  <a:close/>
                  <a:moveTo>
                    <a:pt x="436" y="0"/>
                  </a:moveTo>
                  <a:lnTo>
                    <a:pt x="436" y="43"/>
                  </a:lnTo>
                  <a:lnTo>
                    <a:pt x="427" y="43"/>
                  </a:lnTo>
                  <a:lnTo>
                    <a:pt x="427" y="0"/>
                  </a:lnTo>
                  <a:lnTo>
                    <a:pt x="436" y="0"/>
                  </a:lnTo>
                  <a:close/>
                  <a:moveTo>
                    <a:pt x="436" y="0"/>
                  </a:moveTo>
                  <a:lnTo>
                    <a:pt x="436" y="250"/>
                  </a:lnTo>
                  <a:lnTo>
                    <a:pt x="427" y="250"/>
                  </a:lnTo>
                  <a:lnTo>
                    <a:pt x="427" y="0"/>
                  </a:lnTo>
                  <a:lnTo>
                    <a:pt x="436" y="0"/>
                  </a:lnTo>
                  <a:close/>
                  <a:moveTo>
                    <a:pt x="862" y="0"/>
                  </a:moveTo>
                  <a:lnTo>
                    <a:pt x="862" y="43"/>
                  </a:lnTo>
                  <a:lnTo>
                    <a:pt x="853" y="43"/>
                  </a:lnTo>
                  <a:lnTo>
                    <a:pt x="853" y="0"/>
                  </a:lnTo>
                  <a:lnTo>
                    <a:pt x="862" y="0"/>
                  </a:lnTo>
                  <a:close/>
                  <a:moveTo>
                    <a:pt x="862" y="0"/>
                  </a:moveTo>
                  <a:lnTo>
                    <a:pt x="862" y="250"/>
                  </a:lnTo>
                  <a:lnTo>
                    <a:pt x="853" y="250"/>
                  </a:lnTo>
                  <a:lnTo>
                    <a:pt x="853" y="0"/>
                  </a:lnTo>
                  <a:lnTo>
                    <a:pt x="862" y="0"/>
                  </a:lnTo>
                  <a:close/>
                  <a:moveTo>
                    <a:pt x="1280" y="0"/>
                  </a:moveTo>
                  <a:lnTo>
                    <a:pt x="1280" y="43"/>
                  </a:lnTo>
                  <a:lnTo>
                    <a:pt x="1271" y="43"/>
                  </a:lnTo>
                  <a:lnTo>
                    <a:pt x="1271" y="0"/>
                  </a:lnTo>
                  <a:lnTo>
                    <a:pt x="1280" y="0"/>
                  </a:lnTo>
                  <a:close/>
                  <a:moveTo>
                    <a:pt x="1280" y="0"/>
                  </a:moveTo>
                  <a:lnTo>
                    <a:pt x="1280" y="250"/>
                  </a:lnTo>
                  <a:lnTo>
                    <a:pt x="1271" y="250"/>
                  </a:lnTo>
                  <a:lnTo>
                    <a:pt x="1271" y="0"/>
                  </a:lnTo>
                  <a:lnTo>
                    <a:pt x="1280" y="0"/>
                  </a:lnTo>
                  <a:close/>
                  <a:moveTo>
                    <a:pt x="1706" y="0"/>
                  </a:moveTo>
                  <a:lnTo>
                    <a:pt x="1706" y="43"/>
                  </a:lnTo>
                  <a:lnTo>
                    <a:pt x="1697" y="43"/>
                  </a:lnTo>
                  <a:lnTo>
                    <a:pt x="1697" y="0"/>
                  </a:lnTo>
                  <a:lnTo>
                    <a:pt x="1706" y="0"/>
                  </a:lnTo>
                  <a:close/>
                  <a:moveTo>
                    <a:pt x="1706" y="0"/>
                  </a:moveTo>
                  <a:lnTo>
                    <a:pt x="1706" y="250"/>
                  </a:lnTo>
                  <a:lnTo>
                    <a:pt x="1697" y="250"/>
                  </a:lnTo>
                  <a:lnTo>
                    <a:pt x="1697" y="0"/>
                  </a:lnTo>
                  <a:lnTo>
                    <a:pt x="1706" y="0"/>
                  </a:lnTo>
                  <a:close/>
                  <a:moveTo>
                    <a:pt x="2132" y="0"/>
                  </a:moveTo>
                  <a:lnTo>
                    <a:pt x="2132" y="43"/>
                  </a:lnTo>
                  <a:lnTo>
                    <a:pt x="2123" y="43"/>
                  </a:lnTo>
                  <a:lnTo>
                    <a:pt x="2123" y="0"/>
                  </a:lnTo>
                  <a:lnTo>
                    <a:pt x="2132" y="0"/>
                  </a:lnTo>
                  <a:close/>
                  <a:moveTo>
                    <a:pt x="2132" y="0"/>
                  </a:moveTo>
                  <a:lnTo>
                    <a:pt x="2132" y="250"/>
                  </a:lnTo>
                  <a:lnTo>
                    <a:pt x="2123" y="250"/>
                  </a:lnTo>
                  <a:lnTo>
                    <a:pt x="2123" y="0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17375e"/>
            </a:solidFill>
            <a:ln w="1440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2995560" y="5796000"/>
              <a:ext cx="3776760" cy="411120"/>
            </a:xfrm>
            <a:custGeom>
              <a:avLst/>
              <a:gdLst/>
              <a:ahLst/>
              <a:rect l="l" t="t" r="r" b="b"/>
              <a:pathLst>
                <a:path w="2132" h="259">
                  <a:moveTo>
                    <a:pt x="9" y="0"/>
                  </a:moveTo>
                  <a:lnTo>
                    <a:pt x="9" y="259"/>
                  </a:lnTo>
                  <a:lnTo>
                    <a:pt x="0" y="259"/>
                  </a:lnTo>
                  <a:lnTo>
                    <a:pt x="0" y="0"/>
                  </a:lnTo>
                  <a:lnTo>
                    <a:pt x="9" y="0"/>
                  </a:lnTo>
                  <a:close/>
                  <a:moveTo>
                    <a:pt x="2132" y="0"/>
                  </a:moveTo>
                  <a:lnTo>
                    <a:pt x="2132" y="259"/>
                  </a:lnTo>
                  <a:lnTo>
                    <a:pt x="2123" y="259"/>
                  </a:lnTo>
                  <a:lnTo>
                    <a:pt x="2123" y="0"/>
                  </a:lnTo>
                  <a:lnTo>
                    <a:pt x="2132" y="0"/>
                  </a:lnTo>
                  <a:close/>
                </a:path>
              </a:pathLst>
            </a:custGeom>
            <a:solidFill>
              <a:srgbClr val="17375e"/>
            </a:solidFill>
            <a:ln w="1440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3341520" y="3359160"/>
              <a:ext cx="3086280" cy="506520"/>
            </a:xfrm>
            <a:custGeom>
              <a:avLst/>
              <a:gdLst/>
              <a:ahLst/>
              <a:rect l="l" t="t" r="r" b="b"/>
              <a:pathLst>
                <a:path w="1741" h="319">
                  <a:moveTo>
                    <a:pt x="9" y="138"/>
                  </a:moveTo>
                  <a:lnTo>
                    <a:pt x="435" y="121"/>
                  </a:lnTo>
                  <a:lnTo>
                    <a:pt x="444" y="121"/>
                  </a:lnTo>
                  <a:lnTo>
                    <a:pt x="870" y="284"/>
                  </a:lnTo>
                  <a:lnTo>
                    <a:pt x="861" y="284"/>
                  </a:lnTo>
                  <a:lnTo>
                    <a:pt x="1288" y="250"/>
                  </a:lnTo>
                  <a:lnTo>
                    <a:pt x="1288" y="250"/>
                  </a:lnTo>
                  <a:lnTo>
                    <a:pt x="1714" y="0"/>
                  </a:lnTo>
                  <a:lnTo>
                    <a:pt x="1723" y="0"/>
                  </a:lnTo>
                  <a:lnTo>
                    <a:pt x="1732" y="8"/>
                  </a:lnTo>
                  <a:lnTo>
                    <a:pt x="1741" y="17"/>
                  </a:lnTo>
                  <a:lnTo>
                    <a:pt x="1732" y="26"/>
                  </a:lnTo>
                  <a:lnTo>
                    <a:pt x="1306" y="276"/>
                  </a:lnTo>
                  <a:lnTo>
                    <a:pt x="1297" y="284"/>
                  </a:lnTo>
                  <a:lnTo>
                    <a:pt x="870" y="319"/>
                  </a:lnTo>
                  <a:lnTo>
                    <a:pt x="861" y="310"/>
                  </a:lnTo>
                  <a:lnTo>
                    <a:pt x="435" y="146"/>
                  </a:lnTo>
                  <a:lnTo>
                    <a:pt x="444" y="155"/>
                  </a:lnTo>
                  <a:lnTo>
                    <a:pt x="17" y="172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8"/>
                  </a:lnTo>
                  <a:lnTo>
                    <a:pt x="9" y="138"/>
                  </a:lnTo>
                  <a:lnTo>
                    <a:pt x="9" y="138"/>
                  </a:lnTo>
                  <a:close/>
                </a:path>
              </a:pathLst>
            </a:custGeom>
            <a:solidFill>
              <a:srgbClr val="17375e"/>
            </a:solidFill>
            <a:ln w="14400">
              <a:solidFill>
                <a:srgbClr val="1737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3232080" y="3468600"/>
              <a:ext cx="314280" cy="273240"/>
            </a:xfrm>
            <a:custGeom>
              <a:avLst/>
              <a:gdLst/>
              <a:ahLst/>
              <a:rect l="l" t="t" r="r" b="b"/>
              <a:pathLst>
                <a:path w="177" h="172">
                  <a:moveTo>
                    <a:pt x="88" y="172"/>
                  </a:moveTo>
                  <a:lnTo>
                    <a:pt x="0" y="86"/>
                  </a:lnTo>
                  <a:lnTo>
                    <a:pt x="88" y="0"/>
                  </a:lnTo>
                  <a:lnTo>
                    <a:pt x="177" y="86"/>
                  </a:lnTo>
                  <a:lnTo>
                    <a:pt x="88" y="172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3216240" y="3468600"/>
              <a:ext cx="330120" cy="287280"/>
            </a:xfrm>
            <a:custGeom>
              <a:avLst/>
              <a:gdLst/>
              <a:ahLst/>
              <a:rect l="l" t="t" r="r" b="b"/>
              <a:pathLst>
                <a:path w="186" h="181">
                  <a:moveTo>
                    <a:pt x="97" y="181"/>
                  </a:moveTo>
                  <a:lnTo>
                    <a:pt x="88" y="181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86" y="86"/>
                  </a:lnTo>
                  <a:lnTo>
                    <a:pt x="186" y="95"/>
                  </a:lnTo>
                  <a:lnTo>
                    <a:pt x="97" y="181"/>
                  </a:lnTo>
                  <a:close/>
                  <a:moveTo>
                    <a:pt x="177" y="86"/>
                  </a:moveTo>
                  <a:lnTo>
                    <a:pt x="177" y="95"/>
                  </a:lnTo>
                  <a:lnTo>
                    <a:pt x="88" y="8"/>
                  </a:lnTo>
                  <a:lnTo>
                    <a:pt x="97" y="8"/>
                  </a:lnTo>
                  <a:lnTo>
                    <a:pt x="9" y="95"/>
                  </a:lnTo>
                  <a:lnTo>
                    <a:pt x="9" y="86"/>
                  </a:lnTo>
                  <a:lnTo>
                    <a:pt x="97" y="172"/>
                  </a:lnTo>
                  <a:lnTo>
                    <a:pt x="88" y="172"/>
                  </a:lnTo>
                  <a:lnTo>
                    <a:pt x="177" y="86"/>
                  </a:lnTo>
                  <a:close/>
                </a:path>
              </a:pathLst>
            </a:custGeom>
            <a:solidFill>
              <a:srgbClr val="17375e"/>
            </a:solidFill>
            <a:ln w="0">
              <a:solidFill>
                <a:srgbClr val="1737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3987720" y="3441600"/>
              <a:ext cx="314280" cy="27324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89" y="172"/>
                  </a:moveTo>
                  <a:lnTo>
                    <a:pt x="0" y="86"/>
                  </a:lnTo>
                  <a:lnTo>
                    <a:pt x="89" y="0"/>
                  </a:lnTo>
                  <a:lnTo>
                    <a:pt x="178" y="86"/>
                  </a:lnTo>
                  <a:lnTo>
                    <a:pt x="89" y="172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3971880" y="3441600"/>
              <a:ext cx="33012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98" y="181"/>
                  </a:moveTo>
                  <a:lnTo>
                    <a:pt x="89" y="181"/>
                  </a:lnTo>
                  <a:lnTo>
                    <a:pt x="0" y="94"/>
                  </a:lnTo>
                  <a:lnTo>
                    <a:pt x="0" y="86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87" y="86"/>
                  </a:lnTo>
                  <a:lnTo>
                    <a:pt x="187" y="94"/>
                  </a:lnTo>
                  <a:lnTo>
                    <a:pt x="98" y="181"/>
                  </a:lnTo>
                  <a:close/>
                  <a:moveTo>
                    <a:pt x="178" y="86"/>
                  </a:moveTo>
                  <a:lnTo>
                    <a:pt x="178" y="94"/>
                  </a:lnTo>
                  <a:lnTo>
                    <a:pt x="89" y="8"/>
                  </a:lnTo>
                  <a:lnTo>
                    <a:pt x="98" y="8"/>
                  </a:lnTo>
                  <a:lnTo>
                    <a:pt x="9" y="94"/>
                  </a:lnTo>
                  <a:lnTo>
                    <a:pt x="9" y="86"/>
                  </a:lnTo>
                  <a:lnTo>
                    <a:pt x="98" y="172"/>
                  </a:lnTo>
                  <a:lnTo>
                    <a:pt x="89" y="172"/>
                  </a:lnTo>
                  <a:lnTo>
                    <a:pt x="178" y="86"/>
                  </a:lnTo>
                  <a:close/>
                </a:path>
              </a:pathLst>
            </a:custGeom>
            <a:solidFill>
              <a:srgbClr val="17375e"/>
            </a:solidFill>
            <a:ln w="0">
              <a:solidFill>
                <a:srgbClr val="1737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4726080" y="3700440"/>
              <a:ext cx="315720" cy="274680"/>
            </a:xfrm>
            <a:custGeom>
              <a:avLst/>
              <a:gdLst/>
              <a:ahLst/>
              <a:rect l="l" t="t" r="r" b="b"/>
              <a:pathLst>
                <a:path w="178" h="173">
                  <a:moveTo>
                    <a:pt x="89" y="173"/>
                  </a:moveTo>
                  <a:lnTo>
                    <a:pt x="0" y="87"/>
                  </a:lnTo>
                  <a:lnTo>
                    <a:pt x="89" y="0"/>
                  </a:lnTo>
                  <a:lnTo>
                    <a:pt x="178" y="87"/>
                  </a:lnTo>
                  <a:lnTo>
                    <a:pt x="89" y="173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4726080" y="3700440"/>
              <a:ext cx="331560" cy="289080"/>
            </a:xfrm>
            <a:custGeom>
              <a:avLst/>
              <a:gdLst/>
              <a:ahLst/>
              <a:rect l="l" t="t" r="r" b="b"/>
              <a:pathLst>
                <a:path w="187" h="182">
                  <a:moveTo>
                    <a:pt x="98" y="182"/>
                  </a:moveTo>
                  <a:lnTo>
                    <a:pt x="89" y="182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87" y="87"/>
                  </a:lnTo>
                  <a:lnTo>
                    <a:pt x="187" y="95"/>
                  </a:lnTo>
                  <a:lnTo>
                    <a:pt x="98" y="182"/>
                  </a:lnTo>
                  <a:close/>
                  <a:moveTo>
                    <a:pt x="178" y="87"/>
                  </a:moveTo>
                  <a:lnTo>
                    <a:pt x="178" y="95"/>
                  </a:lnTo>
                  <a:lnTo>
                    <a:pt x="89" y="9"/>
                  </a:lnTo>
                  <a:lnTo>
                    <a:pt x="98" y="9"/>
                  </a:lnTo>
                  <a:lnTo>
                    <a:pt x="9" y="95"/>
                  </a:lnTo>
                  <a:lnTo>
                    <a:pt x="9" y="87"/>
                  </a:lnTo>
                  <a:lnTo>
                    <a:pt x="98" y="173"/>
                  </a:lnTo>
                  <a:lnTo>
                    <a:pt x="89" y="173"/>
                  </a:lnTo>
                  <a:lnTo>
                    <a:pt x="178" y="87"/>
                  </a:lnTo>
                  <a:close/>
                </a:path>
              </a:pathLst>
            </a:custGeom>
            <a:solidFill>
              <a:srgbClr val="17375e"/>
            </a:solidFill>
            <a:ln w="0">
              <a:solidFill>
                <a:srgbClr val="1737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5483160" y="3646440"/>
              <a:ext cx="314280" cy="27324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89" y="172"/>
                  </a:moveTo>
                  <a:lnTo>
                    <a:pt x="0" y="86"/>
                  </a:lnTo>
                  <a:lnTo>
                    <a:pt x="89" y="0"/>
                  </a:lnTo>
                  <a:lnTo>
                    <a:pt x="178" y="86"/>
                  </a:lnTo>
                  <a:lnTo>
                    <a:pt x="89" y="172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5483160" y="3646440"/>
              <a:ext cx="328680" cy="273240"/>
            </a:xfrm>
            <a:custGeom>
              <a:avLst/>
              <a:gdLst/>
              <a:ahLst/>
              <a:rect l="l" t="t" r="r" b="b"/>
              <a:pathLst>
                <a:path w="186" h="172">
                  <a:moveTo>
                    <a:pt x="98" y="172"/>
                  </a:moveTo>
                  <a:lnTo>
                    <a:pt x="89" y="1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86" y="86"/>
                  </a:lnTo>
                  <a:lnTo>
                    <a:pt x="186" y="86"/>
                  </a:lnTo>
                  <a:lnTo>
                    <a:pt x="98" y="172"/>
                  </a:lnTo>
                  <a:close/>
                  <a:moveTo>
                    <a:pt x="178" y="86"/>
                  </a:moveTo>
                  <a:lnTo>
                    <a:pt x="178" y="86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98" y="172"/>
                  </a:lnTo>
                  <a:lnTo>
                    <a:pt x="89" y="172"/>
                  </a:lnTo>
                  <a:lnTo>
                    <a:pt x="178" y="86"/>
                  </a:lnTo>
                  <a:close/>
                </a:path>
              </a:pathLst>
            </a:custGeom>
            <a:solidFill>
              <a:srgbClr val="17375e"/>
            </a:solidFill>
            <a:ln w="0">
              <a:solidFill>
                <a:srgbClr val="1737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6237360" y="3249720"/>
              <a:ext cx="315720" cy="272880"/>
            </a:xfrm>
            <a:custGeom>
              <a:avLst/>
              <a:gdLst/>
              <a:ahLst/>
              <a:rect l="l" t="t" r="r" b="b"/>
              <a:pathLst>
                <a:path w="178" h="172">
                  <a:moveTo>
                    <a:pt x="89" y="172"/>
                  </a:moveTo>
                  <a:lnTo>
                    <a:pt x="0" y="86"/>
                  </a:lnTo>
                  <a:lnTo>
                    <a:pt x="89" y="0"/>
                  </a:lnTo>
                  <a:lnTo>
                    <a:pt x="178" y="86"/>
                  </a:lnTo>
                  <a:lnTo>
                    <a:pt x="89" y="172"/>
                  </a:lnTo>
                  <a:close/>
                </a:path>
              </a:pathLst>
            </a:cu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6237360" y="3249720"/>
              <a:ext cx="315720" cy="28728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89" y="181"/>
                  </a:moveTo>
                  <a:lnTo>
                    <a:pt x="89" y="181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178" y="86"/>
                  </a:lnTo>
                  <a:lnTo>
                    <a:pt x="178" y="95"/>
                  </a:lnTo>
                  <a:lnTo>
                    <a:pt x="89" y="181"/>
                  </a:lnTo>
                  <a:close/>
                  <a:moveTo>
                    <a:pt x="178" y="86"/>
                  </a:moveTo>
                  <a:lnTo>
                    <a:pt x="178" y="95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89" y="172"/>
                  </a:lnTo>
                  <a:lnTo>
                    <a:pt x="89" y="172"/>
                  </a:lnTo>
                  <a:lnTo>
                    <a:pt x="178" y="86"/>
                  </a:lnTo>
                  <a:close/>
                </a:path>
              </a:pathLst>
            </a:custGeom>
            <a:solidFill>
              <a:srgbClr val="17375e"/>
            </a:solidFill>
            <a:ln w="0">
              <a:solidFill>
                <a:srgbClr val="17375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7"/>
            <p:cNvSpPr/>
            <p:nvPr/>
          </p:nvSpPr>
          <p:spPr>
            <a:xfrm>
              <a:off x="2928960" y="32097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52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8"/>
            <p:cNvSpPr/>
            <p:nvPr/>
          </p:nvSpPr>
          <p:spPr>
            <a:xfrm>
              <a:off x="3781440" y="321480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52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9"/>
            <p:cNvSpPr/>
            <p:nvPr/>
          </p:nvSpPr>
          <p:spPr>
            <a:xfrm>
              <a:off x="4459320" y="3386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50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0"/>
            <p:cNvSpPr/>
            <p:nvPr/>
          </p:nvSpPr>
          <p:spPr>
            <a:xfrm>
              <a:off x="5262480" y="33861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51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1"/>
            <p:cNvSpPr/>
            <p:nvPr/>
          </p:nvSpPr>
          <p:spPr>
            <a:xfrm>
              <a:off x="6237360" y="30178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53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3091680" y="5549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199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3844800" y="5549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199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4"/>
            <p:cNvSpPr/>
            <p:nvPr/>
          </p:nvSpPr>
          <p:spPr>
            <a:xfrm>
              <a:off x="4600080" y="5549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200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5"/>
            <p:cNvSpPr/>
            <p:nvPr/>
          </p:nvSpPr>
          <p:spPr>
            <a:xfrm>
              <a:off x="5357880" y="5549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200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6"/>
            <p:cNvSpPr/>
            <p:nvPr/>
          </p:nvSpPr>
          <p:spPr>
            <a:xfrm>
              <a:off x="6111720" y="55497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201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7"/>
            <p:cNvSpPr/>
            <p:nvPr/>
          </p:nvSpPr>
          <p:spPr>
            <a:xfrm>
              <a:off x="4129200" y="5946840"/>
              <a:ext cx="127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17375e"/>
                  </a:solidFill>
                  <a:latin typeface="Arial"/>
                </a:rPr>
                <a:t>Математик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2774880" y="2305080"/>
              <a:ext cx="4235400" cy="4011480"/>
            </a:xfrm>
            <a:custGeom>
              <a:avLst/>
              <a:gdLst/>
              <a:ahLst/>
              <a:rect l="l" t="t" r="r" b="b"/>
              <a:pathLst>
                <a:path w="2390" h="2527">
                  <a:moveTo>
                    <a:pt x="0" y="0"/>
                  </a:moveTo>
                  <a:lnTo>
                    <a:pt x="0" y="0"/>
                  </a:lnTo>
                  <a:lnTo>
                    <a:pt x="2381" y="0"/>
                  </a:lnTo>
                  <a:lnTo>
                    <a:pt x="2390" y="0"/>
                  </a:lnTo>
                  <a:lnTo>
                    <a:pt x="2390" y="2518"/>
                  </a:lnTo>
                  <a:lnTo>
                    <a:pt x="2381" y="2527"/>
                  </a:lnTo>
                  <a:lnTo>
                    <a:pt x="0" y="2527"/>
                  </a:lnTo>
                  <a:lnTo>
                    <a:pt x="0" y="2518"/>
                  </a:lnTo>
                  <a:lnTo>
                    <a:pt x="0" y="0"/>
                  </a:lnTo>
                  <a:close/>
                  <a:moveTo>
                    <a:pt x="9" y="2518"/>
                  </a:moveTo>
                  <a:lnTo>
                    <a:pt x="0" y="2518"/>
                  </a:lnTo>
                  <a:lnTo>
                    <a:pt x="2381" y="2518"/>
                  </a:lnTo>
                  <a:lnTo>
                    <a:pt x="2381" y="2518"/>
                  </a:lnTo>
                  <a:lnTo>
                    <a:pt x="2381" y="0"/>
                  </a:lnTo>
                  <a:lnTo>
                    <a:pt x="2381" y="8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2518"/>
                  </a:lnTo>
                  <a:close/>
                </a:path>
              </a:pathLst>
            </a:custGeom>
            <a:solidFill>
              <a:srgbClr val="868686"/>
            </a:solidFill>
            <a:ln w="0">
              <a:solidFill>
                <a:srgbClr val="86868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9"/>
            <p:cNvSpPr/>
            <p:nvPr/>
          </p:nvSpPr>
          <p:spPr>
            <a:xfrm>
              <a:off x="2774880" y="3714840"/>
              <a:ext cx="4219560" cy="2700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5520" y="175680"/>
            <a:ext cx="85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Уровни достижений российских учащихс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8 класса по математике 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IMSS – 201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3"/>
          <p:cNvGrpSpPr/>
          <p:nvPr/>
        </p:nvGrpSpPr>
        <p:grpSpPr>
          <a:xfrm>
            <a:off x="1227240" y="1722600"/>
            <a:ext cx="320400" cy="4730760"/>
            <a:chOff x="1227240" y="1722600"/>
            <a:chExt cx="320400" cy="4730760"/>
          </a:xfrm>
        </p:grpSpPr>
        <p:sp>
          <p:nvSpPr>
            <p:cNvPr id="97" name="Прямая соединительная линия 4"/>
            <p:cNvSpPr/>
            <p:nvPr/>
          </p:nvSpPr>
          <p:spPr>
            <a:xfrm flipH="1">
              <a:off x="1227240" y="1722600"/>
              <a:ext cx="164880" cy="24732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Прямая соединительная линия 5"/>
            <p:cNvSpPr/>
            <p:nvPr/>
          </p:nvSpPr>
          <p:spPr>
            <a:xfrm>
              <a:off x="1368360" y="1722600"/>
              <a:ext cx="179280" cy="24732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ая соединительная линия 6"/>
            <p:cNvSpPr/>
            <p:nvPr/>
          </p:nvSpPr>
          <p:spPr>
            <a:xfrm flipH="1">
              <a:off x="1360440" y="1731960"/>
              <a:ext cx="31680" cy="472140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Прямая соединительная линия 12"/>
          <p:cNvSpPr/>
          <p:nvPr/>
        </p:nvSpPr>
        <p:spPr>
          <a:xfrm>
            <a:off x="1300320" y="2298600"/>
            <a:ext cx="191880" cy="972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0"/>
          <p:cNvSpPr/>
          <p:nvPr/>
        </p:nvSpPr>
        <p:spPr>
          <a:xfrm>
            <a:off x="1300320" y="3162240"/>
            <a:ext cx="191880" cy="972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1"/>
          <p:cNvSpPr/>
          <p:nvPr/>
        </p:nvSpPr>
        <p:spPr>
          <a:xfrm>
            <a:off x="1300320" y="4170240"/>
            <a:ext cx="191880" cy="972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2"/>
          <p:cNvSpPr/>
          <p:nvPr/>
        </p:nvSpPr>
        <p:spPr>
          <a:xfrm>
            <a:off x="1282680" y="5103720"/>
            <a:ext cx="192240" cy="9720"/>
          </a:xfrm>
          <a:prstGeom prst="line">
            <a:avLst/>
          </a:prstGeom>
          <a:ln w="63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-108000" y="4973760"/>
            <a:ext cx="1366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Низк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400 бал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>
            <a:off x="-108000" y="4025880"/>
            <a:ext cx="1295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Средний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475 бал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8"/>
          <p:cNvSpPr/>
          <p:nvPr/>
        </p:nvSpPr>
        <p:spPr>
          <a:xfrm>
            <a:off x="-108000" y="3017880"/>
            <a:ext cx="1366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ысоки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(550 балл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9"/>
          <p:cNvSpPr/>
          <p:nvPr/>
        </p:nvSpPr>
        <p:spPr>
          <a:xfrm>
            <a:off x="-108000" y="2154240"/>
            <a:ext cx="1366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Высший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625 и выш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7"/>
          <p:cNvSpPr/>
          <p:nvPr/>
        </p:nvSpPr>
        <p:spPr>
          <a:xfrm>
            <a:off x="350532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  <a:ea typeface="Arial"/>
              </a:rPr>
              <a:t>Не достигли низкого уровня 5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ая прямоугольная выноска 31"/>
          <p:cNvSpPr/>
          <p:nvPr/>
        </p:nvSpPr>
        <p:spPr>
          <a:xfrm>
            <a:off x="2057400" y="914400"/>
            <a:ext cx="6705720" cy="1081080"/>
          </a:xfrm>
          <a:prstGeom prst="wedgeRoundRectCallout">
            <a:avLst>
              <a:gd name="adj1" fmla="val -57550"/>
              <a:gd name="adj2" fmla="val 75842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% (могут доказывать, формулировать выводы, делать обобщения и решать линейные уравн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ая прямоугольная выноска 32"/>
          <p:cNvSpPr/>
          <p:nvPr/>
        </p:nvSpPr>
        <p:spPr>
          <a:xfrm>
            <a:off x="2286000" y="4876920"/>
            <a:ext cx="6477120" cy="1084320"/>
          </a:xfrm>
          <a:prstGeom prst="wedgeRoundRectCallout">
            <a:avLst>
              <a:gd name="adj1" fmla="val -60416"/>
              <a:gd name="adj2" fmla="val -27893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% (имеют некоторые знания о натуральных числах, десятичных дробях и действиях с ними, о стандартных графиках и диаграмм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ая прямоугольная выноска 31"/>
          <p:cNvSpPr/>
          <p:nvPr/>
        </p:nvSpPr>
        <p:spPr>
          <a:xfrm>
            <a:off x="2209680" y="2286000"/>
            <a:ext cx="6623280" cy="1081080"/>
          </a:xfrm>
          <a:prstGeom prst="wedgeRoundRectCallout">
            <a:avLst>
              <a:gd name="adj1" fmla="val -59277"/>
              <a:gd name="adj2" fmla="val 30324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3% (могут применять свои знания и понимание в разнообразных достаточно сложных ситуаци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ая прямоугольная выноска 32"/>
          <p:cNvSpPr/>
          <p:nvPr/>
        </p:nvSpPr>
        <p:spPr>
          <a:xfrm>
            <a:off x="2133720" y="3429000"/>
            <a:ext cx="6699240" cy="1084320"/>
          </a:xfrm>
          <a:prstGeom prst="wedgeRoundRectCallout">
            <a:avLst>
              <a:gd name="adj1" fmla="val -58268"/>
              <a:gd name="adj2" fmla="val 18523"/>
              <a:gd name="adj3" fmla="val 16667"/>
            </a:avLst>
          </a:prstGeom>
          <a:solidFill>
            <a:srgbClr val="bbe0e3">
              <a:alpha val="2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1% (могут применять базовые математические знания в разнообразных ситуация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7520" y="144756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исимость учебных достижений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содержа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SS-20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8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715000" cy="4051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7520" y="144756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висимость учебных достижени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видов деятельност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SS-20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8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6019920" cy="4187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85201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иды деятельност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IMSS-2011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, 8 класс, математ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2590920"/>
          <a:ext cx="8240760" cy="3597120"/>
        </p:xfrm>
        <a:graphic>
          <a:graphicData uri="http://schemas.openxmlformats.org/drawingml/2006/table">
            <a:tbl>
              <a:tblPr/>
              <a:tblGrid>
                <a:gridCol w="2754360"/>
                <a:gridCol w="2855880"/>
                <a:gridCol w="2630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ING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YING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ЖДЕНИ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ING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роизвод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вать (идентифициров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влек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ифицировать/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орядочи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ир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ть стандарт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бщать/уточн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ировать/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зир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сновы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ать нестандарт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0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 определения современных образовательных результатов, соответствующих требованиям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 Sedova</dc:creator>
  <dc:description/>
  <dc:language>en-US</dc:language>
  <cp:lastModifiedBy>Helena</cp:lastModifiedBy>
  <dcterms:modified xsi:type="dcterms:W3CDTF">2014-05-13T03:46:16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