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A7D2-7FCC-4E5F-8B27-02419706CA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2C9A-E0CA-43B2-9C65-889EB8137B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AC9C-D604-413C-8DFF-0EE8E53F89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0EA7-D01F-463C-80C2-C4CE61CB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77AF-6585-4E80-ACE9-069E0DF1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472-1B1D-4DF6-A4C7-ED020901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08A-431D-4247-82D0-6480B2F4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49B-B9DD-4EF4-95B2-D080942B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382-981E-4B56-AC1D-67B95E84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F166-C350-4247-A5C8-B6A7EF84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C2B-EA4E-4C54-B665-AAC8EAA5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F63-5407-4FE4-9977-C9A8708D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D8A3-6C00-4267-AA1E-F712D934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590A-1DAB-4061-B741-B670F495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42C-2F64-4698-B6E5-E5D2E18E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26B9-B813-4A96-9571-440F7D01C1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Рисунок2.jpg"/>
          <p:cNvPicPr/>
          <p:nvPr/>
        </p:nvPicPr>
        <p:blipFill>
          <a:blip r:embed="rId1"/>
          <a:srcRect l="0" t="0" r="9570" b="0"/>
          <a:stretch/>
        </p:blipFill>
        <p:spPr>
          <a:xfrm>
            <a:off x="6853320" y="0"/>
            <a:ext cx="229068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"/>
          <p:cNvPicPr/>
          <p:nvPr/>
        </p:nvPicPr>
        <p:blipFill>
          <a:blip r:embed="rId2"/>
          <a:stretch/>
        </p:blipFill>
        <p:spPr>
          <a:xfrm>
            <a:off x="6853320" y="131760"/>
            <a:ext cx="2290680" cy="16527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Рисунок1.jpg"/>
          <p:cNvPicPr/>
          <p:nvPr/>
        </p:nvPicPr>
        <p:blipFill>
          <a:blip r:embed="rId3"/>
          <a:srcRect l="0" t="0" r="76364" b="0"/>
          <a:stretch/>
        </p:blipFill>
        <p:spPr>
          <a:xfrm>
            <a:off x="0" y="0"/>
            <a:ext cx="2268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1979640" y="765000"/>
            <a:ext cx="4873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личностных и метапредметных результатов в процессе освоения предметного содерж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3444840" y="4508640"/>
            <a:ext cx="340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ст-физик ИЦ «Вентана-Граф»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ькина Г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2268360" y="61754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, 201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ekran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5"/>
          <p:cNvSpPr/>
          <p:nvPr/>
        </p:nvSpPr>
        <p:spPr>
          <a:xfrm>
            <a:off x="2320920" y="1328400"/>
            <a:ext cx="4681440" cy="32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достижения обучающими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личностных, метапредме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и предметных</a:t>
            </a:r>
            <a:r>
              <a:rPr b="1" lang="en-US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результат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я основной образовательной программы реализуется путем вклю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держание и методический аппарат учебных текстов и заданий, направленных на реализацию требова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Группа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7" name="Группа 7"/>
            <p:cNvGrpSpPr/>
            <p:nvPr/>
          </p:nvGrpSpPr>
          <p:grpSpPr>
            <a:xfrm>
              <a:off x="0" y="0"/>
              <a:ext cx="9124920" cy="6858000"/>
              <a:chOff x="0" y="0"/>
              <a:chExt cx="9124920" cy="6858000"/>
            </a:xfrm>
          </p:grpSpPr>
          <p:pic>
            <p:nvPicPr>
              <p:cNvPr id="58" name="Рисунок 5" descr="Рисунок2.jpg"/>
              <p:cNvPicPr/>
              <p:nvPr/>
            </p:nvPicPr>
            <p:blipFill>
              <a:blip r:embed="rId1"/>
              <a:stretch/>
            </p:blipFill>
            <p:spPr>
              <a:xfrm>
                <a:off x="7385400" y="0"/>
                <a:ext cx="1739520" cy="673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Рисунок 6" descr="Рисунок1.jpg"/>
              <p:cNvPicPr/>
              <p:nvPr/>
            </p:nvPicPr>
            <p:blipFill>
              <a:blip r:embed="rId2"/>
              <a:stretch/>
            </p:blipFill>
            <p:spPr>
              <a:xfrm>
                <a:off x="0" y="120600"/>
                <a:ext cx="7427160" cy="6737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Рисунок 8" descr=""/>
            <p:cNvPicPr/>
            <p:nvPr/>
          </p:nvPicPr>
          <p:blipFill>
            <a:blip r:embed="rId3"/>
            <a:stretch/>
          </p:blipFill>
          <p:spPr>
            <a:xfrm>
              <a:off x="7283880" y="120600"/>
              <a:ext cx="1860120" cy="134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8560" y="120240"/>
            <a:ext cx="6551640" cy="18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особенности преподавания физик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атематик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ловиях перехода на ФГО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834920" y="1915920"/>
            <a:ext cx="5832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я система оценивания УУД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разовательном пространстве шк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ребования ФГОС к современном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рмирование УУД пр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и физике на примере УМК «Физика 7-11» А.В.Грачева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и математике на примере УМК «Математика 5-6», «Алгебра 7» и «Геометрия 7» (авторы Мерзляк А.Г., Полонский В.Б., Якир М.С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Группа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4" name="Группа 7"/>
            <p:cNvGrpSpPr/>
            <p:nvPr/>
          </p:nvGrpSpPr>
          <p:grpSpPr>
            <a:xfrm>
              <a:off x="0" y="0"/>
              <a:ext cx="9124920" cy="6858000"/>
              <a:chOff x="0" y="0"/>
              <a:chExt cx="9124920" cy="6858000"/>
            </a:xfrm>
          </p:grpSpPr>
          <p:pic>
            <p:nvPicPr>
              <p:cNvPr id="65" name="Рисунок 5" descr="Рисунок2.jpg"/>
              <p:cNvPicPr/>
              <p:nvPr/>
            </p:nvPicPr>
            <p:blipFill>
              <a:blip r:embed="rId1"/>
              <a:stretch/>
            </p:blipFill>
            <p:spPr>
              <a:xfrm>
                <a:off x="7385400" y="0"/>
                <a:ext cx="1739520" cy="673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Рисунок 6" descr="Рисунок1.jpg"/>
              <p:cNvPicPr/>
              <p:nvPr/>
            </p:nvPicPr>
            <p:blipFill>
              <a:blip r:embed="rId2"/>
              <a:stretch/>
            </p:blipFill>
            <p:spPr>
              <a:xfrm>
                <a:off x="0" y="120600"/>
                <a:ext cx="7427160" cy="6737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7" name="Рисунок 8" descr=""/>
            <p:cNvPicPr/>
            <p:nvPr/>
          </p:nvPicPr>
          <p:blipFill>
            <a:blip r:embed="rId3"/>
            <a:stretch/>
          </p:blipFill>
          <p:spPr>
            <a:xfrm>
              <a:off x="7283880" y="120600"/>
              <a:ext cx="1860120" cy="134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82800" y="404640"/>
            <a:ext cx="540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ые направления ФГ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763280" y="2708280"/>
            <a:ext cx="554508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овая цель образовани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ние,  социально-педагогическая поддержка                    и развитие высоконравственного, ответственного, творческого, компетентного гражданина Р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Группа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1" name="Группа 7"/>
            <p:cNvGrpSpPr/>
            <p:nvPr/>
          </p:nvGrpSpPr>
          <p:grpSpPr>
            <a:xfrm>
              <a:off x="0" y="0"/>
              <a:ext cx="9124920" cy="6858000"/>
              <a:chOff x="0" y="0"/>
              <a:chExt cx="9124920" cy="6858000"/>
            </a:xfrm>
          </p:grpSpPr>
          <p:pic>
            <p:nvPicPr>
              <p:cNvPr id="72" name="Рисунок 5" descr="Рисунок2.jpg"/>
              <p:cNvPicPr/>
              <p:nvPr/>
            </p:nvPicPr>
            <p:blipFill>
              <a:blip r:embed="rId1"/>
              <a:stretch/>
            </p:blipFill>
            <p:spPr>
              <a:xfrm>
                <a:off x="7385400" y="0"/>
                <a:ext cx="1739520" cy="673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Рисунок 6" descr="Рисунок1.jpg"/>
              <p:cNvPicPr/>
              <p:nvPr/>
            </p:nvPicPr>
            <p:blipFill>
              <a:blip r:embed="rId2"/>
              <a:stretch/>
            </p:blipFill>
            <p:spPr>
              <a:xfrm>
                <a:off x="0" y="120600"/>
                <a:ext cx="7427160" cy="6737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4" name="Рисунок 8" descr=""/>
            <p:cNvPicPr/>
            <p:nvPr/>
          </p:nvPicPr>
          <p:blipFill>
            <a:blip r:embed="rId3"/>
            <a:stretch/>
          </p:blipFill>
          <p:spPr>
            <a:xfrm>
              <a:off x="7283880" y="120600"/>
              <a:ext cx="1860120" cy="134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5251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 универсальных учебных действ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124000" y="1125360"/>
            <a:ext cx="5112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позиция; мотивац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ственно-этическая оце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ив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полагание;   планирование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;   контроль;   коррекция;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;   волевая саморегуляц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учебные;  логическ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ка и решение пробл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учебного сотрудничества с учителем  и сверстниками; постановка вопрос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ение конфликтов;  лидерство и согласование действий с партнёром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 достаточной полнотой и точностью выражать свои мысл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Группа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8" name="Группа 7"/>
            <p:cNvGrpSpPr/>
            <p:nvPr/>
          </p:nvGrpSpPr>
          <p:grpSpPr>
            <a:xfrm>
              <a:off x="0" y="0"/>
              <a:ext cx="9124920" cy="6858000"/>
              <a:chOff x="0" y="0"/>
              <a:chExt cx="9124920" cy="6858000"/>
            </a:xfrm>
          </p:grpSpPr>
          <p:pic>
            <p:nvPicPr>
              <p:cNvPr id="79" name="Рисунок 5" descr="Рисунок2.jpg"/>
              <p:cNvPicPr/>
              <p:nvPr/>
            </p:nvPicPr>
            <p:blipFill>
              <a:blip r:embed="rId1"/>
              <a:stretch/>
            </p:blipFill>
            <p:spPr>
              <a:xfrm>
                <a:off x="7385400" y="0"/>
                <a:ext cx="1739520" cy="673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Рисунок 6" descr="Рисунок1.jpg"/>
              <p:cNvPicPr/>
              <p:nvPr/>
            </p:nvPicPr>
            <p:blipFill>
              <a:blip r:embed="rId2"/>
              <a:stretch/>
            </p:blipFill>
            <p:spPr>
              <a:xfrm>
                <a:off x="0" y="120600"/>
                <a:ext cx="7427160" cy="6737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1" name="Рисунок 8" descr=""/>
            <p:cNvPicPr/>
            <p:nvPr/>
          </p:nvPicPr>
          <p:blipFill>
            <a:blip r:embed="rId3"/>
            <a:stretch/>
          </p:blipFill>
          <p:spPr>
            <a:xfrm>
              <a:off x="7283880" y="120600"/>
              <a:ext cx="1860120" cy="134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05304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ированности отдельных личностных результатов:</a:t>
            </a:r>
            <a:br>
              <a:rPr sz="32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26560" y="1628280"/>
            <a:ext cx="909720" cy="452520"/>
          </a:xfrm>
          <a:prstGeom prst="rect">
            <a:avLst/>
          </a:prstGeom>
          <a:ln w="0">
            <a:noFill/>
          </a:ln>
        </p:spPr>
      </p:pic>
      <p:sp>
        <p:nvSpPr>
          <p:cNvPr id="84" name="Скругленный прямоугольник 2"/>
          <p:cNvSpPr/>
          <p:nvPr/>
        </p:nvSpPr>
        <p:spPr>
          <a:xfrm>
            <a:off x="179280" y="1461960"/>
            <a:ext cx="2232000" cy="4991400"/>
          </a:xfrm>
          <a:custGeom>
            <a:avLst/>
            <a:gdLst>
              <a:gd name="textAreaLeft" fmla="*/ 108720 w 2232000"/>
              <a:gd name="textAreaRight" fmla="*/ 2123280 w 2232000"/>
              <a:gd name="textAreaTop" fmla="*/ 108720 h 4991400"/>
              <a:gd name="textAreaBottom" fmla="*/ 4882680 h 4991400"/>
            </a:gdLst>
            <a:ahLst/>
            <a:rect l="textAreaLeft" t="textAreaTop" r="textAreaRight" b="textAreaBottom"/>
            <a:pathLst>
              <a:path w="21600" h="48300">
                <a:moveTo>
                  <a:pt x="3600" y="0"/>
                </a:moveTo>
                <a:arcTo wR="3600" hR="3600" stAng="16200000" swAng="-5400000"/>
                <a:lnTo>
                  <a:pt x="0" y="44700"/>
                </a:lnTo>
                <a:arcTo wR="3600" hR="3600" stAng="10800000" swAng="-5400000"/>
                <a:lnTo>
                  <a:pt x="18000" y="483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товность и способность делать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сознанный выбор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воей образовательной траектории,  выбор направления профильного образования, проектирование индивидуального учебного плана на старшей ступени обще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3"/>
          <p:cNvSpPr/>
          <p:nvPr/>
        </p:nvSpPr>
        <p:spPr>
          <a:xfrm>
            <a:off x="5651640" y="1628640"/>
            <a:ext cx="3024000" cy="288000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ас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бщественной жизн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образовательного учреждения и ближайшего социального окружения, общественно-полез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6"/>
          <p:cNvSpPr/>
          <p:nvPr/>
        </p:nvSpPr>
        <p:spPr>
          <a:xfrm>
            <a:off x="2629080" y="4997520"/>
            <a:ext cx="2808000" cy="173988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ценностно-смысловые установки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учающихся, формируемые средствами различных предметов в рамках системы обще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7"/>
          <p:cNvSpPr/>
          <p:nvPr/>
        </p:nvSpPr>
        <p:spPr>
          <a:xfrm>
            <a:off x="6443640" y="5084640"/>
            <a:ext cx="2376360" cy="136872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илежание и ответственнос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ь за результаты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8"/>
          <p:cNvSpPr/>
          <p:nvPr/>
        </p:nvSpPr>
        <p:spPr>
          <a:xfrm>
            <a:off x="2629080" y="1628640"/>
            <a:ext cx="2590560" cy="1513080"/>
          </a:xfrm>
          <a:prstGeom prst="roundRect">
            <a:avLst>
              <a:gd name="adj" fmla="val 16667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блю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орм и правил поведения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, принятых в образовательном учрежд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9"/>
          <p:cNvSpPr/>
          <p:nvPr/>
        </p:nvSpPr>
        <p:spPr>
          <a:xfrm>
            <a:off x="3443400" y="3230640"/>
            <a:ext cx="2087280" cy="1503360"/>
          </a:xfrm>
          <a:prstGeom prst="ellipse">
            <a:avLst/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ичнос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13"/>
          <p:cNvCxnSpPr>
            <a:stCxn id="89" idx="5"/>
          </p:cNvCxnSpPr>
          <p:nvPr/>
        </p:nvCxnSpPr>
        <p:spPr>
          <a:xfrm>
            <a:off x="5223960" y="4513320"/>
            <a:ext cx="1220040" cy="932400"/>
          </a:xfrm>
          <a:prstGeom prst="straightConnector1">
            <a:avLst/>
          </a:prstGeom>
          <a:ln w="93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91" name="Прямая со стрелкой 15"/>
          <p:cNvCxnSpPr>
            <a:stCxn id="89" idx="7"/>
            <a:endCxn id="85" idx="1"/>
          </p:cNvCxnSpPr>
          <p:nvPr/>
        </p:nvCxnSpPr>
        <p:spPr>
          <a:xfrm flipV="1">
            <a:off x="5223960" y="3068280"/>
            <a:ext cx="428040" cy="381600"/>
          </a:xfrm>
          <a:prstGeom prst="straightConnector1">
            <a:avLst/>
          </a:prstGeom>
          <a:ln w="93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92" name="Прямая со стрелкой 19"/>
          <p:cNvCxnSpPr>
            <a:stCxn id="89" idx="2"/>
          </p:cNvCxnSpPr>
          <p:nvPr/>
        </p:nvCxnSpPr>
        <p:spPr>
          <a:xfrm flipH="1" flipV="1">
            <a:off x="2410560" y="3565080"/>
            <a:ext cx="1032840" cy="416880"/>
          </a:xfrm>
          <a:prstGeom prst="straightConnector1">
            <a:avLst/>
          </a:prstGeom>
          <a:ln w="93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93" name="Прямая со стрелкой 21"/>
          <p:cNvCxnSpPr>
            <a:stCxn id="89" idx="3"/>
          </p:cNvCxnSpPr>
          <p:nvPr/>
        </p:nvCxnSpPr>
        <p:spPr>
          <a:xfrm flipH="1">
            <a:off x="3443040" y="4513320"/>
            <a:ext cx="306720" cy="483120"/>
          </a:xfrm>
          <a:prstGeom prst="straightConnector1">
            <a:avLst/>
          </a:prstGeom>
          <a:ln w="93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94" name="Прямая со стрелкой 23"/>
          <p:cNvCxnSpPr/>
          <p:nvPr/>
        </p:nvCxnSpPr>
        <p:spPr>
          <a:xfrm flipV="1">
            <a:off x="4485960" y="3141000"/>
            <a:ext cx="1080" cy="176760"/>
          </a:xfrm>
          <a:prstGeom prst="straightConnector1">
            <a:avLst/>
          </a:prstGeom>
          <a:ln w="9360">
            <a:solidFill>
              <a:srgbClr val="98480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d9969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оценки метапредметных результа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1201320"/>
            <a:ext cx="9144000" cy="5661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процедурой итоговой оценки достижения метапредметных результатов являетс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итогового индивидуального проект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объекты оценки метапредметных результат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250920" y="3013200"/>
            <a:ext cx="1944720" cy="356688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566880"/>
              <a:gd name="textAreaBottom" fmla="*/ 3472200 h 3566880"/>
            </a:gdLst>
            <a:ahLst/>
            <a:rect l="textAreaLeft" t="textAreaTop" r="textAreaRight" b="textAreaBottom"/>
            <a:pathLst>
              <a:path w="21600" h="39614">
                <a:moveTo>
                  <a:pt x="3600" y="0"/>
                </a:moveTo>
                <a:arcTo wR="3600" hR="3600" stAng="16200000" swAng="-5400000"/>
                <a:lnTo>
                  <a:pt x="0" y="36014"/>
                </a:lnTo>
                <a:arcTo wR="3600" hR="3600" stAng="10800000" swAng="-5400000"/>
                <a:lnTo>
                  <a:pt x="18000" y="39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ac090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особность          и готовность  к освоению систематичес-ких знаний, их самостоятель-ному пополнению, переносу и интег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2527200" y="3176640"/>
            <a:ext cx="2303640" cy="1368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пособность к сотрудничеству и коммун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2527200" y="4695840"/>
            <a:ext cx="2087640" cy="197964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особность к само-организации, саморегуляции и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6"/>
          <p:cNvSpPr/>
          <p:nvPr/>
        </p:nvSpPr>
        <p:spPr>
          <a:xfrm>
            <a:off x="5292720" y="3135240"/>
            <a:ext cx="3240000" cy="187344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особность к решению личностно и социально значимых проблем и воплощению найденных решений в практ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7"/>
          <p:cNvSpPr/>
          <p:nvPr/>
        </p:nvSpPr>
        <p:spPr>
          <a:xfrm>
            <a:off x="5021280" y="5202360"/>
            <a:ext cx="3600360" cy="144468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особность и готовность к использованию ИКТ в целях обучения и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Группа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Группа 7"/>
            <p:cNvGrpSpPr/>
            <p:nvPr/>
          </p:nvGrpSpPr>
          <p:grpSpPr>
            <a:xfrm>
              <a:off x="0" y="0"/>
              <a:ext cx="9124920" cy="6858000"/>
              <a:chOff x="0" y="0"/>
              <a:chExt cx="9124920" cy="6858000"/>
            </a:xfrm>
          </p:grpSpPr>
          <p:pic>
            <p:nvPicPr>
              <p:cNvPr id="104" name="Рисунок 5" descr="Рисунок2.jpg"/>
              <p:cNvPicPr/>
              <p:nvPr/>
            </p:nvPicPr>
            <p:blipFill>
              <a:blip r:embed="rId1"/>
              <a:stretch/>
            </p:blipFill>
            <p:spPr>
              <a:xfrm>
                <a:off x="7385400" y="0"/>
                <a:ext cx="1739520" cy="673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Рисунок 6" descr="Рисунок1.jpg"/>
              <p:cNvPicPr/>
              <p:nvPr/>
            </p:nvPicPr>
            <p:blipFill>
              <a:blip r:embed="rId2"/>
              <a:stretch/>
            </p:blipFill>
            <p:spPr>
              <a:xfrm>
                <a:off x="0" y="120600"/>
                <a:ext cx="7427160" cy="6737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6" name="Рисунок 8" descr=""/>
            <p:cNvPicPr/>
            <p:nvPr/>
          </p:nvPicPr>
          <p:blipFill>
            <a:blip r:embed="rId3"/>
            <a:stretch/>
          </p:blipFill>
          <p:spPr>
            <a:xfrm>
              <a:off x="7283880" y="120600"/>
              <a:ext cx="1860120" cy="134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17680" y="242640"/>
            <a:ext cx="603720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контрольно-оценочных действий педагогов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547640" y="1120680"/>
            <a:ext cx="6553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оздать следующие условия для полноценной  оценки самим учащимся своих результато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 результату  изучения темы  (оценочный  лист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для  самоконтроля  учащихся своих действий в ходе изучения тем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для  расширения, углубления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ых вопросов тем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 проверочных, стартовых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х работ (проектных задач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и время, где можно предъявить результаты («продукты»)  деятельности учащих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перевода качественных характеристик                        учения в количествен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беспечить самоконтроль выполнения всех указанных  выше услов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8T06:05:03Z</dcterms:created>
  <dc:creator>пк</dc:creator>
  <dc:description/>
  <dc:language>en-US</dc:language>
  <cp:lastModifiedBy>асус</cp:lastModifiedBy>
  <dcterms:modified xsi:type="dcterms:W3CDTF">2014-05-12T22:23:09Z</dcterms:modified>
  <cp:revision>72</cp:revision>
  <dc:subject/>
  <dc:title>Слайд 1</dc:title>
</cp:coreProperties>
</file>