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684-C673-4465-A779-0588D62E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90B-95E9-498C-81AE-7C26BAAB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3E8-B296-407E-B832-E29E47B0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B97-C42B-4E3A-9692-126354FC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313-A4A6-463A-94C1-74FB03D5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46A-0443-4E9B-B7C9-A5681259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D73-5343-4900-AA9B-074628FD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85C-3D12-49D4-B30C-27A80057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18E-0C4E-410A-B3A6-8DA1772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5D9-30EF-4A47-A995-D2EA0448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DD3-E40F-449D-8397-AA13B92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36A6-7489-4FD8-82E3-AEC5FD56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C574-4CEB-4369-AF18-767F8B6FB2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52280" y="3124080"/>
            <a:ext cx="86868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000000"/>
                </a:solidFill>
                <a:latin typeface="Arial"/>
              </a:rPr>
              <a:t>Структура, ранжирование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000000"/>
                </a:solidFill>
                <a:latin typeface="Arial"/>
              </a:rPr>
              <a:t>и измерение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3800" spc="-1" strike="noStrike">
                <a:solidFill>
                  <a:srgbClr val="000000"/>
                </a:solidFill>
                <a:latin typeface="Arial"/>
              </a:rPr>
              <a:t>компетенций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800" spc="-1" strike="noStrike">
                <a:solidFill>
                  <a:srgbClr val="000000"/>
                </a:solidFill>
                <a:latin typeface="Arial"/>
              </a:rPr>
              <a:t>в условиях реализации ФГ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e7b54"/>
                </a:solidFill>
                <a:latin typeface="Georgia"/>
              </a:rPr>
              <a:t>п</a:t>
            </a:r>
            <a:r>
              <a:rPr b="1" lang="ru-RU" sz="3200" spc="-1" strike="noStrike">
                <a:solidFill>
                  <a:srgbClr val="7e7b54"/>
                </a:solidFill>
                <a:latin typeface="Georgia"/>
              </a:rPr>
              <a:t>одг. </a:t>
            </a:r>
            <a:r>
              <a:rPr b="1" lang="en-US" sz="3200" spc="-1" strike="noStrike">
                <a:solidFill>
                  <a:srgbClr val="7e7b54"/>
                </a:solidFill>
                <a:latin typeface="Georgia"/>
              </a:rPr>
              <a:t>д</a:t>
            </a:r>
            <a:r>
              <a:rPr b="1" lang="ru-RU" sz="3200" spc="-1" strike="noStrike">
                <a:solidFill>
                  <a:srgbClr val="7e7b54"/>
                </a:solidFill>
                <a:latin typeface="Georgia"/>
              </a:rPr>
              <a:t>окт.пед.н., проф. Сенькина Г.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7b54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e7b54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e7b54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q263"/>
          <p:cNvPicPr/>
          <p:nvPr/>
        </p:nvPicPr>
        <p:blipFill>
          <a:blip r:embed="rId1"/>
          <a:stretch/>
        </p:blipFill>
        <p:spPr>
          <a:xfrm>
            <a:off x="838080" y="304920"/>
            <a:ext cx="723924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486f"/>
            </a:gs>
            <a:gs pos="50000">
              <a:srgbClr val="569cf0"/>
            </a:gs>
            <a:gs pos="100000">
              <a:srgbClr val="2848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Georgia"/>
              </a:rPr>
              <a:t>Принципы создания мод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ринцип связи с действительностью. Знание реаль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ринцип круга максимальной включённости. Привлечение к разработке модели людей - носителей профессии, «потребителей» результатов труда выпускников, методоло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.    Принцип полноты струк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4.    Принцип целесообразного диапа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5.    Принцип иерархичности. Что является определяющим, стержневым (отношение, знание, умение, наличие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82040" cy="4419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Универсальная структура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c099"/>
            </a:gs>
            <a:gs pos="100000">
              <a:srgbClr val="60594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tumblr_koo62tfDbF1qzozdio1_500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49528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762120" y="1905120"/>
            <a:ext cx="380988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УРОВНИ   СФОРМИРОВАННОСТИ (ПРОЯВЛЕНИЯ) 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ИННОВАЦИОННЫЙ,ТВОР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ЕРСОНАЛИЗ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БРАЗЦОВЫЙ (ЭТАЛОН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РОДВИНУ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ПОР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НУЛ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ОТРИЦА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5954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5954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5954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59545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egancev3"/>
          <p:cNvPicPr/>
          <p:nvPr/>
        </p:nvPicPr>
        <p:blipFill>
          <a:blip r:embed="rId1"/>
          <a:stretch/>
        </p:blipFill>
        <p:spPr>
          <a:xfrm>
            <a:off x="1600200" y="1752480"/>
            <a:ext cx="5934240" cy="3391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филь компетенции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(уровневая струк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50000">
              <a:srgbClr val="bbe0e3"/>
            </a:gs>
            <a:gs pos="100000">
              <a:srgbClr val="57686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685800" y="62485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ЛИЧНОСТНЫЙ ПРОФИЛЬ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КЛАСТЕР КОМПЕТЕН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omp01"/>
          <p:cNvPicPr/>
          <p:nvPr/>
        </p:nvPicPr>
        <p:blipFill>
          <a:blip r:embed="rId1"/>
          <a:srcRect l="1783" t="3360" r="1783" b="3360"/>
          <a:stretch/>
        </p:blipFill>
        <p:spPr>
          <a:xfrm>
            <a:off x="914400" y="1676520"/>
            <a:ext cx="73915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omp02"/>
          <p:cNvPicPr/>
          <p:nvPr/>
        </p:nvPicPr>
        <p:blipFill>
          <a:blip r:embed="rId1"/>
          <a:stretch/>
        </p:blipFill>
        <p:spPr>
          <a:xfrm>
            <a:off x="182880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486f"/>
            </a:gs>
            <a:gs pos="50000">
              <a:srgbClr val="569cf0"/>
            </a:gs>
            <a:gs pos="100000">
              <a:srgbClr val="2848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ДОМЕНЫ  КОМПЕТЕН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Итоговая компетентность - совокупность  доменов,  где каждый  формируется как специфическая функция (аспект) будущей профессиональной деятельности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Уровни конкретизации доме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виды деятельности и проблемы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к решению которых должны быть подготовлены выпускники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(создание систем, оценка достижений, планирование результатов и др.).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отдельные действия и свойства, нужные для успешной деятельности: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 определять, интерпретировать, сравнивать, разрабатывать, осуществлять, интегрировать, контрол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19720" y="14479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ри подготовке будущих учителей, использую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омен разработки учебных программ и методов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омен оценок и измер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омен информационной интеграции (связ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с использованием информационных 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омен менеджмента и инновацио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омен исследовательск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1219484553_3d-1"/>
          <p:cNvPicPr/>
          <p:nvPr/>
        </p:nvPicPr>
        <p:blipFill>
          <a:blip r:embed="rId1"/>
          <a:srcRect l="0" t="0" r="6299" b="0"/>
          <a:stretch/>
        </p:blipFill>
        <p:spPr>
          <a:xfrm>
            <a:off x="0" y="152280"/>
            <a:ext cx="2255760" cy="216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456"/>
          <p:cNvPicPr/>
          <p:nvPr/>
        </p:nvPicPr>
        <p:blipFill>
          <a:blip r:embed="rId2"/>
          <a:stretch/>
        </p:blipFill>
        <p:spPr>
          <a:xfrm>
            <a:off x="6539040" y="4495680"/>
            <a:ext cx="2604960" cy="2159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9"/>
          <p:cNvSpPr/>
          <p:nvPr/>
        </p:nvSpPr>
        <p:spPr>
          <a:xfrm>
            <a:off x="2209680" y="25146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362320" y="10764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КОМПЕТЕНТНОСТНАЯ  МОДЕЛЬ  ВЫПУСК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Georgia"/>
              </a:rPr>
              <a:t>отдельным знаниям - сопоставлены объек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Georgia"/>
              </a:rPr>
              <a:t>критериям практической подготовки - конкретные материализованные свидетельства, личностным и профессиональным аспекта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Georgia"/>
              </a:rPr>
              <a:t>данные психологических тестов, собеседований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57200" y="242244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) Базовый уровень компетенции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дусматривает общую ориентировку в будущей деятельности, знание основных нормативов и требований, наличие общих представлений об образовательной ситуации в России и в ми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57200" y="3733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Промежуточный уровень компетен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ответствует правильным действиям в некоторых типовых, стандартных ситуац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80880" y="4282200"/>
            <a:ext cx="624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Профильный (профессиональный) уровень компетен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ответствует морально-психологической (мотивационной), интеллектуальной и коммуникативной готовности к профильной (профессиональной)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304920" y="5577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етентностная модель отражает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политику требовани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разовательных учреждени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одателя к уровн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готовки, содержит ориенти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эксперто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ов  аттестационных процед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cf0"/>
            </a:gs>
            <a:gs pos="100000">
              <a:srgbClr val="2848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omp12"/>
          <p:cNvPicPr/>
          <p:nvPr/>
        </p:nvPicPr>
        <p:blipFill>
          <a:blip r:embed="rId1"/>
          <a:srcRect l="5641" t="0" r="3223" b="0"/>
          <a:stretch/>
        </p:blipFill>
        <p:spPr>
          <a:xfrm>
            <a:off x="4876920" y="1066680"/>
            <a:ext cx="4070160" cy="211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omp13"/>
          <p:cNvPicPr/>
          <p:nvPr/>
        </p:nvPicPr>
        <p:blipFill>
          <a:blip r:embed="rId2"/>
          <a:srcRect l="17148" t="0" r="4801" b="0"/>
          <a:stretch/>
        </p:blipFill>
        <p:spPr>
          <a:xfrm>
            <a:off x="4876920" y="3352680"/>
            <a:ext cx="4097160" cy="857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omp14"/>
          <p:cNvPicPr/>
          <p:nvPr/>
        </p:nvPicPr>
        <p:blipFill>
          <a:blip r:embed="rId3"/>
          <a:srcRect l="17834" t="1680" r="4801" b="0"/>
          <a:stretch/>
        </p:blipFill>
        <p:spPr>
          <a:xfrm>
            <a:off x="4876920" y="4419720"/>
            <a:ext cx="4059000" cy="2106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911160" y="30492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РАВНЕНИЕ   ЗНАЧИМОСТИ   КОМПЕТЕНЦИ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33520" y="1143360"/>
            <a:ext cx="426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ВОПРОСЫ: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«Для успеха в  деятельности важнее иметь - компетенцию 1 или компетенцию 2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Если К1 - более важна -  получает  2 балла; если обе компетенции одинаково важны, то К1 получает 1 балл; если менее важна, то К1 получает 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Когда таблица заполн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для каждой компетенции подсчитывается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общий ит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и составляется иерарх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447920" y="762120"/>
            <a:ext cx="69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дход -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ледовательное применение единого методологического основания в качестве доминантного при решении научно-практических задач различного уров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someone_else"/>
          <p:cNvPicPr/>
          <p:nvPr/>
        </p:nvPicPr>
        <p:blipFill>
          <a:blip r:embed="rId1"/>
          <a:stretch/>
        </p:blipFill>
        <p:spPr>
          <a:xfrm>
            <a:off x="5105520" y="2666880"/>
            <a:ext cx="3733560" cy="35053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685800" y="2362320"/>
            <a:ext cx="434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42b00"/>
                </a:solidFill>
                <a:latin typeface="Georgia"/>
              </a:rPr>
              <a:t>ПОДХОД в  учебной деятельности (обучении предмету) требует конкретизации круга  предметных задач, которые предстоит решать  выпускнику в практической и профессиональной деятельности. В зависимости от их характера формируется комплекс знаний, умений, навыков, отношений, закладываемых в образовательные стандарты в качестве целей  предметной подготовки (компетенций)</a:t>
            </a:r>
            <a:r>
              <a:rPr b="0" lang="en-US" sz="1800" spc="-1" strike="noStrike">
                <a:solidFill>
                  <a:srgbClr val="b42b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486f"/>
            </a:gs>
            <a:gs pos="100000">
              <a:srgbClr val="569cf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Модель компетенции - основа для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объективной оценки необходимост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разработки структур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по образованию и самообразованию    обуч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выбора эффективных видов обучения,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оценки обучения в плане соответствия назначенным стандартам обучения и стратегии  развития организации общего 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управления  личностным продвижением к цели обуч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онский процесс: проблемы и перспективы / под ред. М.М. Лебедевой — Москва: Оргсервис-2000, 2006. — ISBN 5-98115-066-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алог организационных культур в создании общеевропейского пространства высшего образования : Реализация принципов Болонского процесса в международных образовательных программах с участием России / С. В. Луков (руководитель), Б. Н. Гайдин, В. А. Гневашева, К. Н. Кислицын, Э. К. Погорский ; Моск. гуманит. ун-т, Ин-т фундамент. и приклад. исследований ; Междунар. акад. наук, Отд. гуманит. наук Рус. секции — М.: Изд-во Моск. гуманит. ун-та, 2010. — 260 с. — 100 экз. — ISBN 978-5-98079-651-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зация Болонского процесса в странах проекта Tempus (2009/2010) — Брюссель, 2010 Т. 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ниторинг качества воспитания конкурентоспособной личности: Материалы XIII Всероссийской научно-практической конференции. - Казань: Центр Инновационных Технологий, 2005. С. 305-307.-486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алы курсов повышения квалификации на базе СмолГУ, проведенных в 2011 г.  проф., международным экспертом Колесниковой И.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q263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2819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4952880" y="1523880"/>
            <a:ext cx="373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42b00"/>
                </a:solidFill>
                <a:latin typeface="Georgia"/>
              </a:rPr>
              <a:t>КОМПЕТЕНТНОСТНЫ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42b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b42b00"/>
                </a:solidFill>
                <a:latin typeface="Georgia"/>
              </a:rPr>
              <a:t>в   образовании – реализация системы подготовки, ориентированной на освоение компетенций, овладения которыми требует то или иное направление  образовательной деятельности</a:t>
            </a:r>
            <a:r>
              <a:rPr b="0" lang="en-US" sz="1800" spc="-1" strike="noStrike">
                <a:solidFill>
                  <a:srgbClr val="b42b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5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5f4c"/>
            </a:gs>
            <a:gs pos="50000">
              <a:srgbClr val="d8cda4"/>
            </a:gs>
            <a:gs pos="100000">
              <a:srgbClr val="645f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505404"/>
          <p:cNvPicPr/>
          <p:nvPr/>
        </p:nvPicPr>
        <p:blipFill>
          <a:blip r:embed="rId1"/>
          <a:srcRect l="0" t="0" r="5448" b="0"/>
          <a:stretch/>
        </p:blipFill>
        <p:spPr>
          <a:xfrm>
            <a:off x="2362320" y="198108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80880" y="457200"/>
            <a:ext cx="8534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5f32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КАЧЕСТВО</a:t>
            </a:r>
            <a:r>
              <a:rPr b="1" i="1" lang="ru-RU" sz="28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мера определённости, помогающая обнаружить границы сохранения  того или иного фено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76000" y="5181480"/>
            <a:ext cx="63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интегральный показ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оответствия определенной м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(норме, эталону, образцу, стандарту)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2009_06_30_bachelor_072"/>
          <p:cNvPicPr/>
          <p:nvPr/>
        </p:nvPicPr>
        <p:blipFill>
          <a:blip r:embed="rId2"/>
          <a:stretch/>
        </p:blipFill>
        <p:spPr>
          <a:xfrm>
            <a:off x="2362320" y="19051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250928145_3d-humans-32"/>
          <p:cNvPicPr/>
          <p:nvPr/>
        </p:nvPicPr>
        <p:blipFill>
          <a:blip r:embed="rId1"/>
          <a:srcRect l="5815" t="0" r="5815" b="0"/>
          <a:stretch/>
        </p:blipFill>
        <p:spPr>
          <a:xfrm>
            <a:off x="0" y="228600"/>
            <a:ext cx="2895480" cy="2492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97640" y="2819520"/>
            <a:ext cx="2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267080" y="6858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КОМПЕТЕ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КАК  КА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ВЫПУСКН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276720" y="2286000"/>
            <a:ext cx="56386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eorgia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Уровень компетентности</a:t>
            </a: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(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конкурентоспособ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Личностно значимые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Профильная и профессиональ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000" spc="-1" strike="noStrike">
                <a:solidFill>
                  <a:srgbClr val="cc3300"/>
                </a:solidFill>
                <a:latin typeface="Georgia"/>
              </a:rPr>
              <a:t>Предметн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400_F_6135177_riBs2TdcZKvt37hyHIEwQznsEChCu1sb"/>
          <p:cNvPicPr/>
          <p:nvPr/>
        </p:nvPicPr>
        <p:blipFill>
          <a:blip r:embed="rId2"/>
          <a:srcRect l="11339" t="9921" r="8504" b="6378"/>
          <a:stretch/>
        </p:blipFill>
        <p:spPr>
          <a:xfrm>
            <a:off x="3733920" y="4800600"/>
            <a:ext cx="22860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7593120" y="5257800"/>
            <a:ext cx="125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РЫН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1335240" y="5657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62120" y="527220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РЫ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ОБРАЗОВ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Georgia"/>
              </a:rPr>
              <a:t>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1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cd5ce"/>
                                      </p:to>
                                    </p:animClr>
                                    <p:set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486f"/>
            </a:gs>
            <a:gs pos="50000">
              <a:srgbClr val="569cf0"/>
            </a:gs>
            <a:gs pos="100000">
              <a:srgbClr val="2848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Компетенция как качество, формированием которого можно управ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Для этого нужно  </a:t>
            </a: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  представл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каким задачам сопоставима эта компет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чем  компетенция н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какова её  струк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каков механизм (технология)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какая среда, какие  условия для этого  оптималь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как проверить наличие и оценить  уровень владения  компетен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udy"/>
          <p:cNvPicPr/>
          <p:nvPr/>
        </p:nvPicPr>
        <p:blipFill>
          <a:blip r:embed="rId2"/>
          <a:stretch/>
        </p:blipFill>
        <p:spPr>
          <a:xfrm>
            <a:off x="5105520" y="1752480"/>
            <a:ext cx="3733560" cy="452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5b5b"/>
            </a:gs>
            <a:gs pos="50000">
              <a:srgbClr val="c5c5c5"/>
            </a:gs>
            <a:gs pos="100000">
              <a:srgbClr val="5b5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СТРУКТУРА  КОМПЕТЕНЦИИ  -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ДНК  организационной эффективност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eople"/>
          <p:cNvPicPr/>
          <p:nvPr/>
        </p:nvPicPr>
        <p:blipFill>
          <a:blip r:embed="rId1"/>
          <a:srcRect l="0" t="0" r="0" b="23846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5e3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5e31"/>
                </a:solidFill>
                <a:latin typeface="Georgia"/>
              </a:rPr>
              <a:t>Модель компетенции (структура + уров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5e3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5e31"/>
                </a:solidFill>
                <a:latin typeface="Georgia"/>
              </a:rPr>
              <a:t>Профиль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5e3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5e31"/>
                </a:solidFill>
                <a:latin typeface="Georgia"/>
              </a:rPr>
              <a:t>Кластер компет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5e3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5e31"/>
                </a:solidFill>
                <a:latin typeface="Georgia"/>
              </a:rPr>
              <a:t>Компетентностная модель выпуск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5e3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5e31"/>
                </a:solidFill>
                <a:latin typeface="Georgia"/>
              </a:rPr>
              <a:t>Компетентностно-ориентированная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5e3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5e31"/>
                </a:solidFill>
                <a:latin typeface="Georgia"/>
              </a:rPr>
              <a:t>Компетент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28600" y="594360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сследовательская  компетенция как мета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486f"/>
            </a:gs>
            <a:gs pos="50000">
              <a:srgbClr val="569cf0"/>
            </a:gs>
            <a:gs pos="100000">
              <a:srgbClr val="2848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МОДЕЛЬ КОМПЕТЕН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Термин для обозначения полного набора компетенций (с уровнями или без них) и индикаторов поведения. Модель включает описание каждого уровня развития компетенции в  поведенческих проявлениях применительно к каждому конкретному направлению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офилю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предмету. Удобно оформлять модели компетенций в табличном или матричном ви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486f"/>
            </a:gs>
            <a:gs pos="50000">
              <a:srgbClr val="569cf0"/>
            </a:gs>
            <a:gs pos="100000">
              <a:srgbClr val="2848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Логика моде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Выделение типовых задач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, которые решает  представитель той или иной предметной сферы, направления, профиля. (С участием специалистов-носителей профессии, учёных, преподавателей соответствующей предметной области или дисциплины). Их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Определение круга компетенций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, необходимых для решения каждой из задач (класса зада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Подбор рабочего названия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для каждой компетенции,   выделяющее  её из числа друг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управление отнош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работа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работа с информ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ринятие ре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ланирование и 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постановка цели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Проектирование модели компетенции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(структура, уровни) в виде описания и(ли) графического выра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рсы</dc:creator>
  <dc:description/>
  <dc:language>en-US</dc:language>
  <cp:lastModifiedBy>gulzhan</cp:lastModifiedBy>
  <dcterms:modified xsi:type="dcterms:W3CDTF">2014-05-13T03:38:18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