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DC43-5C05-403A-A162-5E3371BF2D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830A-521A-477F-BC13-378733BA49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355B-93D6-4E2D-9632-FE5952EF14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B057-B441-47BE-898B-B429857DD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Можно подумать, что ничего нового! Все эти красивые слова говорились и раньше (личностные – воспитание, УУД – общеучебные умения). ОДНАКО если вчитаться – то результат теперь описан не в виде ЗНАНИЙ, а в виде ДЕЙСТВИЙ! ТЕПЕРЬ ЭТО БУДУТ ПРОВЕРЯТЬ – Т.Е. ЭТО БУДЕТ НЕ НА СЛОВАХ НОВЫЙ РЕЗУЛЬТАТ, А РЕАЛЬНО ПОТРЕБУЕТСЯ НА ДЕ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 надо пугаться новых слов – найдем соответствие им в нашем прошлом опы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ФГОС – начальной – основной – старшей – больше общ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ФГОС основной – уже не обучаем, а используем действия; уже не основы идентичности, а сама идентичности; если в нач.школе – умение учиться и работать с информацией, а в основной школе – работа с ними; акцент на исследовательскую деятельность (добавляется новый экзамен «Проект» – аналог дипломной работы в 11 классе);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C40E-7E66-448F-B720-AB4959F791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272-9176-492D-8978-9D144325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EEE-B1E2-4446-B893-7FA15EBA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00D5-8747-4371-97BD-8F807372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5E4CD-C063-466B-8F7B-8DC923A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FB570-F40C-4E58-8074-B71E160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50561-004D-488F-A29A-3F3AA97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91EB0-B150-48CA-928A-8A5C37A6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26AA3-6DF6-402F-AABA-24BCB80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34307-5A08-4A47-8327-9B021905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5D5AB-5769-43F3-9C0A-B1F5065D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1D307-ED55-42BE-A6FE-B3989205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F87-AB98-48BC-A320-7959CAA2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D48-36BF-4C2C-A12C-5FF23B6B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800F-F708-4437-9BC9-112CF029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37755-3BF4-4393-8053-291F24A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23643-CE8A-40AE-A098-EF691DC8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66A92-FB0E-4A3F-A5E5-A52BD553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ECC01-70E9-49A9-91BA-F4F5B07B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30A21-BF5D-4903-A5EF-52EA790F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3B904-A67C-40E7-BAB7-12C30D3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EFB-2BAE-4536-A044-38312EF7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3B7D5-08D1-4942-89ED-AE01362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5655-4685-44F6-ADF7-95F0257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8070-5B9E-4C9F-A81D-E9DF31C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A2F0F-6737-43FD-861C-B4E9ABF6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79555-C44F-44A2-8A89-61E6B260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CD1C3-E82B-4552-A26B-F4A14921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5027F-88DB-4DB3-A6EF-2C3023C1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C577D-DBD9-4E07-8ABB-96623A67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36335-4781-4A7A-BF13-00E05833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A7407-674D-4EED-8990-7B584D89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76E-F795-478E-BD97-6E2FF7F3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A5C96-5061-4A72-A272-B688570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03391-5255-4FDB-BEC0-D5FDCDE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14880E-EE4A-4A61-905F-4555344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C3400-B3ED-45F1-8E1D-79429670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814DC-8E71-4451-8C1A-2A651439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033DE-DAD7-4788-8625-CC27A908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C206-FDDE-4C0E-9C1E-F063DE81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6467-0164-4C3E-BFE9-634D1FF3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31E3E-D113-49C8-9208-EDF41D55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88504-451A-41BA-A341-7254FBFA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0A2-6F16-4B2B-82B1-30113DD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3802-4E46-45AD-AB7C-DC522A09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5F6D-CE90-4C98-9C4D-BA2B732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FD78-26E6-4296-99F5-23B1DA1F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1FCD-6981-4B56-8B2C-2442F22B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E92F-180E-4BE7-9084-D6300AF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97B9-E1E4-4484-90FE-BCFCBAF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032DE-44D6-4DEE-809D-519EE68A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E8354-3B97-4453-976B-5D255314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DDC99-60AD-4A6D-8AF5-688D7032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80EC-5549-4FAA-89C9-9A11F9C7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843-CDEA-40CB-B4C9-FD2FF140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B64E-D92A-4D8F-A907-15C061E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9B2A-8E48-4554-A17D-4A5D764F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67083-D7BF-4C4A-AEEF-134ECF4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9BE14-29D7-4DEA-906D-C8C691C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7D98-F07D-4FE1-B0A5-CEFF7CB0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46B3-3F89-44B6-A026-69A7D5A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B1661-4186-4318-AFC6-2FBB98A3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E9D4-2FEE-4FF0-B964-EF47D095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2EDE7-BEE5-4631-80B2-462D2606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E4A52-7B22-4F4A-AA28-F946A1A5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313-E6DB-4479-92D4-49D430A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01D22-9BFB-484B-9522-E0D7BC64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9791B-6481-4DDC-9950-8D249382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D99D8-8ADE-4BD5-A201-AE2DED46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1D5B-7655-4C61-A761-BEFE442E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BB3A3-89EF-4A09-ABB4-2EC5CBC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DEFCF-BED0-480B-851D-FE99BBCE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EB50-39D6-47E0-9F45-BE48CDC6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B0B5-BD1C-4634-9CF7-8C67E05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3B7F2-4364-4195-AAEE-966F299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B227-5D26-4EEF-94D1-F35B264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BC0-1CED-4107-BDDA-6A6E95C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23BC4-9EEE-4801-83E2-337EA9C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AA1F-8A8F-4DD7-909D-ACD14E67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2AD2B-C6B3-4633-8CE3-69D19404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A123-A6A7-4DDC-9F59-47E56EA8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58F5D-7439-44D0-8F34-FA04585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AA40F-BD22-4883-93F1-B67F8A48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97ABC-A6F5-4079-AE82-9F483260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EF846-274C-4F5D-88F5-8C8EA7E8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1D6D-E4A9-44B1-85FF-7317BA32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8E3E6-22A2-41F3-B34B-B00FD0B4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3E5-C0E3-4BCF-AE30-D448763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0706C-6B52-46D5-9910-F426B41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D0F1F-2E66-451F-9537-59804CD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041D0-F1C9-49CC-80C2-4093D06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BCD4-B0FE-4869-AAAF-7913C09C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99770-D8B8-40DC-8006-A5DC634F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9B52E-FF81-4913-976C-9488A6E1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23AAD-3B1E-4AF9-BE4C-853DA349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4565-BA02-4704-9DFD-B5F19C2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CEFAA-8B59-44CA-8BBC-36DA0FE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3F220-6918-4F3F-A2EA-52974CA7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2A1-57D8-4C33-932E-1DBAFC6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4092B-BE0C-4EF2-BDF5-C296175E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A122E-962C-451C-A52F-97EE345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13BFC-0CB3-4DB7-A3EB-22A9F83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4A329-1D65-4D71-85A3-4677240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79CE-A5E3-44AB-B4CA-C2BD32AF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39D0-278B-48FF-AA98-ED500294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3B321-027B-4211-BEF6-CD458515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773CE-54EA-45A7-A8A1-F23A67CA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C3562-18D2-42DF-AF3B-66C9C993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53260-F796-413B-8BB6-9EBC59C5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D3B-E4FC-4275-996B-AF6996AD6D7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925B-728A-470C-80F1-5E6583448DC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5AB3-5F83-4CF6-8A86-6ADF43A0BD9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3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44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3AC-00BA-44C9-935C-4E6D10EA3C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1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4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728-FBDC-4364-92B5-39856885E1A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39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0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1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D346-7AF0-4F0A-86E7-68195AC10FE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6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7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89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4F15-AAD9-46C7-9625-98AFDDB6550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34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35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8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3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C505-846D-49A6-81A4-05D9008FE7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382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5C70-BF88-400A-86E5-127D5CCC0F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7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Подходы к диагностике и оценке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 образовательных результатов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в рамках требований ФГОС</a:t>
            </a: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5429160" y="5214960"/>
            <a:ext cx="371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Пуденкова Е.А., методист </a:t>
            </a:r>
            <a:r>
              <a:rPr b="1" lang="en-US" sz="2000" spc="-1" strike="noStrike">
                <a:solidFill>
                  <a:srgbClr val="052e65"/>
                </a:solidFill>
                <a:latin typeface="Candara"/>
              </a:rPr>
              <a:t>      </a:t>
            </a:r>
            <a:r>
              <a:rPr b="1" lang="ru-RU" sz="2000" spc="-1" strike="noStrike">
                <a:solidFill>
                  <a:srgbClr val="052e65"/>
                </a:solidFill>
                <a:latin typeface="Candara"/>
              </a:rPr>
              <a:t>по физике ЦИОТ ПОИПКРО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52e65"/>
                </a:solidFill>
                <a:latin typeface="Candara"/>
              </a:rPr>
              <a:t>ele-pudenkova@yandex.ru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Модель формирования системы оценки результатов освоения общеобразовательных программ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13" name="Group 4"/>
          <p:cNvGrpSpPr/>
          <p:nvPr/>
        </p:nvGrpSpPr>
        <p:grpSpPr>
          <a:xfrm>
            <a:off x="0" y="907920"/>
            <a:ext cx="9143640" cy="5949360"/>
            <a:chOff x="0" y="907920"/>
            <a:chExt cx="9143640" cy="5949360"/>
          </a:xfrm>
        </p:grpSpPr>
        <p:grpSp>
          <p:nvGrpSpPr>
            <p:cNvPr id="514" name="Group 5"/>
            <p:cNvGrpSpPr/>
            <p:nvPr/>
          </p:nvGrpSpPr>
          <p:grpSpPr>
            <a:xfrm>
              <a:off x="441720" y="2174040"/>
              <a:ext cx="8154360" cy="375480"/>
              <a:chOff x="441720" y="2174040"/>
              <a:chExt cx="8154360" cy="375480"/>
            </a:xfrm>
          </p:grpSpPr>
          <p:sp>
            <p:nvSpPr>
              <p:cNvPr id="515" name="Text Box 6"/>
              <p:cNvSpPr/>
              <p:nvPr/>
            </p:nvSpPr>
            <p:spPr>
              <a:xfrm>
                <a:off x="441720" y="2176560"/>
                <a:ext cx="2316960" cy="372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Начальное общее образование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16" name="Text Box 7"/>
              <p:cNvSpPr/>
              <p:nvPr/>
            </p:nvSpPr>
            <p:spPr>
              <a:xfrm>
                <a:off x="6279120" y="2175120"/>
                <a:ext cx="2316960" cy="372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Среднее общее образование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17" name="Text Box 8"/>
              <p:cNvSpPr/>
              <p:nvPr/>
            </p:nvSpPr>
            <p:spPr>
              <a:xfrm>
                <a:off x="3300480" y="2174040"/>
                <a:ext cx="2316960" cy="372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Основное общее образование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18" name="Group 9"/>
            <p:cNvGrpSpPr/>
            <p:nvPr/>
          </p:nvGrpSpPr>
          <p:grpSpPr>
            <a:xfrm>
              <a:off x="7560" y="2924280"/>
              <a:ext cx="9011160" cy="456120"/>
              <a:chOff x="7560" y="2924280"/>
              <a:chExt cx="9011160" cy="456120"/>
            </a:xfrm>
          </p:grpSpPr>
          <p:grpSp>
            <p:nvGrpSpPr>
              <p:cNvPr id="519" name="Group 10"/>
              <p:cNvGrpSpPr/>
              <p:nvPr/>
            </p:nvGrpSpPr>
            <p:grpSpPr>
              <a:xfrm>
                <a:off x="7560" y="2924280"/>
                <a:ext cx="2935080" cy="456120"/>
                <a:chOff x="7560" y="2924280"/>
                <a:chExt cx="2935080" cy="456120"/>
              </a:xfrm>
            </p:grpSpPr>
            <p:sp>
              <p:nvSpPr>
                <p:cNvPr id="520" name="Text Box 11"/>
                <p:cNvSpPr/>
                <p:nvPr/>
              </p:nvSpPr>
              <p:spPr>
                <a:xfrm>
                  <a:off x="7560" y="2924280"/>
                  <a:ext cx="8539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Предме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21" name="Text Box 12"/>
                <p:cNvSpPr/>
                <p:nvPr/>
              </p:nvSpPr>
              <p:spPr>
                <a:xfrm>
                  <a:off x="921240" y="2925000"/>
                  <a:ext cx="10771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Метапредме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22" name="Text Box 13"/>
                <p:cNvSpPr/>
                <p:nvPr/>
              </p:nvSpPr>
              <p:spPr>
                <a:xfrm>
                  <a:off x="2088720" y="2924280"/>
                  <a:ext cx="8539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Личнос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  <p:grpSp>
            <p:nvGrpSpPr>
              <p:cNvPr id="523" name="Group 14"/>
              <p:cNvGrpSpPr/>
              <p:nvPr/>
            </p:nvGrpSpPr>
            <p:grpSpPr>
              <a:xfrm>
                <a:off x="6083640" y="2924280"/>
                <a:ext cx="2935080" cy="456120"/>
                <a:chOff x="6083640" y="2924280"/>
                <a:chExt cx="2935080" cy="456120"/>
              </a:xfrm>
            </p:grpSpPr>
            <p:sp>
              <p:nvSpPr>
                <p:cNvPr id="524" name="Text Box 15"/>
                <p:cNvSpPr/>
                <p:nvPr/>
              </p:nvSpPr>
              <p:spPr>
                <a:xfrm>
                  <a:off x="6083640" y="2924280"/>
                  <a:ext cx="8539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Предме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25" name="Text Box 16"/>
                <p:cNvSpPr/>
                <p:nvPr/>
              </p:nvSpPr>
              <p:spPr>
                <a:xfrm>
                  <a:off x="6997320" y="2925000"/>
                  <a:ext cx="10771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Метапредме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26" name="Text Box 17"/>
                <p:cNvSpPr/>
                <p:nvPr/>
              </p:nvSpPr>
              <p:spPr>
                <a:xfrm>
                  <a:off x="8164800" y="2924280"/>
                  <a:ext cx="8539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Личнос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  <p:grpSp>
            <p:nvGrpSpPr>
              <p:cNvPr id="527" name="Group 18"/>
              <p:cNvGrpSpPr/>
              <p:nvPr/>
            </p:nvGrpSpPr>
            <p:grpSpPr>
              <a:xfrm>
                <a:off x="3045600" y="2924280"/>
                <a:ext cx="2935080" cy="456120"/>
                <a:chOff x="3045600" y="2924280"/>
                <a:chExt cx="2935080" cy="456120"/>
              </a:xfrm>
            </p:grpSpPr>
            <p:sp>
              <p:nvSpPr>
                <p:cNvPr id="528" name="Text Box 19"/>
                <p:cNvSpPr/>
                <p:nvPr/>
              </p:nvSpPr>
              <p:spPr>
                <a:xfrm>
                  <a:off x="3045600" y="2924280"/>
                  <a:ext cx="8539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Предме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29" name="Text Box 20"/>
                <p:cNvSpPr/>
                <p:nvPr/>
              </p:nvSpPr>
              <p:spPr>
                <a:xfrm>
                  <a:off x="3959280" y="2925000"/>
                  <a:ext cx="10771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Метапредме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30" name="Text Box 21"/>
                <p:cNvSpPr/>
                <p:nvPr/>
              </p:nvSpPr>
              <p:spPr>
                <a:xfrm>
                  <a:off x="5126760" y="2924280"/>
                  <a:ext cx="853920" cy="455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 Narrow"/>
                    </a:rPr>
                    <a:t>Личностные результаты</a:t>
                  </a:r>
                  <a:endParaRPr b="0" lang="en-US" sz="10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</p:grpSp>
        <p:sp>
          <p:nvSpPr>
            <p:cNvPr id="531" name="Text Box 22"/>
            <p:cNvSpPr/>
            <p:nvPr/>
          </p:nvSpPr>
          <p:spPr>
            <a:xfrm>
              <a:off x="2286360" y="907920"/>
              <a:ext cx="4303800" cy="37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 Narrow"/>
                </a:rPr>
                <a:t>Государственный образовательный стандарт общего образования</a:t>
              </a:r>
              <a:endParaRPr b="0" lang="en-US" sz="13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2" name="Text Box 23"/>
            <p:cNvSpPr/>
            <p:nvPr/>
          </p:nvSpPr>
          <p:spPr>
            <a:xfrm>
              <a:off x="2265840" y="1551240"/>
              <a:ext cx="436608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 Narrow"/>
                </a:rPr>
                <a:t>Требования к результатам освоения общеобразовательных программ</a:t>
              </a:r>
              <a:endParaRPr b="0" lang="en-US" sz="13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3" name="Freeform 24"/>
            <p:cNvSpPr/>
            <p:nvPr/>
          </p:nvSpPr>
          <p:spPr>
            <a:xfrm>
              <a:off x="4347360" y="1280160"/>
              <a:ext cx="360" cy="277560"/>
            </a:xfrm>
            <a:custGeom>
              <a:avLst/>
              <a:gdLst/>
              <a:ahLst/>
              <a:rect l="l" t="t" r="r" b="b"/>
              <a:pathLst>
                <a:path w="1" h="400">
                  <a:moveTo>
                    <a:pt x="0" y="0"/>
                  </a:moveTo>
                  <a:lnTo>
                    <a:pt x="0" y="40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4" name="Freeform 25"/>
            <p:cNvSpPr/>
            <p:nvPr/>
          </p:nvSpPr>
          <p:spPr>
            <a:xfrm>
              <a:off x="4333320" y="1924560"/>
              <a:ext cx="360" cy="254880"/>
            </a:xfrm>
            <a:custGeom>
              <a:avLst/>
              <a:gdLst/>
              <a:ahLst/>
              <a:rect l="l" t="t" r="r" b="b"/>
              <a:pathLst>
                <a:path w="1" h="367">
                  <a:moveTo>
                    <a:pt x="0" y="0"/>
                  </a:moveTo>
                  <a:lnTo>
                    <a:pt x="0" y="36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1394640" y="2052720"/>
              <a:ext cx="6202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6" name="Freeform 27"/>
            <p:cNvSpPr/>
            <p:nvPr/>
          </p:nvSpPr>
          <p:spPr>
            <a:xfrm>
              <a:off x="7588800" y="2049840"/>
              <a:ext cx="360" cy="12492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7" name="Freeform 28"/>
            <p:cNvSpPr/>
            <p:nvPr/>
          </p:nvSpPr>
          <p:spPr>
            <a:xfrm>
              <a:off x="1388880" y="2052000"/>
              <a:ext cx="360" cy="12492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538" name="Group 29"/>
            <p:cNvGrpSpPr/>
            <p:nvPr/>
          </p:nvGrpSpPr>
          <p:grpSpPr>
            <a:xfrm>
              <a:off x="405000" y="2544480"/>
              <a:ext cx="8164800" cy="385200"/>
              <a:chOff x="405000" y="2544480"/>
              <a:chExt cx="8164800" cy="385200"/>
            </a:xfrm>
          </p:grpSpPr>
          <p:sp>
            <p:nvSpPr>
              <p:cNvPr id="539" name="Freeform 30"/>
              <p:cNvSpPr/>
              <p:nvPr/>
            </p:nvSpPr>
            <p:spPr>
              <a:xfrm>
                <a:off x="4451040" y="2549880"/>
                <a:ext cx="360" cy="379800"/>
              </a:xfrm>
              <a:custGeom>
                <a:avLst/>
                <a:gdLst/>
                <a:ahLst/>
                <a:rect l="l" t="t" r="r" b="b"/>
                <a:pathLst>
                  <a:path w="1" h="547">
                    <a:moveTo>
                      <a:pt x="0" y="0"/>
                    </a:moveTo>
                    <a:lnTo>
                      <a:pt x="0" y="547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0" name="Freeform 31"/>
              <p:cNvSpPr/>
              <p:nvPr/>
            </p:nvSpPr>
            <p:spPr>
              <a:xfrm>
                <a:off x="405000" y="2549880"/>
                <a:ext cx="474120" cy="374760"/>
              </a:xfrm>
              <a:custGeom>
                <a:avLst/>
                <a:gdLst/>
                <a:ahLst/>
                <a:rect l="l" t="t" r="r" b="b"/>
                <a:pathLst>
                  <a:path w="787" h="540">
                    <a:moveTo>
                      <a:pt x="787" y="0"/>
                    </a:moveTo>
                    <a:lnTo>
                      <a:pt x="0" y="54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1" name="Freeform 32"/>
              <p:cNvSpPr/>
              <p:nvPr/>
            </p:nvSpPr>
            <p:spPr>
              <a:xfrm>
                <a:off x="2113920" y="2544480"/>
                <a:ext cx="383760" cy="380520"/>
              </a:xfrm>
              <a:custGeom>
                <a:avLst/>
                <a:gdLst/>
                <a:ahLst/>
                <a:rect l="l" t="t" r="r" b="b"/>
                <a:pathLst>
                  <a:path w="637" h="548">
                    <a:moveTo>
                      <a:pt x="0" y="0"/>
                    </a:moveTo>
                    <a:lnTo>
                      <a:pt x="637" y="54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2" name="Freeform 33"/>
              <p:cNvSpPr/>
              <p:nvPr/>
            </p:nvSpPr>
            <p:spPr>
              <a:xfrm>
                <a:off x="1417680" y="2549880"/>
                <a:ext cx="360" cy="374760"/>
              </a:xfrm>
              <a:custGeom>
                <a:avLst/>
                <a:gdLst/>
                <a:ahLst/>
                <a:rect l="l" t="t" r="r" b="b"/>
                <a:pathLst>
                  <a:path w="1" h="540">
                    <a:moveTo>
                      <a:pt x="0" y="0"/>
                    </a:moveTo>
                    <a:lnTo>
                      <a:pt x="0" y="54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3" name="Freeform 34"/>
              <p:cNvSpPr/>
              <p:nvPr/>
            </p:nvSpPr>
            <p:spPr>
              <a:xfrm>
                <a:off x="3429000" y="2544480"/>
                <a:ext cx="348120" cy="380520"/>
              </a:xfrm>
              <a:custGeom>
                <a:avLst/>
                <a:gdLst/>
                <a:ahLst/>
                <a:rect l="l" t="t" r="r" b="b"/>
                <a:pathLst>
                  <a:path w="578" h="548">
                    <a:moveTo>
                      <a:pt x="578" y="0"/>
                    </a:moveTo>
                    <a:lnTo>
                      <a:pt x="0" y="548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4" name="Freeform 35"/>
              <p:cNvSpPr/>
              <p:nvPr/>
            </p:nvSpPr>
            <p:spPr>
              <a:xfrm>
                <a:off x="5170320" y="2549880"/>
                <a:ext cx="361440" cy="369360"/>
              </a:xfrm>
              <a:custGeom>
                <a:avLst/>
                <a:gdLst/>
                <a:ahLst/>
                <a:rect l="l" t="t" r="r" b="b"/>
                <a:pathLst>
                  <a:path w="600" h="532">
                    <a:moveTo>
                      <a:pt x="0" y="0"/>
                    </a:moveTo>
                    <a:lnTo>
                      <a:pt x="600" y="53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5" name="Freeform 36"/>
              <p:cNvSpPr/>
              <p:nvPr/>
            </p:nvSpPr>
            <p:spPr>
              <a:xfrm>
                <a:off x="7494120" y="2549880"/>
                <a:ext cx="360" cy="369360"/>
              </a:xfrm>
              <a:custGeom>
                <a:avLst/>
                <a:gdLst/>
                <a:ahLst/>
                <a:rect l="l" t="t" r="r" b="b"/>
                <a:pathLst>
                  <a:path w="1" h="532">
                    <a:moveTo>
                      <a:pt x="0" y="0"/>
                    </a:moveTo>
                    <a:lnTo>
                      <a:pt x="0" y="53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6" name="Freeform 37"/>
              <p:cNvSpPr/>
              <p:nvPr/>
            </p:nvSpPr>
            <p:spPr>
              <a:xfrm>
                <a:off x="8176320" y="2549880"/>
                <a:ext cx="393480" cy="369360"/>
              </a:xfrm>
              <a:custGeom>
                <a:avLst/>
                <a:gdLst/>
                <a:ahLst/>
                <a:rect l="l" t="t" r="r" b="b"/>
                <a:pathLst>
                  <a:path w="653" h="532">
                    <a:moveTo>
                      <a:pt x="0" y="0"/>
                    </a:moveTo>
                    <a:lnTo>
                      <a:pt x="653" y="532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47" name="Freeform 38"/>
              <p:cNvSpPr/>
              <p:nvPr/>
            </p:nvSpPr>
            <p:spPr>
              <a:xfrm>
                <a:off x="6476400" y="2544480"/>
                <a:ext cx="289080" cy="374760"/>
              </a:xfrm>
              <a:custGeom>
                <a:avLst/>
                <a:gdLst/>
                <a:ahLst/>
                <a:rect l="l" t="t" r="r" b="b"/>
                <a:pathLst>
                  <a:path w="480" h="540">
                    <a:moveTo>
                      <a:pt x="480" y="0"/>
                    </a:moveTo>
                    <a:lnTo>
                      <a:pt x="0" y="54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48" name="Group 39"/>
            <p:cNvGrpSpPr/>
            <p:nvPr/>
          </p:nvGrpSpPr>
          <p:grpSpPr>
            <a:xfrm>
              <a:off x="0" y="3382200"/>
              <a:ext cx="8605440" cy="258480"/>
              <a:chOff x="0" y="3382200"/>
              <a:chExt cx="8605440" cy="258480"/>
            </a:xfrm>
          </p:grpSpPr>
          <p:sp>
            <p:nvSpPr>
              <p:cNvPr id="549" name="Line 40"/>
              <p:cNvSpPr/>
              <p:nvPr/>
            </p:nvSpPr>
            <p:spPr>
              <a:xfrm>
                <a:off x="0" y="3638160"/>
                <a:ext cx="85539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0" name="AutoShape 41"/>
              <p:cNvSpPr/>
              <p:nvPr/>
            </p:nvSpPr>
            <p:spPr>
              <a:xfrm>
                <a:off x="331200" y="33822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1" name="AutoShape 42"/>
              <p:cNvSpPr/>
              <p:nvPr/>
            </p:nvSpPr>
            <p:spPr>
              <a:xfrm>
                <a:off x="1361520" y="33822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2" name="AutoShape 43"/>
              <p:cNvSpPr/>
              <p:nvPr/>
            </p:nvSpPr>
            <p:spPr>
              <a:xfrm>
                <a:off x="2448360" y="33822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3" name="AutoShape 44"/>
              <p:cNvSpPr/>
              <p:nvPr/>
            </p:nvSpPr>
            <p:spPr>
              <a:xfrm>
                <a:off x="3370680" y="33822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4" name="AutoShape 45"/>
              <p:cNvSpPr/>
              <p:nvPr/>
            </p:nvSpPr>
            <p:spPr>
              <a:xfrm>
                <a:off x="4405680" y="33840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5" name="AutoShape 46"/>
              <p:cNvSpPr/>
              <p:nvPr/>
            </p:nvSpPr>
            <p:spPr>
              <a:xfrm>
                <a:off x="5454720" y="33822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6" name="AutoShape 47"/>
              <p:cNvSpPr/>
              <p:nvPr/>
            </p:nvSpPr>
            <p:spPr>
              <a:xfrm>
                <a:off x="6418080" y="33822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7" name="AutoShape 48"/>
              <p:cNvSpPr/>
              <p:nvPr/>
            </p:nvSpPr>
            <p:spPr>
              <a:xfrm>
                <a:off x="7444080" y="33840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58" name="AutoShape 49"/>
              <p:cNvSpPr/>
              <p:nvPr/>
            </p:nvSpPr>
            <p:spPr>
              <a:xfrm>
                <a:off x="8497800" y="3384000"/>
                <a:ext cx="107640" cy="256680"/>
              </a:xfrm>
              <a:prstGeom prst="downArrow">
                <a:avLst>
                  <a:gd name="adj1" fmla="val 50000"/>
                  <a:gd name="adj2" fmla="val 59615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59" name="Group 50"/>
            <p:cNvGrpSpPr/>
            <p:nvPr/>
          </p:nvGrpSpPr>
          <p:grpSpPr>
            <a:xfrm>
              <a:off x="1673640" y="4549680"/>
              <a:ext cx="6145920" cy="2307600"/>
              <a:chOff x="1673640" y="4549680"/>
              <a:chExt cx="6145920" cy="2307600"/>
            </a:xfrm>
          </p:grpSpPr>
          <p:sp>
            <p:nvSpPr>
              <p:cNvPr id="560" name="Text Box 51"/>
              <p:cNvSpPr/>
              <p:nvPr/>
            </p:nvSpPr>
            <p:spPr>
              <a:xfrm>
                <a:off x="1673640" y="4549680"/>
                <a:ext cx="1633320" cy="25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Учащиеся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1" name="Text Box 52"/>
              <p:cNvSpPr/>
              <p:nvPr/>
            </p:nvSpPr>
            <p:spPr>
              <a:xfrm>
                <a:off x="1673640" y="5299560"/>
                <a:ext cx="1633320" cy="25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Родители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2" name="Text Box 53"/>
              <p:cNvSpPr/>
              <p:nvPr/>
            </p:nvSpPr>
            <p:spPr>
              <a:xfrm>
                <a:off x="1673640" y="4918320"/>
                <a:ext cx="1633320" cy="25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Учителя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3" name="Text Box 54"/>
              <p:cNvSpPr/>
              <p:nvPr/>
            </p:nvSpPr>
            <p:spPr>
              <a:xfrm>
                <a:off x="1673640" y="5668560"/>
                <a:ext cx="1633320" cy="25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Управленцы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4" name="Text Box 55"/>
              <p:cNvSpPr/>
              <p:nvPr/>
            </p:nvSpPr>
            <p:spPr>
              <a:xfrm>
                <a:off x="1673640" y="6004080"/>
                <a:ext cx="1633320" cy="42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 Narrow"/>
                  </a:rPr>
                  <a:t>Службы аккредитации, аттестации</a:t>
                </a:r>
                <a:endParaRPr b="0" lang="en-US" sz="12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5" name="Text Box 56"/>
              <p:cNvSpPr/>
              <p:nvPr/>
            </p:nvSpPr>
            <p:spPr>
              <a:xfrm>
                <a:off x="1673640" y="6543720"/>
                <a:ext cx="1633320" cy="25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 Narrow"/>
                  </a:rPr>
                  <a:t>Разные пользователи</a:t>
                </a:r>
                <a:endParaRPr b="0" lang="en-US" sz="12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6" name="Text Box 57"/>
              <p:cNvSpPr/>
              <p:nvPr/>
            </p:nvSpPr>
            <p:spPr>
              <a:xfrm>
                <a:off x="4054680" y="5003640"/>
                <a:ext cx="1633680" cy="42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Измерители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7" name="Text Box 58"/>
              <p:cNvSpPr/>
              <p:nvPr/>
            </p:nvSpPr>
            <p:spPr>
              <a:xfrm>
                <a:off x="4060800" y="5549760"/>
                <a:ext cx="1633680" cy="42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Критерии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8" name="Text Box 59"/>
              <p:cNvSpPr/>
              <p:nvPr/>
            </p:nvSpPr>
            <p:spPr>
              <a:xfrm>
                <a:off x="4060800" y="6129000"/>
                <a:ext cx="1633680" cy="42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Оценочные процедуры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69" name="Text Box 60"/>
              <p:cNvSpPr/>
              <p:nvPr/>
            </p:nvSpPr>
            <p:spPr>
              <a:xfrm>
                <a:off x="6186240" y="5164200"/>
                <a:ext cx="1633320" cy="116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Система внешней и внутренней оценки достижения требований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Object 61"/>
                  <p:cNvSpPr txBox="1"/>
                  <p:nvPr/>
                </p:nvSpPr>
                <p:spPr>
                  <a:xfrm>
                    <a:off x="3527640" y="4732200"/>
                    <a:ext cx="650880" cy="212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{"/>
                            <m:endChr m:val=""/>
                          </m:dPr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71" name="Group 62"/>
            <p:cNvGrpSpPr/>
            <p:nvPr/>
          </p:nvGrpSpPr>
          <p:grpSpPr>
            <a:xfrm>
              <a:off x="7560" y="3799440"/>
              <a:ext cx="9005760" cy="875160"/>
              <a:chOff x="7560" y="3799440"/>
              <a:chExt cx="9005760" cy="875160"/>
            </a:xfrm>
          </p:grpSpPr>
          <p:sp>
            <p:nvSpPr>
              <p:cNvPr id="572" name="Text Box 63"/>
              <p:cNvSpPr/>
              <p:nvPr/>
            </p:nvSpPr>
            <p:spPr>
              <a:xfrm>
                <a:off x="7560" y="3801960"/>
                <a:ext cx="1633320" cy="61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Операционализа-ция требований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73" name="Text Box 64"/>
              <p:cNvSpPr/>
              <p:nvPr/>
            </p:nvSpPr>
            <p:spPr>
              <a:xfrm>
                <a:off x="3696840" y="3799440"/>
                <a:ext cx="163368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 Narrow"/>
                  </a:rPr>
                  <a:t>Экспериментальная проверка достижения требований</a:t>
                </a:r>
                <a:endParaRPr b="0" lang="en-US" sz="12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74" name="Text Box 65"/>
              <p:cNvSpPr/>
              <p:nvPr/>
            </p:nvSpPr>
            <p:spPr>
              <a:xfrm>
                <a:off x="1852200" y="3799440"/>
                <a:ext cx="1633320" cy="61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Разработка эталонных заданий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75" name="Text Box 66"/>
              <p:cNvSpPr/>
              <p:nvPr/>
            </p:nvSpPr>
            <p:spPr>
              <a:xfrm>
                <a:off x="5535360" y="3799440"/>
                <a:ext cx="1633320" cy="61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 Narrow"/>
                  </a:rPr>
                  <a:t>Описание и уточнение уровней достижения</a:t>
                </a:r>
                <a:endParaRPr b="0" lang="en-US" sz="13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76" name="Text Box 67"/>
              <p:cNvSpPr/>
              <p:nvPr/>
            </p:nvSpPr>
            <p:spPr>
              <a:xfrm>
                <a:off x="7380000" y="3799440"/>
                <a:ext cx="1633320" cy="87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Arial Narrow"/>
                  </a:rPr>
                  <a:t>Формирование реалистичных критериев для оценки достижения требований</a:t>
                </a:r>
                <a:endParaRPr b="0" lang="en-US" sz="12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grpSp>
            <p:nvGrpSpPr>
              <p:cNvPr id="577" name="Group 68"/>
              <p:cNvGrpSpPr/>
              <p:nvPr/>
            </p:nvGrpSpPr>
            <p:grpSpPr>
              <a:xfrm>
                <a:off x="1636920" y="4017600"/>
                <a:ext cx="5742000" cy="157680"/>
                <a:chOff x="1636920" y="4017600"/>
                <a:chExt cx="5742000" cy="157680"/>
              </a:xfrm>
            </p:grpSpPr>
            <p:sp>
              <p:nvSpPr>
                <p:cNvPr id="578" name="AutoShape 69"/>
                <p:cNvSpPr/>
                <p:nvPr/>
              </p:nvSpPr>
              <p:spPr>
                <a:xfrm>
                  <a:off x="1636920" y="4017600"/>
                  <a:ext cx="213120" cy="131040"/>
                </a:xfrm>
                <a:prstGeom prst="rightArrow">
                  <a:avLst>
                    <a:gd name="adj1" fmla="val 50000"/>
                    <a:gd name="adj2" fmla="val 40659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79" name="AutoShape 70"/>
                <p:cNvSpPr/>
                <p:nvPr/>
              </p:nvSpPr>
              <p:spPr>
                <a:xfrm>
                  <a:off x="3491280" y="4023720"/>
                  <a:ext cx="213120" cy="131400"/>
                </a:xfrm>
                <a:prstGeom prst="rightArrow">
                  <a:avLst>
                    <a:gd name="adj1" fmla="val 50000"/>
                    <a:gd name="adj2" fmla="val 40548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80" name="AutoShape 71"/>
                <p:cNvSpPr/>
                <p:nvPr/>
              </p:nvSpPr>
              <p:spPr>
                <a:xfrm>
                  <a:off x="5327280" y="4023000"/>
                  <a:ext cx="213120" cy="131040"/>
                </a:xfrm>
                <a:prstGeom prst="rightArrow">
                  <a:avLst>
                    <a:gd name="adj1" fmla="val 50000"/>
                    <a:gd name="adj2" fmla="val 40659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  <p:sp>
              <p:nvSpPr>
                <p:cNvPr id="581" name="AutoShape 72"/>
                <p:cNvSpPr/>
                <p:nvPr/>
              </p:nvSpPr>
              <p:spPr>
                <a:xfrm>
                  <a:off x="7165800" y="4043880"/>
                  <a:ext cx="213120" cy="131400"/>
                </a:xfrm>
                <a:prstGeom prst="rightArrow">
                  <a:avLst>
                    <a:gd name="adj1" fmla="val 50000"/>
                    <a:gd name="adj2" fmla="val 40548"/>
                  </a:avLst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ndara"/>
                  </a:endParaRPr>
                </a:p>
              </p:txBody>
            </p:sp>
          </p:grpSp>
        </p:grpSp>
        <p:grpSp>
          <p:nvGrpSpPr>
            <p:cNvPr id="582" name="Group 73"/>
            <p:cNvGrpSpPr/>
            <p:nvPr/>
          </p:nvGrpSpPr>
          <p:grpSpPr>
            <a:xfrm>
              <a:off x="7820280" y="4113000"/>
              <a:ext cx="1323360" cy="1654560"/>
              <a:chOff x="7820280" y="4113000"/>
              <a:chExt cx="1323360" cy="1654560"/>
            </a:xfrm>
          </p:grpSpPr>
          <p:sp>
            <p:nvSpPr>
              <p:cNvPr id="583" name="AutoShape 74"/>
              <p:cNvSpPr/>
              <p:nvPr/>
            </p:nvSpPr>
            <p:spPr>
              <a:xfrm>
                <a:off x="7820280" y="5643000"/>
                <a:ext cx="1302120" cy="124560"/>
              </a:xfrm>
              <a:prstGeom prst="leftArrow">
                <a:avLst>
                  <a:gd name="adj1" fmla="val 50000"/>
                  <a:gd name="adj2" fmla="val 26134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84" name="Freeform 75"/>
              <p:cNvSpPr/>
              <p:nvPr/>
            </p:nvSpPr>
            <p:spPr>
              <a:xfrm>
                <a:off x="9121680" y="4113000"/>
                <a:ext cx="1800" cy="1630080"/>
              </a:xfrm>
              <a:custGeom>
                <a:avLst/>
                <a:gdLst/>
                <a:ahLst/>
                <a:rect l="l" t="t" r="r" b="b"/>
                <a:pathLst>
                  <a:path w="3" h="2347">
                    <a:moveTo>
                      <a:pt x="3" y="2347"/>
                    </a:moveTo>
                    <a:lnTo>
                      <a:pt x="0" y="0"/>
                    </a:lnTo>
                  </a:path>
                </a:pathLst>
              </a:custGeom>
              <a:noFill/>
              <a:ln w="63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85" name="Freeform 76"/>
              <p:cNvSpPr/>
              <p:nvPr/>
            </p:nvSpPr>
            <p:spPr>
              <a:xfrm>
                <a:off x="9013680" y="4142880"/>
                <a:ext cx="129960" cy="360"/>
              </a:xfrm>
              <a:custGeom>
                <a:avLst/>
                <a:gdLst/>
                <a:ahLst/>
                <a:rect l="l" t="t" r="r" b="b"/>
                <a:pathLst>
                  <a:path w="216" h="9">
                    <a:moveTo>
                      <a:pt x="0" y="0"/>
                    </a:moveTo>
                    <a:lnTo>
                      <a:pt x="216" y="9"/>
                    </a:lnTo>
                  </a:path>
                </a:pathLst>
              </a:custGeom>
              <a:noFill/>
              <a:ln w="63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grpSp>
          <p:nvGrpSpPr>
            <p:cNvPr id="586" name="Group 77"/>
            <p:cNvGrpSpPr/>
            <p:nvPr/>
          </p:nvGrpSpPr>
          <p:grpSpPr>
            <a:xfrm>
              <a:off x="3772800" y="5110920"/>
              <a:ext cx="2411640" cy="1295280"/>
              <a:chOff x="3772800" y="5110920"/>
              <a:chExt cx="2411640" cy="1295280"/>
            </a:xfrm>
          </p:grpSpPr>
          <p:sp>
            <p:nvSpPr>
              <p:cNvPr id="587" name="AutoShape 78"/>
              <p:cNvSpPr/>
              <p:nvPr/>
            </p:nvSpPr>
            <p:spPr>
              <a:xfrm>
                <a:off x="3772800" y="5143320"/>
                <a:ext cx="278280" cy="124200"/>
              </a:xfrm>
              <a:prstGeom prst="leftArrow">
                <a:avLst>
                  <a:gd name="adj1" fmla="val 50000"/>
                  <a:gd name="adj2" fmla="val 5601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88" name="AutoShape 79"/>
              <p:cNvSpPr/>
              <p:nvPr/>
            </p:nvSpPr>
            <p:spPr>
              <a:xfrm>
                <a:off x="3780360" y="5719320"/>
                <a:ext cx="278280" cy="124200"/>
              </a:xfrm>
              <a:prstGeom prst="leftArrow">
                <a:avLst>
                  <a:gd name="adj1" fmla="val 50000"/>
                  <a:gd name="adj2" fmla="val 5601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89" name="AutoShape 80"/>
              <p:cNvSpPr/>
              <p:nvPr/>
            </p:nvSpPr>
            <p:spPr>
              <a:xfrm>
                <a:off x="3780360" y="6282000"/>
                <a:ext cx="278280" cy="124200"/>
              </a:xfrm>
              <a:prstGeom prst="leftArrow">
                <a:avLst>
                  <a:gd name="adj1" fmla="val 50000"/>
                  <a:gd name="adj2" fmla="val 5601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0" name="AutoShape 81"/>
              <p:cNvSpPr/>
              <p:nvPr/>
            </p:nvSpPr>
            <p:spPr>
              <a:xfrm>
                <a:off x="5701680" y="5670720"/>
                <a:ext cx="482760" cy="124200"/>
              </a:xfrm>
              <a:prstGeom prst="leftArrow">
                <a:avLst>
                  <a:gd name="adj1" fmla="val 50000"/>
                  <a:gd name="adj2" fmla="val 9717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1" name="AutoShape 82"/>
              <p:cNvSpPr/>
              <p:nvPr/>
            </p:nvSpPr>
            <p:spPr>
              <a:xfrm>
                <a:off x="5691960" y="5110920"/>
                <a:ext cx="278280" cy="124200"/>
              </a:xfrm>
              <a:prstGeom prst="leftArrow">
                <a:avLst>
                  <a:gd name="adj1" fmla="val 50000"/>
                  <a:gd name="adj2" fmla="val 5601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2" name="AutoShape 83"/>
              <p:cNvSpPr/>
              <p:nvPr/>
            </p:nvSpPr>
            <p:spPr>
              <a:xfrm>
                <a:off x="5693040" y="6264360"/>
                <a:ext cx="278280" cy="124200"/>
              </a:xfrm>
              <a:prstGeom prst="leftArrow">
                <a:avLst>
                  <a:gd name="adj1" fmla="val 50000"/>
                  <a:gd name="adj2" fmla="val 56014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593" name="Freeform 84"/>
              <p:cNvSpPr/>
              <p:nvPr/>
            </p:nvSpPr>
            <p:spPr>
              <a:xfrm>
                <a:off x="5975280" y="5140440"/>
                <a:ext cx="360" cy="1221120"/>
              </a:xfrm>
              <a:custGeom>
                <a:avLst/>
                <a:gdLst/>
                <a:ahLst/>
                <a:rect l="l" t="t" r="r" b="b"/>
                <a:pathLst>
                  <a:path w="6" h="1758">
                    <a:moveTo>
                      <a:pt x="6" y="0"/>
                    </a:moveTo>
                    <a:lnTo>
                      <a:pt x="0" y="1758"/>
                    </a:lnTo>
                  </a:path>
                </a:pathLst>
              </a:custGeom>
              <a:noFill/>
              <a:ln w="63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Модель системы оценки планируемых результатов освоения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общеобразовательных программ  и  её основные компоненты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595" name="Group 4"/>
          <p:cNvGrpSpPr/>
          <p:nvPr/>
        </p:nvGrpSpPr>
        <p:grpSpPr>
          <a:xfrm>
            <a:off x="0" y="1197000"/>
            <a:ext cx="9143640" cy="5660640"/>
            <a:chOff x="0" y="1197000"/>
            <a:chExt cx="9143640" cy="5660640"/>
          </a:xfrm>
        </p:grpSpPr>
        <p:sp>
          <p:nvSpPr>
            <p:cNvPr id="596" name="Text Box 5"/>
            <p:cNvSpPr/>
            <p:nvPr/>
          </p:nvSpPr>
          <p:spPr>
            <a:xfrm>
              <a:off x="1348200" y="1197000"/>
              <a:ext cx="614376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Оценка результатов освоения общеобразовательных программ 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(объект и  содержание оценки)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1024560" y="1817640"/>
              <a:ext cx="3090600" cy="37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Субъективные методы оценки (инструментарий, процедуры и критерии)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8" name="Text Box 7"/>
            <p:cNvSpPr/>
            <p:nvPr/>
          </p:nvSpPr>
          <p:spPr>
            <a:xfrm>
              <a:off x="5425200" y="1832040"/>
              <a:ext cx="3090600" cy="37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Объективные методы оценки (инструментарий, процедуры и критерии)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9" name="Text Box 8"/>
            <p:cNvSpPr/>
            <p:nvPr/>
          </p:nvSpPr>
          <p:spPr>
            <a:xfrm>
              <a:off x="216000" y="2438640"/>
              <a:ext cx="61776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Другие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0" name="Text Box 9"/>
            <p:cNvSpPr/>
            <p:nvPr/>
          </p:nvSpPr>
          <p:spPr>
            <a:xfrm>
              <a:off x="891720" y="2450880"/>
              <a:ext cx="729000" cy="4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Проекты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1" name="Text Box 10"/>
            <p:cNvSpPr/>
            <p:nvPr/>
          </p:nvSpPr>
          <p:spPr>
            <a:xfrm>
              <a:off x="1717920" y="2454480"/>
              <a:ext cx="1144080" cy="43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Практические работы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2" name="Text Box 11"/>
            <p:cNvSpPr/>
            <p:nvPr/>
          </p:nvSpPr>
          <p:spPr>
            <a:xfrm>
              <a:off x="2962080" y="2461320"/>
              <a:ext cx="966240" cy="43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ртфолио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3" name="Text Box 12"/>
            <p:cNvSpPr/>
            <p:nvPr/>
          </p:nvSpPr>
          <p:spPr>
            <a:xfrm>
              <a:off x="4026600" y="2461320"/>
              <a:ext cx="1384200" cy="42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исьменный или устный опрос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4" name="Text Box 13"/>
            <p:cNvSpPr/>
            <p:nvPr/>
          </p:nvSpPr>
          <p:spPr>
            <a:xfrm>
              <a:off x="5074920" y="3063600"/>
              <a:ext cx="197496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естирование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стандартизированное)</a:t>
              </a:r>
              <a:endParaRPr b="0" lang="en-US" sz="10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5" name="Text Box 14"/>
            <p:cNvSpPr/>
            <p:nvPr/>
          </p:nvSpPr>
          <p:spPr>
            <a:xfrm>
              <a:off x="7149960" y="3063600"/>
              <a:ext cx="197496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нкетирование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стандартизированное</a:t>
              </a: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6" name="Text Box 15"/>
            <p:cNvSpPr/>
            <p:nvPr/>
          </p:nvSpPr>
          <p:spPr>
            <a:xfrm>
              <a:off x="1186200" y="3307680"/>
              <a:ext cx="25866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тартовый, текущий и итоговый контроль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7" name="Text Box 16"/>
            <p:cNvSpPr/>
            <p:nvPr/>
          </p:nvSpPr>
          <p:spPr>
            <a:xfrm>
              <a:off x="3935160" y="3928680"/>
              <a:ext cx="3106800" cy="68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ттестация учащихся, педагогических кадров, образовательных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чреждений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8" name="Text Box 17"/>
            <p:cNvSpPr/>
            <p:nvPr/>
          </p:nvSpPr>
          <p:spPr>
            <a:xfrm>
              <a:off x="7168680" y="3928680"/>
              <a:ext cx="197496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ниторинговые исследования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9" name="Text Box 18"/>
            <p:cNvSpPr/>
            <p:nvPr/>
          </p:nvSpPr>
          <p:spPr>
            <a:xfrm>
              <a:off x="668880" y="4878720"/>
              <a:ext cx="2581200" cy="37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Внутренняя оценка 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0" name="Text Box 19"/>
            <p:cNvSpPr/>
            <p:nvPr/>
          </p:nvSpPr>
          <p:spPr>
            <a:xfrm>
              <a:off x="5895720" y="4888800"/>
              <a:ext cx="2581560" cy="37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Narrow"/>
                </a:rPr>
                <a:t>Внешняя оценка</a:t>
              </a:r>
              <a:endParaRPr b="0" lang="en-US" sz="14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1" name="Text Box 20"/>
            <p:cNvSpPr/>
            <p:nvPr/>
          </p:nvSpPr>
          <p:spPr>
            <a:xfrm>
              <a:off x="3035880" y="5533560"/>
              <a:ext cx="307188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 Narrow"/>
                </a:rPr>
                <a:t>Основные группы пользователей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 (учащиеся, учителя, родители, управленцы, представители общественности, ученые и др.)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 Narrow"/>
                </a:rPr>
                <a:t>Цели использования результатов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 (принятия реш.):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переход на другую ступень обучения и поступлление в вуз или ссуз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оценка качества образования;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 Narrow"/>
                </a:rPr>
                <a:t>реформирование содержания образования и др.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0" y="5542920"/>
              <a:ext cx="29649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еханизмы обеспечения качества оценки: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Реалистичность требований и критериев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Уровневые требования к результатам образования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Открытость требований, процедур и критериев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Сочетание внешней и внутренней оценки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3" name="Text Box 22"/>
            <p:cNvSpPr/>
            <p:nvPr/>
          </p:nvSpPr>
          <p:spPr>
            <a:xfrm>
              <a:off x="6198480" y="5542920"/>
              <a:ext cx="2936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Риски:</a:t>
              </a:r>
              <a:endParaRPr b="0" lang="en-US" sz="12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Искажение результатов оценки за счет неразработанности объективных критериев и процедур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Увеличение времени на оценку за счет активного времени обучения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Натаскивание на содержание проверки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Перегруженность учителей и учащихся  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– </a:t>
              </a:r>
              <a:r>
                <a:rPr b="0" lang="ru-RU" sz="1100" spc="-1" strike="noStrike">
                  <a:solidFill>
                    <a:srgbClr val="000000"/>
                  </a:solidFill>
                  <a:latin typeface="Candara"/>
                  <a:ea typeface="Arial"/>
                </a:rPr>
                <a:t>Другие</a:t>
              </a:r>
              <a:endParaRPr b="0" lang="en-US" sz="11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grpSp>
          <p:nvGrpSpPr>
            <p:cNvPr id="614" name="Group 23"/>
            <p:cNvGrpSpPr/>
            <p:nvPr/>
          </p:nvGrpSpPr>
          <p:grpSpPr>
            <a:xfrm>
              <a:off x="3259440" y="4924080"/>
              <a:ext cx="2615400" cy="602280"/>
              <a:chOff x="3259440" y="4924080"/>
              <a:chExt cx="2615400" cy="602280"/>
            </a:xfrm>
          </p:grpSpPr>
          <p:sp>
            <p:nvSpPr>
              <p:cNvPr id="615" name="AutoShape 24"/>
              <p:cNvSpPr/>
              <p:nvPr/>
            </p:nvSpPr>
            <p:spPr>
              <a:xfrm>
                <a:off x="3259440" y="4925160"/>
                <a:ext cx="1131480" cy="248400"/>
              </a:xfrm>
              <a:prstGeom prst="rightArrow">
                <a:avLst>
                  <a:gd name="adj1" fmla="val 50000"/>
                  <a:gd name="adj2" fmla="val 113877"/>
                </a:avLst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16" name="AutoShape 25"/>
              <p:cNvSpPr/>
              <p:nvPr/>
            </p:nvSpPr>
            <p:spPr>
              <a:xfrm rot="10800000">
                <a:off x="4743000" y="4924080"/>
                <a:ext cx="1131840" cy="248400"/>
              </a:xfrm>
              <a:prstGeom prst="rightArrow">
                <a:avLst>
                  <a:gd name="adj1" fmla="val 50000"/>
                  <a:gd name="adj2" fmla="val 113913"/>
                </a:avLst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  <p:sp>
            <p:nvSpPr>
              <p:cNvPr id="617" name="AutoShape 26"/>
              <p:cNvSpPr/>
              <p:nvPr/>
            </p:nvSpPr>
            <p:spPr>
              <a:xfrm rot="5400000">
                <a:off x="4371840" y="5167440"/>
                <a:ext cx="394560" cy="322920"/>
              </a:xfrm>
              <a:prstGeom prst="rightArrow">
                <a:avLst>
                  <a:gd name="adj1" fmla="val 50000"/>
                  <a:gd name="adj2" fmla="val 30546"/>
                </a:avLst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ndara"/>
                </a:endParaRPr>
              </a:p>
            </p:txBody>
          </p:sp>
        </p:grpSp>
        <p:sp>
          <p:nvSpPr>
            <p:cNvPr id="618" name="Line 27"/>
            <p:cNvSpPr/>
            <p:nvPr/>
          </p:nvSpPr>
          <p:spPr>
            <a:xfrm flipH="1">
              <a:off x="2317680" y="1569240"/>
              <a:ext cx="970200" cy="24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19" name="Freeform 28"/>
            <p:cNvSpPr/>
            <p:nvPr/>
          </p:nvSpPr>
          <p:spPr>
            <a:xfrm>
              <a:off x="6033960" y="1574280"/>
              <a:ext cx="972000" cy="261360"/>
            </a:xfrm>
            <a:custGeom>
              <a:avLst/>
              <a:gdLst/>
              <a:ahLst/>
              <a:rect l="l" t="t" r="r" b="b"/>
              <a:pathLst>
                <a:path w="1082" h="379">
                  <a:moveTo>
                    <a:pt x="0" y="0"/>
                  </a:moveTo>
                  <a:lnTo>
                    <a:pt x="1082" y="3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 flipH="1">
              <a:off x="539640" y="2190240"/>
              <a:ext cx="969840" cy="24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1" name="Freeform 30"/>
            <p:cNvSpPr/>
            <p:nvPr/>
          </p:nvSpPr>
          <p:spPr>
            <a:xfrm>
              <a:off x="1242000" y="2189520"/>
              <a:ext cx="633240" cy="263520"/>
            </a:xfrm>
            <a:custGeom>
              <a:avLst/>
              <a:gdLst/>
              <a:ahLst/>
              <a:rect l="l" t="t" r="r" b="b"/>
              <a:pathLst>
                <a:path w="705" h="382">
                  <a:moveTo>
                    <a:pt x="705" y="0"/>
                  </a:moveTo>
                  <a:lnTo>
                    <a:pt x="0" y="38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2" name="Freeform 31"/>
            <p:cNvSpPr/>
            <p:nvPr/>
          </p:nvSpPr>
          <p:spPr>
            <a:xfrm>
              <a:off x="2265840" y="2184120"/>
              <a:ext cx="720" cy="268920"/>
            </a:xfrm>
            <a:custGeom>
              <a:avLst/>
              <a:gdLst/>
              <a:ahLst/>
              <a:rect l="l" t="t" r="r" b="b"/>
              <a:pathLst>
                <a:path w="1" h="390">
                  <a:moveTo>
                    <a:pt x="0" y="0"/>
                  </a:moveTo>
                  <a:lnTo>
                    <a:pt x="0" y="39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3" name="Freeform 32"/>
            <p:cNvSpPr/>
            <p:nvPr/>
          </p:nvSpPr>
          <p:spPr>
            <a:xfrm>
              <a:off x="2802960" y="2190240"/>
              <a:ext cx="608040" cy="268200"/>
            </a:xfrm>
            <a:custGeom>
              <a:avLst/>
              <a:gdLst/>
              <a:ahLst/>
              <a:rect l="l" t="t" r="r" b="b"/>
              <a:pathLst>
                <a:path w="677" h="389">
                  <a:moveTo>
                    <a:pt x="0" y="0"/>
                  </a:moveTo>
                  <a:lnTo>
                    <a:pt x="677" y="38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4" name="Freeform 33"/>
            <p:cNvSpPr/>
            <p:nvPr/>
          </p:nvSpPr>
          <p:spPr>
            <a:xfrm>
              <a:off x="3773160" y="2190240"/>
              <a:ext cx="971640" cy="261360"/>
            </a:xfrm>
            <a:custGeom>
              <a:avLst/>
              <a:gdLst/>
              <a:ahLst/>
              <a:rect l="l" t="t" r="r" b="b"/>
              <a:pathLst>
                <a:path w="1082" h="379">
                  <a:moveTo>
                    <a:pt x="0" y="0"/>
                  </a:moveTo>
                  <a:lnTo>
                    <a:pt x="1082" y="3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5" name="Freeform 34"/>
            <p:cNvSpPr/>
            <p:nvPr/>
          </p:nvSpPr>
          <p:spPr>
            <a:xfrm>
              <a:off x="514440" y="2908440"/>
              <a:ext cx="862200" cy="388440"/>
            </a:xfrm>
            <a:custGeom>
              <a:avLst/>
              <a:gdLst/>
              <a:ahLst/>
              <a:rect l="l" t="t" r="r" b="b"/>
              <a:pathLst>
                <a:path w="960" h="563">
                  <a:moveTo>
                    <a:pt x="0" y="0"/>
                  </a:moveTo>
                  <a:lnTo>
                    <a:pt x="960" y="56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6" name="Freeform 35"/>
            <p:cNvSpPr/>
            <p:nvPr/>
          </p:nvSpPr>
          <p:spPr>
            <a:xfrm>
              <a:off x="1221480" y="2898000"/>
              <a:ext cx="740880" cy="403560"/>
            </a:xfrm>
            <a:custGeom>
              <a:avLst/>
              <a:gdLst/>
              <a:ahLst/>
              <a:rect l="l" t="t" r="r" b="b"/>
              <a:pathLst>
                <a:path w="825" h="585">
                  <a:moveTo>
                    <a:pt x="0" y="0"/>
                  </a:moveTo>
                  <a:lnTo>
                    <a:pt x="825" y="5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7" name="Freeform 36"/>
            <p:cNvSpPr/>
            <p:nvPr/>
          </p:nvSpPr>
          <p:spPr>
            <a:xfrm>
              <a:off x="2272320" y="2891880"/>
              <a:ext cx="1800" cy="415080"/>
            </a:xfrm>
            <a:custGeom>
              <a:avLst/>
              <a:gdLst/>
              <a:ahLst/>
              <a:rect l="l" t="t" r="r" b="b"/>
              <a:pathLst>
                <a:path w="2" h="602">
                  <a:moveTo>
                    <a:pt x="2" y="0"/>
                  </a:moveTo>
                  <a:lnTo>
                    <a:pt x="0" y="60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8" name="Freeform 37"/>
            <p:cNvSpPr/>
            <p:nvPr/>
          </p:nvSpPr>
          <p:spPr>
            <a:xfrm>
              <a:off x="2757600" y="2893320"/>
              <a:ext cx="700200" cy="403560"/>
            </a:xfrm>
            <a:custGeom>
              <a:avLst/>
              <a:gdLst/>
              <a:ahLst/>
              <a:rect l="l" t="t" r="r" b="b"/>
              <a:pathLst>
                <a:path w="780" h="585">
                  <a:moveTo>
                    <a:pt x="780" y="0"/>
                  </a:moveTo>
                  <a:lnTo>
                    <a:pt x="0" y="58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29" name="Freeform 38"/>
            <p:cNvSpPr/>
            <p:nvPr/>
          </p:nvSpPr>
          <p:spPr>
            <a:xfrm>
              <a:off x="3559320" y="2887560"/>
              <a:ext cx="1191960" cy="413640"/>
            </a:xfrm>
            <a:custGeom>
              <a:avLst/>
              <a:gdLst/>
              <a:ahLst/>
              <a:rect l="l" t="t" r="r" b="b"/>
              <a:pathLst>
                <a:path w="1327" h="600">
                  <a:moveTo>
                    <a:pt x="1327" y="0"/>
                  </a:moveTo>
                  <a:lnTo>
                    <a:pt x="0" y="60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0" name="Freeform 39"/>
            <p:cNvSpPr/>
            <p:nvPr/>
          </p:nvSpPr>
          <p:spPr>
            <a:xfrm>
              <a:off x="6009120" y="2208240"/>
              <a:ext cx="655560" cy="855360"/>
            </a:xfrm>
            <a:custGeom>
              <a:avLst/>
              <a:gdLst/>
              <a:ahLst/>
              <a:rect l="l" t="t" r="r" b="b"/>
              <a:pathLst>
                <a:path w="730" h="1240">
                  <a:moveTo>
                    <a:pt x="730" y="0"/>
                  </a:moveTo>
                  <a:lnTo>
                    <a:pt x="0" y="12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1" name="Freeform 40"/>
            <p:cNvSpPr/>
            <p:nvPr/>
          </p:nvSpPr>
          <p:spPr>
            <a:xfrm>
              <a:off x="7338240" y="2208240"/>
              <a:ext cx="754200" cy="855360"/>
            </a:xfrm>
            <a:custGeom>
              <a:avLst/>
              <a:gdLst/>
              <a:ahLst/>
              <a:rect l="l" t="t" r="r" b="b"/>
              <a:pathLst>
                <a:path w="840" h="1240">
                  <a:moveTo>
                    <a:pt x="0" y="0"/>
                  </a:moveTo>
                  <a:lnTo>
                    <a:pt x="840" y="124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2" name="Freeform 41"/>
            <p:cNvSpPr/>
            <p:nvPr/>
          </p:nvSpPr>
          <p:spPr>
            <a:xfrm>
              <a:off x="8190720" y="3510000"/>
              <a:ext cx="1800" cy="415080"/>
            </a:xfrm>
            <a:custGeom>
              <a:avLst/>
              <a:gdLst/>
              <a:ahLst/>
              <a:rect l="l" t="t" r="r" b="b"/>
              <a:pathLst>
                <a:path w="2" h="602">
                  <a:moveTo>
                    <a:pt x="2" y="0"/>
                  </a:moveTo>
                  <a:lnTo>
                    <a:pt x="0" y="60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3" name="Freeform 42"/>
            <p:cNvSpPr/>
            <p:nvPr/>
          </p:nvSpPr>
          <p:spPr>
            <a:xfrm>
              <a:off x="5109120" y="3491280"/>
              <a:ext cx="909000" cy="430920"/>
            </a:xfrm>
            <a:custGeom>
              <a:avLst/>
              <a:gdLst/>
              <a:ahLst/>
              <a:rect l="l" t="t" r="r" b="b"/>
              <a:pathLst>
                <a:path w="1012" h="625">
                  <a:moveTo>
                    <a:pt x="1012" y="0"/>
                  </a:moveTo>
                  <a:lnTo>
                    <a:pt x="0" y="6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34" name="Freeform 43"/>
            <p:cNvSpPr/>
            <p:nvPr/>
          </p:nvSpPr>
          <p:spPr>
            <a:xfrm>
              <a:off x="6332400" y="3498120"/>
              <a:ext cx="1161360" cy="424080"/>
            </a:xfrm>
            <a:custGeom>
              <a:avLst/>
              <a:gdLst/>
              <a:ahLst/>
              <a:rect l="l" t="t" r="r" b="b"/>
              <a:pathLst>
                <a:path w="1293" h="615">
                  <a:moveTo>
                    <a:pt x="0" y="0"/>
                  </a:moveTo>
                  <a:lnTo>
                    <a:pt x="1293" y="61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6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FCEE-D222-4380-8EEC-B066C88AE46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6" name="AutoShape 4"/>
          <p:cNvSpPr/>
          <p:nvPr/>
        </p:nvSpPr>
        <p:spPr>
          <a:xfrm>
            <a:off x="5076720" y="1376280"/>
            <a:ext cx="3670560" cy="68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нешняя оценк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сударственные службы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4281480" y="2446200"/>
            <a:ext cx="215892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ccff99">
                  <a:alpha val="98039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аккредитация ОУ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аттестация кадров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6800760" y="2446200"/>
            <a:ext cx="2158920" cy="6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ониторинг системы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5435640" y="2276640"/>
            <a:ext cx="2663640" cy="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0" name="Line 8"/>
          <p:cNvSpPr/>
          <p:nvPr/>
        </p:nvSpPr>
        <p:spPr>
          <a:xfrm>
            <a:off x="6767640" y="2023920"/>
            <a:ext cx="0" cy="252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5435640" y="2276640"/>
            <a:ext cx="0" cy="180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8101080" y="2276640"/>
            <a:ext cx="0" cy="180720"/>
          </a:xfrm>
          <a:prstGeom prst="line">
            <a:avLst/>
          </a:prstGeom>
          <a:ln w="30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3" name="Rectangle 15"/>
          <p:cNvSpPr/>
          <p:nvPr/>
        </p:nvSpPr>
        <p:spPr>
          <a:xfrm>
            <a:off x="3276720" y="4930920"/>
            <a:ext cx="2447640" cy="173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ые работы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щита проек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4" name="AutoShape 16"/>
          <p:cNvSpPr/>
          <p:nvPr/>
        </p:nvSpPr>
        <p:spPr>
          <a:xfrm>
            <a:off x="1224000" y="3321000"/>
            <a:ext cx="1871640" cy="3203640"/>
          </a:xfrm>
          <a:custGeom>
            <a:avLst/>
            <a:gdLst>
              <a:gd name="textAreaLeft" fmla="*/ 91080 w 1871640"/>
              <a:gd name="textAreaRight" fmla="*/ 1780560 w 1871640"/>
              <a:gd name="textAreaTop" fmla="*/ 91080 h 3203640"/>
              <a:gd name="textAreaBottom" fmla="*/ 3112560 h 3203640"/>
            </a:gdLst>
            <a:ahLst/>
            <a:rect l="textAreaLeft" t="textAreaTop" r="textAreaRight" b="textAreaBottom"/>
            <a:pathLst>
              <a:path w="21600" h="36969">
                <a:moveTo>
                  <a:pt x="3600" y="0"/>
                </a:moveTo>
                <a:arcTo wR="3600" hR="3600" stAng="16200000" swAng="-5400000"/>
                <a:lnTo>
                  <a:pt x="0" y="33369"/>
                </a:lnTo>
                <a:arcTo wR="3600" hR="3600" stAng="10800000" swAng="-5400000"/>
                <a:lnTo>
                  <a:pt x="18000" y="369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f6e4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а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ценк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4103640" y="4257720"/>
            <a:ext cx="86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3311640" y="3284640"/>
            <a:ext cx="24476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копленная оцен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7" name="AutoShape 19"/>
          <p:cNvSpPr/>
          <p:nvPr/>
        </p:nvSpPr>
        <p:spPr>
          <a:xfrm rot="16200000">
            <a:off x="6912000" y="4113360"/>
            <a:ext cx="1836720" cy="468000"/>
          </a:xfrm>
          <a:custGeom>
            <a:avLst/>
            <a:gdLst>
              <a:gd name="textAreaLeft" fmla="*/ 286920 w 1836720"/>
              <a:gd name="textAreaRight" fmla="*/ 1607400 w 183672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8" name="AutoShape 22"/>
          <p:cNvSpPr/>
          <p:nvPr/>
        </p:nvSpPr>
        <p:spPr>
          <a:xfrm rot="10800000">
            <a:off x="6479640" y="2528640"/>
            <a:ext cx="397080" cy="468360"/>
          </a:xfrm>
          <a:custGeom>
            <a:avLst/>
            <a:gdLst>
              <a:gd name="textAreaLeft" fmla="*/ 61920 w 397080"/>
              <a:gd name="textAreaRight" fmla="*/ 347760 w 397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9" name="AutoShape 23"/>
          <p:cNvSpPr/>
          <p:nvPr/>
        </p:nvSpPr>
        <p:spPr>
          <a:xfrm rot="16200000">
            <a:off x="4662360" y="2979360"/>
            <a:ext cx="360360" cy="468360"/>
          </a:xfrm>
          <a:custGeom>
            <a:avLst/>
            <a:gdLst>
              <a:gd name="textAreaLeft" fmla="*/ 56160 w 360360"/>
              <a:gd name="textAreaRight" fmla="*/ 315360 w 3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2627280" y="2421000"/>
            <a:ext cx="1368360" cy="468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dddddd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1" name="AutoShape 25"/>
          <p:cNvSpPr/>
          <p:nvPr/>
        </p:nvSpPr>
        <p:spPr>
          <a:xfrm>
            <a:off x="395280" y="1952640"/>
            <a:ext cx="2087640" cy="11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>
                  <a:alpha val="27058"/>
                </a:srgbClr>
              </a:gs>
              <a:gs pos="100000">
                <a:srgbClr val="ffffff">
                  <a:alpha val="67058"/>
                </a:srgbClr>
              </a:gs>
            </a:gsLst>
            <a:lin ang="2700000"/>
          </a:gra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Необходимы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дополнительны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данные/исслед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2" name="Rectangle 15"/>
          <p:cNvSpPr/>
          <p:nvPr/>
        </p:nvSpPr>
        <p:spPr>
          <a:xfrm>
            <a:off x="7020000" y="5624640"/>
            <a:ext cx="1871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3" name="Rectangle 17"/>
          <p:cNvSpPr/>
          <p:nvPr/>
        </p:nvSpPr>
        <p:spPr>
          <a:xfrm>
            <a:off x="5904000" y="5589720"/>
            <a:ext cx="865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4" name="Прямоугольник 1"/>
          <p:cNvSpPr/>
          <p:nvPr/>
        </p:nvSpPr>
        <p:spPr>
          <a:xfrm>
            <a:off x="500040" y="285840"/>
            <a:ext cx="820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Итоговая оценка (основная школа)</a:t>
            </a: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468360" y="1773000"/>
            <a:ext cx="8207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Предметом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итоговой оценки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 освоения учащимися основной образовательной программы  является достижение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предметных и метапредметных результатов 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освоения основной образовательной программы.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При итоговом оценивании должны учитываться сформированность умений выполнения </a:t>
            </a:r>
            <a:r>
              <a:rPr b="1" lang="ru-RU" sz="2800" spc="-1" strike="noStrike">
                <a:solidFill>
                  <a:srgbClr val="00b050"/>
                </a:solidFill>
                <a:latin typeface="Candara"/>
              </a:rPr>
              <a:t>проектной деятельности и способность к решению учебно-практических и учебно-познавательных задач</a:t>
            </a:r>
            <a:r>
              <a:rPr b="1" lang="ru-RU" sz="2800" spc="-1" strike="noStrike">
                <a:solidFill>
                  <a:srgbClr val="073e87"/>
                </a:solidFill>
                <a:latin typeface="Candara"/>
              </a:rPr>
              <a:t>. 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Итоговая оце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Оценка достижения предметных результатов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7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ndara"/>
              </a:rPr>
              <a:t>Индивидуальная оценка обучающихся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ВШК, аккредитация, итоговая оценка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Оценивается блок </a:t>
            </a:r>
            <a:r>
              <a:rPr b="1" lang="ru-RU" sz="2200" spc="-1" strike="noStrike">
                <a:solidFill>
                  <a:srgbClr val="c00000"/>
                </a:solidFill>
                <a:latin typeface="Candara"/>
              </a:rPr>
              <a:t>«Выпускник научится»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Задания базового и повышенного уровней сложност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ГИА  (аттестация + отбор в профильные классы) – добавляются задания высокого уровня сложност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ndara"/>
              </a:rPr>
              <a:t>Оценка качества образования в группе ОУ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Мониторинговые исследования на муниципальном, региональном, федеральном уровне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Оцениваются блоки </a:t>
            </a:r>
            <a:r>
              <a:rPr b="1" lang="ru-RU" sz="2200" spc="-1" strike="noStrike">
                <a:solidFill>
                  <a:srgbClr val="c00000"/>
                </a:solidFill>
                <a:latin typeface="Candara"/>
              </a:rPr>
              <a:t>«Выпускник научится» и «Выпускник получит возможность научиться»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57960">
              <a:spcBef>
                <a:spcPts val="550"/>
              </a:spcBef>
              <a:buClr>
                <a:srgbClr val="31b6f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Задания базового, повышенного и высокого уровней сложност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630-8A62-4915-A90F-B3BDB1B3356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285840" y="157176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Достижение метапредметных результатов  – освоение </a:t>
            </a:r>
            <a:r>
              <a:rPr b="1" lang="ru-RU" sz="2200" spc="-1" strike="noStrike">
                <a:solidFill>
                  <a:srgbClr val="ff0000"/>
                </a:solidFill>
                <a:latin typeface="Candara"/>
              </a:rPr>
              <a:t>межпредметных понятий и овладение УУД</a:t>
            </a:r>
            <a:r>
              <a:rPr b="1" lang="ru-RU" sz="2200" spc="-1" strike="noStrike">
                <a:solidFill>
                  <a:srgbClr val="ffc000"/>
                </a:solidFill>
                <a:latin typeface="Candara"/>
              </a:rPr>
              <a:t>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(познавательные, коммуникативные и регулятивные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Виды диагности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ndara"/>
              </a:rPr>
              <a:t>ОЦЕНКА ПО РЕЗУЛЬТАТАМ ВЫПОЛНЕНИЯ ЗАДАНИЯ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ndara"/>
              </a:rPr>
              <a:t>Грамотность чтения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ознавательные УУД: чтение, работа с информацией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общелогические умения, методологические умения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ndara"/>
              </a:rPr>
              <a:t>ОЦЕНКА В ПРОЦЕССЕ ВЫПОЛНЕНИЯ ЗАДАНИЯ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Коммуникативные и регулятивные УУД – проектная деятельность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ndara"/>
              </a:rPr>
              <a:t>Диагностика метапредметных результатов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213840"/>
            <a:ext cx="86868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ndara"/>
              </a:rPr>
              <a:t>Основные показатели, выявляемые в рамках индивидуальной оценки и мониторинговых исследований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3" name="Номер слайда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63BE-C6ED-4ED4-B7B8-86C8D8235BD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4" name="Прямоугольник 3"/>
          <p:cNvSpPr/>
          <p:nvPr/>
        </p:nvSpPr>
        <p:spPr>
          <a:xfrm>
            <a:off x="500040" y="1643040"/>
            <a:ext cx="83170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82680">
              <a:buClr>
                <a:srgbClr val="00b05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ndara"/>
              </a:rPr>
              <a:t>Успешность освоения учебной программы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(в 100-балльной шкале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0b05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ndara"/>
              </a:rPr>
              <a:t>Достижение базового уровн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выполнение не менее 65% заданий базового уровня (50%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73e87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ровень достижений (исходя из % выполнения заданий базового и повышенного уровня)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едостаточный (низкий),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ониженный,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базовый,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овышенный,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73e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высокий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marL="447840" indent="-382680">
              <a:buClr>
                <a:srgbClr val="00b05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ndara"/>
              </a:rPr>
              <a:t>Успешность развития 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- соотношение между освоением блока ПР «Выпускник научится» и «Выпускник получит возможность научиться»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6156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666" name="Picture 10" descr="Картинка 156 из 2872"/>
          <p:cNvPicPr/>
          <p:nvPr/>
        </p:nvPicPr>
        <p:blipFill>
          <a:blip r:embed="rId1"/>
          <a:stretch/>
        </p:blipFill>
        <p:spPr>
          <a:xfrm>
            <a:off x="5030640" y="1860480"/>
            <a:ext cx="1729080" cy="1359000"/>
          </a:xfrm>
          <a:prstGeom prst="rect">
            <a:avLst/>
          </a:prstGeom>
          <a:ln w="0">
            <a:noFill/>
          </a:ln>
        </p:spPr>
      </p:pic>
      <p:sp>
        <p:nvSpPr>
          <p:cNvPr id="667" name="server"/>
          <p:cNvSpPr/>
          <p:nvPr/>
        </p:nvSpPr>
        <p:spPr>
          <a:xfrm>
            <a:off x="7812000" y="5178600"/>
            <a:ext cx="933480" cy="1209600"/>
          </a:xfrm>
          <a:custGeom>
            <a:avLst/>
            <a:gdLst>
              <a:gd name="textAreaLeft" fmla="*/ 32760 w 933480"/>
              <a:gd name="textAreaRight" fmla="*/ 910800 w 933480"/>
              <a:gd name="textAreaTop" fmla="*/ 1257480 h 1209600"/>
              <a:gd name="textAreaBottom" fmla="*/ 1584000 h 12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  <a:path w="21600" h="21600">
                <a:moveTo>
                  <a:pt x="1662" y="1709"/>
                </a:moveTo>
                <a:lnTo>
                  <a:pt x="9046" y="1709"/>
                </a:lnTo>
                <a:lnTo>
                  <a:pt x="9046" y="2331"/>
                </a:lnTo>
                <a:lnTo>
                  <a:pt x="1662" y="2331"/>
                </a:lnTo>
                <a:lnTo>
                  <a:pt x="1662" y="1709"/>
                </a:lnTo>
                <a:moveTo>
                  <a:pt x="0" y="4351"/>
                </a:moveTo>
                <a:lnTo>
                  <a:pt x="10892" y="4351"/>
                </a:lnTo>
                <a:lnTo>
                  <a:pt x="10892" y="14141"/>
                </a:lnTo>
                <a:lnTo>
                  <a:pt x="21600" y="14141"/>
                </a:lnTo>
                <a:moveTo>
                  <a:pt x="11631" y="1243"/>
                </a:moveTo>
                <a:lnTo>
                  <a:pt x="20492" y="1243"/>
                </a:lnTo>
                <a:lnTo>
                  <a:pt x="20492" y="1554"/>
                </a:lnTo>
                <a:lnTo>
                  <a:pt x="11631" y="1554"/>
                </a:lnTo>
                <a:lnTo>
                  <a:pt x="11631" y="1243"/>
                </a:lnTo>
                <a:moveTo>
                  <a:pt x="11631" y="3263"/>
                </a:moveTo>
                <a:lnTo>
                  <a:pt x="20492" y="3263"/>
                </a:lnTo>
                <a:lnTo>
                  <a:pt x="20492" y="3574"/>
                </a:lnTo>
                <a:lnTo>
                  <a:pt x="11631" y="3574"/>
                </a:lnTo>
                <a:lnTo>
                  <a:pt x="11631" y="3263"/>
                </a:lnTo>
                <a:moveTo>
                  <a:pt x="11631" y="6060"/>
                </a:moveTo>
                <a:lnTo>
                  <a:pt x="20492" y="6060"/>
                </a:lnTo>
                <a:lnTo>
                  <a:pt x="20492" y="6371"/>
                </a:lnTo>
                <a:lnTo>
                  <a:pt x="11631" y="6371"/>
                </a:lnTo>
                <a:lnTo>
                  <a:pt x="11631" y="6060"/>
                </a:lnTo>
                <a:moveTo>
                  <a:pt x="11631" y="8081"/>
                </a:moveTo>
                <a:lnTo>
                  <a:pt x="20308" y="8081"/>
                </a:lnTo>
                <a:lnTo>
                  <a:pt x="20308" y="8391"/>
                </a:lnTo>
                <a:lnTo>
                  <a:pt x="11631" y="8391"/>
                </a:lnTo>
                <a:lnTo>
                  <a:pt x="11631" y="8081"/>
                </a:lnTo>
                <a:moveTo>
                  <a:pt x="11631" y="4196"/>
                </a:moveTo>
                <a:lnTo>
                  <a:pt x="12369" y="4196"/>
                </a:lnTo>
                <a:lnTo>
                  <a:pt x="12369" y="4817"/>
                </a:lnTo>
                <a:lnTo>
                  <a:pt x="11631" y="4817"/>
                </a:lnTo>
                <a:lnTo>
                  <a:pt x="11631" y="4196"/>
                </a:lnTo>
                <a:moveTo>
                  <a:pt x="14400" y="4196"/>
                </a:moveTo>
                <a:lnTo>
                  <a:pt x="15138" y="4196"/>
                </a:lnTo>
                <a:lnTo>
                  <a:pt x="15138" y="4817"/>
                </a:lnTo>
                <a:lnTo>
                  <a:pt x="14400" y="4817"/>
                </a:lnTo>
                <a:lnTo>
                  <a:pt x="14400" y="4196"/>
                </a:lnTo>
                <a:moveTo>
                  <a:pt x="16985" y="4196"/>
                </a:moveTo>
                <a:lnTo>
                  <a:pt x="17723" y="4196"/>
                </a:lnTo>
                <a:lnTo>
                  <a:pt x="17723" y="4817"/>
                </a:lnTo>
                <a:lnTo>
                  <a:pt x="16985" y="4817"/>
                </a:lnTo>
                <a:lnTo>
                  <a:pt x="16985" y="4196"/>
                </a:lnTo>
                <a:moveTo>
                  <a:pt x="19754" y="4196"/>
                </a:moveTo>
                <a:lnTo>
                  <a:pt x="20492" y="4196"/>
                </a:lnTo>
                <a:lnTo>
                  <a:pt x="20492" y="4817"/>
                </a:lnTo>
                <a:lnTo>
                  <a:pt x="19754" y="4817"/>
                </a:lnTo>
                <a:lnTo>
                  <a:pt x="19754" y="4196"/>
                </a:lnTo>
                <a:moveTo>
                  <a:pt x="11631" y="9635"/>
                </a:moveTo>
                <a:lnTo>
                  <a:pt x="12369" y="9635"/>
                </a:lnTo>
                <a:lnTo>
                  <a:pt x="12369" y="10256"/>
                </a:lnTo>
                <a:lnTo>
                  <a:pt x="11631" y="10256"/>
                </a:lnTo>
                <a:lnTo>
                  <a:pt x="11631" y="9635"/>
                </a:lnTo>
                <a:moveTo>
                  <a:pt x="14400" y="9635"/>
                </a:moveTo>
                <a:lnTo>
                  <a:pt x="15138" y="9635"/>
                </a:lnTo>
                <a:lnTo>
                  <a:pt x="15138" y="10256"/>
                </a:lnTo>
                <a:lnTo>
                  <a:pt x="14400" y="10256"/>
                </a:lnTo>
                <a:lnTo>
                  <a:pt x="14400" y="9635"/>
                </a:lnTo>
                <a:moveTo>
                  <a:pt x="16985" y="9635"/>
                </a:moveTo>
                <a:lnTo>
                  <a:pt x="17723" y="9635"/>
                </a:lnTo>
                <a:lnTo>
                  <a:pt x="17723" y="10256"/>
                </a:lnTo>
                <a:lnTo>
                  <a:pt x="16985" y="10256"/>
                </a:lnTo>
                <a:lnTo>
                  <a:pt x="16985" y="9635"/>
                </a:lnTo>
                <a:moveTo>
                  <a:pt x="19754" y="9635"/>
                </a:moveTo>
                <a:lnTo>
                  <a:pt x="20492" y="9635"/>
                </a:lnTo>
                <a:lnTo>
                  <a:pt x="20492" y="10256"/>
                </a:lnTo>
                <a:lnTo>
                  <a:pt x="19754" y="10256"/>
                </a:lnTo>
                <a:lnTo>
                  <a:pt x="19754" y="9635"/>
                </a:lnTo>
                <a:moveTo>
                  <a:pt x="10892" y="14141"/>
                </a:moveTo>
                <a:lnTo>
                  <a:pt x="10892" y="15384"/>
                </a:lnTo>
                <a:lnTo>
                  <a:pt x="10892" y="20046"/>
                </a:lnTo>
                <a:lnTo>
                  <a:pt x="10892" y="21600"/>
                </a:lnTo>
                <a:lnTo>
                  <a:pt x="10892" y="14141"/>
                </a:lnTo>
                <a:moveTo>
                  <a:pt x="10892" y="4351"/>
                </a:moveTo>
                <a:lnTo>
                  <a:pt x="10892" y="3574"/>
                </a:lnTo>
                <a:lnTo>
                  <a:pt x="10892" y="932"/>
                </a:lnTo>
                <a:lnTo>
                  <a:pt x="10892" y="0"/>
                </a:lnTo>
                <a:lnTo>
                  <a:pt x="10892" y="4351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229520" y="3395520"/>
            <a:ext cx="18432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арта наблюдений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9" name="server"/>
          <p:cNvSpPr/>
          <p:nvPr/>
        </p:nvSpPr>
        <p:spPr>
          <a:xfrm>
            <a:off x="7651800" y="5356080"/>
            <a:ext cx="933480" cy="1094040"/>
          </a:xfrm>
          <a:custGeom>
            <a:avLst/>
            <a:gdLst>
              <a:gd name="textAreaLeft" fmla="*/ 32760 w 933480"/>
              <a:gd name="textAreaRight" fmla="*/ 910800 w 933480"/>
              <a:gd name="textAreaTop" fmla="*/ 1137600 h 1094040"/>
              <a:gd name="textAreaBottom" fmla="*/ 14328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  <a:path w="21600" h="21600">
                <a:moveTo>
                  <a:pt x="1662" y="1709"/>
                </a:moveTo>
                <a:lnTo>
                  <a:pt x="9046" y="1709"/>
                </a:lnTo>
                <a:lnTo>
                  <a:pt x="9046" y="2331"/>
                </a:lnTo>
                <a:lnTo>
                  <a:pt x="1662" y="2331"/>
                </a:lnTo>
                <a:lnTo>
                  <a:pt x="1662" y="1709"/>
                </a:lnTo>
                <a:moveTo>
                  <a:pt x="0" y="4351"/>
                </a:moveTo>
                <a:lnTo>
                  <a:pt x="10892" y="4351"/>
                </a:lnTo>
                <a:lnTo>
                  <a:pt x="10892" y="14141"/>
                </a:lnTo>
                <a:lnTo>
                  <a:pt x="21600" y="14141"/>
                </a:lnTo>
                <a:moveTo>
                  <a:pt x="11631" y="1243"/>
                </a:moveTo>
                <a:lnTo>
                  <a:pt x="20492" y="1243"/>
                </a:lnTo>
                <a:lnTo>
                  <a:pt x="20492" y="1554"/>
                </a:lnTo>
                <a:lnTo>
                  <a:pt x="11631" y="1554"/>
                </a:lnTo>
                <a:lnTo>
                  <a:pt x="11631" y="1243"/>
                </a:lnTo>
                <a:moveTo>
                  <a:pt x="11631" y="3263"/>
                </a:moveTo>
                <a:lnTo>
                  <a:pt x="20492" y="3263"/>
                </a:lnTo>
                <a:lnTo>
                  <a:pt x="20492" y="3574"/>
                </a:lnTo>
                <a:lnTo>
                  <a:pt x="11631" y="3574"/>
                </a:lnTo>
                <a:lnTo>
                  <a:pt x="11631" y="3263"/>
                </a:lnTo>
                <a:moveTo>
                  <a:pt x="11631" y="6060"/>
                </a:moveTo>
                <a:lnTo>
                  <a:pt x="20492" y="6060"/>
                </a:lnTo>
                <a:lnTo>
                  <a:pt x="20492" y="6371"/>
                </a:lnTo>
                <a:lnTo>
                  <a:pt x="11631" y="6371"/>
                </a:lnTo>
                <a:lnTo>
                  <a:pt x="11631" y="6060"/>
                </a:lnTo>
                <a:moveTo>
                  <a:pt x="11631" y="8081"/>
                </a:moveTo>
                <a:lnTo>
                  <a:pt x="20308" y="8081"/>
                </a:lnTo>
                <a:lnTo>
                  <a:pt x="20308" y="8391"/>
                </a:lnTo>
                <a:lnTo>
                  <a:pt x="11631" y="8391"/>
                </a:lnTo>
                <a:lnTo>
                  <a:pt x="11631" y="8081"/>
                </a:lnTo>
                <a:moveTo>
                  <a:pt x="11631" y="4196"/>
                </a:moveTo>
                <a:lnTo>
                  <a:pt x="12369" y="4196"/>
                </a:lnTo>
                <a:lnTo>
                  <a:pt x="12369" y="4817"/>
                </a:lnTo>
                <a:lnTo>
                  <a:pt x="11631" y="4817"/>
                </a:lnTo>
                <a:lnTo>
                  <a:pt x="11631" y="4196"/>
                </a:lnTo>
                <a:moveTo>
                  <a:pt x="14400" y="4196"/>
                </a:moveTo>
                <a:lnTo>
                  <a:pt x="15138" y="4196"/>
                </a:lnTo>
                <a:lnTo>
                  <a:pt x="15138" y="4817"/>
                </a:lnTo>
                <a:lnTo>
                  <a:pt x="14400" y="4817"/>
                </a:lnTo>
                <a:lnTo>
                  <a:pt x="14400" y="4196"/>
                </a:lnTo>
                <a:moveTo>
                  <a:pt x="16985" y="4196"/>
                </a:moveTo>
                <a:lnTo>
                  <a:pt x="17723" y="4196"/>
                </a:lnTo>
                <a:lnTo>
                  <a:pt x="17723" y="4817"/>
                </a:lnTo>
                <a:lnTo>
                  <a:pt x="16985" y="4817"/>
                </a:lnTo>
                <a:lnTo>
                  <a:pt x="16985" y="4196"/>
                </a:lnTo>
                <a:moveTo>
                  <a:pt x="19754" y="4196"/>
                </a:moveTo>
                <a:lnTo>
                  <a:pt x="20492" y="4196"/>
                </a:lnTo>
                <a:lnTo>
                  <a:pt x="20492" y="4817"/>
                </a:lnTo>
                <a:lnTo>
                  <a:pt x="19754" y="4817"/>
                </a:lnTo>
                <a:lnTo>
                  <a:pt x="19754" y="4196"/>
                </a:lnTo>
                <a:moveTo>
                  <a:pt x="11631" y="9635"/>
                </a:moveTo>
                <a:lnTo>
                  <a:pt x="12369" y="9635"/>
                </a:lnTo>
                <a:lnTo>
                  <a:pt x="12369" y="10256"/>
                </a:lnTo>
                <a:lnTo>
                  <a:pt x="11631" y="10256"/>
                </a:lnTo>
                <a:lnTo>
                  <a:pt x="11631" y="9635"/>
                </a:lnTo>
                <a:moveTo>
                  <a:pt x="14400" y="9635"/>
                </a:moveTo>
                <a:lnTo>
                  <a:pt x="15138" y="9635"/>
                </a:lnTo>
                <a:lnTo>
                  <a:pt x="15138" y="10256"/>
                </a:lnTo>
                <a:lnTo>
                  <a:pt x="14400" y="10256"/>
                </a:lnTo>
                <a:lnTo>
                  <a:pt x="14400" y="9635"/>
                </a:lnTo>
                <a:moveTo>
                  <a:pt x="16985" y="9635"/>
                </a:moveTo>
                <a:lnTo>
                  <a:pt x="17723" y="9635"/>
                </a:lnTo>
                <a:lnTo>
                  <a:pt x="17723" y="10256"/>
                </a:lnTo>
                <a:lnTo>
                  <a:pt x="16985" y="10256"/>
                </a:lnTo>
                <a:lnTo>
                  <a:pt x="16985" y="9635"/>
                </a:lnTo>
                <a:moveTo>
                  <a:pt x="19754" y="9635"/>
                </a:moveTo>
                <a:lnTo>
                  <a:pt x="20492" y="9635"/>
                </a:lnTo>
                <a:lnTo>
                  <a:pt x="20492" y="10256"/>
                </a:lnTo>
                <a:lnTo>
                  <a:pt x="19754" y="10256"/>
                </a:lnTo>
                <a:lnTo>
                  <a:pt x="19754" y="9635"/>
                </a:lnTo>
                <a:moveTo>
                  <a:pt x="10892" y="14141"/>
                </a:moveTo>
                <a:lnTo>
                  <a:pt x="10892" y="15384"/>
                </a:lnTo>
                <a:lnTo>
                  <a:pt x="10892" y="20046"/>
                </a:lnTo>
                <a:lnTo>
                  <a:pt x="10892" y="21600"/>
                </a:lnTo>
                <a:lnTo>
                  <a:pt x="10892" y="14141"/>
                </a:lnTo>
                <a:moveTo>
                  <a:pt x="10892" y="4351"/>
                </a:moveTo>
                <a:lnTo>
                  <a:pt x="10892" y="3574"/>
                </a:lnTo>
                <a:lnTo>
                  <a:pt x="10892" y="932"/>
                </a:lnTo>
                <a:lnTo>
                  <a:pt x="10892" y="0"/>
                </a:lnTo>
                <a:lnTo>
                  <a:pt x="10892" y="4351"/>
                </a:lnTo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2432160" y="4421160"/>
            <a:ext cx="2200320" cy="751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ст планирова-ния и продвиже-ния по заданию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2441520" y="3683160"/>
            <a:ext cx="221472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резентация или иные материалы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2441520" y="5270400"/>
            <a:ext cx="26589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сты самооценк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3" name="server"/>
          <p:cNvSpPr/>
          <p:nvPr/>
        </p:nvSpPr>
        <p:spPr>
          <a:xfrm>
            <a:off x="7524720" y="5546880"/>
            <a:ext cx="933480" cy="1096920"/>
          </a:xfrm>
          <a:custGeom>
            <a:avLst/>
            <a:gdLst>
              <a:gd name="textAreaLeft" fmla="*/ 32760 w 933480"/>
              <a:gd name="textAreaRight" fmla="*/ 910800 w 933480"/>
              <a:gd name="textAreaTop" fmla="*/ 1140480 h 1096920"/>
              <a:gd name="textAreaBottom" fmla="*/ 1436400 h 10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  <a:path w="21600" h="21600">
                <a:moveTo>
                  <a:pt x="1662" y="1709"/>
                </a:moveTo>
                <a:lnTo>
                  <a:pt x="9046" y="1709"/>
                </a:lnTo>
                <a:lnTo>
                  <a:pt x="9046" y="2331"/>
                </a:lnTo>
                <a:lnTo>
                  <a:pt x="1662" y="2331"/>
                </a:lnTo>
                <a:lnTo>
                  <a:pt x="1662" y="1709"/>
                </a:lnTo>
                <a:moveTo>
                  <a:pt x="0" y="4351"/>
                </a:moveTo>
                <a:lnTo>
                  <a:pt x="10892" y="4351"/>
                </a:lnTo>
                <a:lnTo>
                  <a:pt x="10892" y="14141"/>
                </a:lnTo>
                <a:lnTo>
                  <a:pt x="21600" y="14141"/>
                </a:lnTo>
                <a:moveTo>
                  <a:pt x="11631" y="1243"/>
                </a:moveTo>
                <a:lnTo>
                  <a:pt x="20492" y="1243"/>
                </a:lnTo>
                <a:lnTo>
                  <a:pt x="20492" y="1554"/>
                </a:lnTo>
                <a:lnTo>
                  <a:pt x="11631" y="1554"/>
                </a:lnTo>
                <a:lnTo>
                  <a:pt x="11631" y="1243"/>
                </a:lnTo>
                <a:moveTo>
                  <a:pt x="11631" y="3263"/>
                </a:moveTo>
                <a:lnTo>
                  <a:pt x="20492" y="3263"/>
                </a:lnTo>
                <a:lnTo>
                  <a:pt x="20492" y="3574"/>
                </a:lnTo>
                <a:lnTo>
                  <a:pt x="11631" y="3574"/>
                </a:lnTo>
                <a:lnTo>
                  <a:pt x="11631" y="3263"/>
                </a:lnTo>
                <a:moveTo>
                  <a:pt x="11631" y="6060"/>
                </a:moveTo>
                <a:lnTo>
                  <a:pt x="20492" y="6060"/>
                </a:lnTo>
                <a:lnTo>
                  <a:pt x="20492" y="6371"/>
                </a:lnTo>
                <a:lnTo>
                  <a:pt x="11631" y="6371"/>
                </a:lnTo>
                <a:lnTo>
                  <a:pt x="11631" y="6060"/>
                </a:lnTo>
                <a:moveTo>
                  <a:pt x="11631" y="8081"/>
                </a:moveTo>
                <a:lnTo>
                  <a:pt x="20308" y="8081"/>
                </a:lnTo>
                <a:lnTo>
                  <a:pt x="20308" y="8391"/>
                </a:lnTo>
                <a:lnTo>
                  <a:pt x="11631" y="8391"/>
                </a:lnTo>
                <a:lnTo>
                  <a:pt x="11631" y="8081"/>
                </a:lnTo>
                <a:moveTo>
                  <a:pt x="11631" y="4196"/>
                </a:moveTo>
                <a:lnTo>
                  <a:pt x="12369" y="4196"/>
                </a:lnTo>
                <a:lnTo>
                  <a:pt x="12369" y="4817"/>
                </a:lnTo>
                <a:lnTo>
                  <a:pt x="11631" y="4817"/>
                </a:lnTo>
                <a:lnTo>
                  <a:pt x="11631" y="4196"/>
                </a:lnTo>
                <a:moveTo>
                  <a:pt x="14400" y="4196"/>
                </a:moveTo>
                <a:lnTo>
                  <a:pt x="15138" y="4196"/>
                </a:lnTo>
                <a:lnTo>
                  <a:pt x="15138" y="4817"/>
                </a:lnTo>
                <a:lnTo>
                  <a:pt x="14400" y="4817"/>
                </a:lnTo>
                <a:lnTo>
                  <a:pt x="14400" y="4196"/>
                </a:lnTo>
                <a:moveTo>
                  <a:pt x="16985" y="4196"/>
                </a:moveTo>
                <a:lnTo>
                  <a:pt x="17723" y="4196"/>
                </a:lnTo>
                <a:lnTo>
                  <a:pt x="17723" y="4817"/>
                </a:lnTo>
                <a:lnTo>
                  <a:pt x="16985" y="4817"/>
                </a:lnTo>
                <a:lnTo>
                  <a:pt x="16985" y="4196"/>
                </a:lnTo>
                <a:moveTo>
                  <a:pt x="19754" y="4196"/>
                </a:moveTo>
                <a:lnTo>
                  <a:pt x="20492" y="4196"/>
                </a:lnTo>
                <a:lnTo>
                  <a:pt x="20492" y="4817"/>
                </a:lnTo>
                <a:lnTo>
                  <a:pt x="19754" y="4817"/>
                </a:lnTo>
                <a:lnTo>
                  <a:pt x="19754" y="4196"/>
                </a:lnTo>
                <a:moveTo>
                  <a:pt x="11631" y="9635"/>
                </a:moveTo>
                <a:lnTo>
                  <a:pt x="12369" y="9635"/>
                </a:lnTo>
                <a:lnTo>
                  <a:pt x="12369" y="10256"/>
                </a:lnTo>
                <a:lnTo>
                  <a:pt x="11631" y="10256"/>
                </a:lnTo>
                <a:lnTo>
                  <a:pt x="11631" y="9635"/>
                </a:lnTo>
                <a:moveTo>
                  <a:pt x="14400" y="9635"/>
                </a:moveTo>
                <a:lnTo>
                  <a:pt x="15138" y="9635"/>
                </a:lnTo>
                <a:lnTo>
                  <a:pt x="15138" y="10256"/>
                </a:lnTo>
                <a:lnTo>
                  <a:pt x="14400" y="10256"/>
                </a:lnTo>
                <a:lnTo>
                  <a:pt x="14400" y="9635"/>
                </a:lnTo>
                <a:moveTo>
                  <a:pt x="16985" y="9635"/>
                </a:moveTo>
                <a:lnTo>
                  <a:pt x="17723" y="9635"/>
                </a:lnTo>
                <a:lnTo>
                  <a:pt x="17723" y="10256"/>
                </a:lnTo>
                <a:lnTo>
                  <a:pt x="16985" y="10256"/>
                </a:lnTo>
                <a:lnTo>
                  <a:pt x="16985" y="9635"/>
                </a:lnTo>
                <a:moveTo>
                  <a:pt x="19754" y="9635"/>
                </a:moveTo>
                <a:lnTo>
                  <a:pt x="20492" y="9635"/>
                </a:lnTo>
                <a:lnTo>
                  <a:pt x="20492" y="10256"/>
                </a:lnTo>
                <a:lnTo>
                  <a:pt x="19754" y="10256"/>
                </a:lnTo>
                <a:lnTo>
                  <a:pt x="19754" y="9635"/>
                </a:lnTo>
                <a:moveTo>
                  <a:pt x="10892" y="14141"/>
                </a:moveTo>
                <a:lnTo>
                  <a:pt x="10892" y="15384"/>
                </a:lnTo>
                <a:lnTo>
                  <a:pt x="10892" y="20046"/>
                </a:lnTo>
                <a:lnTo>
                  <a:pt x="10892" y="21600"/>
                </a:lnTo>
                <a:lnTo>
                  <a:pt x="10892" y="14141"/>
                </a:lnTo>
                <a:moveTo>
                  <a:pt x="10892" y="4351"/>
                </a:moveTo>
                <a:lnTo>
                  <a:pt x="10892" y="3574"/>
                </a:lnTo>
                <a:lnTo>
                  <a:pt x="10892" y="932"/>
                </a:lnTo>
                <a:lnTo>
                  <a:pt x="10892" y="0"/>
                </a:lnTo>
                <a:lnTo>
                  <a:pt x="10892" y="4351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674" name="Group 15"/>
          <p:cNvGrpSpPr/>
          <p:nvPr/>
        </p:nvGrpSpPr>
        <p:grpSpPr>
          <a:xfrm>
            <a:off x="6691320" y="5735520"/>
            <a:ext cx="1008000" cy="936720"/>
            <a:chOff x="6691320" y="5735520"/>
            <a:chExt cx="1008000" cy="936720"/>
          </a:xfrm>
        </p:grpSpPr>
        <p:sp>
          <p:nvSpPr>
            <p:cNvPr id="675" name="Film"/>
            <p:cNvSpPr/>
            <p:nvPr/>
          </p:nvSpPr>
          <p:spPr>
            <a:xfrm>
              <a:off x="6691320" y="5974200"/>
              <a:ext cx="420480" cy="698040"/>
            </a:xfrm>
            <a:custGeom>
              <a:avLst/>
              <a:gdLst>
                <a:gd name="textAreaLeft" fmla="*/ 96480 w 420480"/>
                <a:gd name="textAreaRight" fmla="*/ 332640 w 420480"/>
                <a:gd name="textAreaTop" fmla="*/ 262800 h 698040"/>
                <a:gd name="textAreaBottom" fmla="*/ 434160 h 69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close/>
                </a:path>
                <a:path w="21600" h="21600">
                  <a:moveTo>
                    <a:pt x="3014" y="21600"/>
                  </a:moveTo>
                  <a:lnTo>
                    <a:pt x="3014" y="0"/>
                  </a:lnTo>
                  <a:lnTo>
                    <a:pt x="0" y="0"/>
                  </a:lnTo>
                  <a:lnTo>
                    <a:pt x="0" y="21600"/>
                  </a:lnTo>
                  <a:lnTo>
                    <a:pt x="3014" y="21600"/>
                  </a:lnTo>
                  <a:close/>
                </a:path>
                <a:path w="21600" h="21600">
                  <a:moveTo>
                    <a:pt x="21600" y="21600"/>
                  </a:moveTo>
                  <a:lnTo>
                    <a:pt x="21600" y="0"/>
                  </a:lnTo>
                  <a:lnTo>
                    <a:pt x="18586" y="0"/>
                  </a:lnTo>
                  <a:lnTo>
                    <a:pt x="18586" y="21600"/>
                  </a:lnTo>
                  <a:lnTo>
                    <a:pt x="21600" y="21600"/>
                  </a:lnTo>
                  <a:close/>
                </a:path>
                <a:path w="21600" h="21600">
                  <a:moveTo>
                    <a:pt x="6028" y="6574"/>
                  </a:moveTo>
                  <a:lnTo>
                    <a:pt x="15572" y="6574"/>
                  </a:lnTo>
                  <a:lnTo>
                    <a:pt x="16074" y="6574"/>
                  </a:lnTo>
                  <a:lnTo>
                    <a:pt x="16326" y="6457"/>
                  </a:lnTo>
                  <a:lnTo>
                    <a:pt x="16577" y="6339"/>
                  </a:lnTo>
                  <a:lnTo>
                    <a:pt x="16828" y="6222"/>
                  </a:lnTo>
                  <a:lnTo>
                    <a:pt x="17079" y="6222"/>
                  </a:lnTo>
                  <a:lnTo>
                    <a:pt x="17330" y="5987"/>
                  </a:lnTo>
                  <a:lnTo>
                    <a:pt x="17330" y="5870"/>
                  </a:lnTo>
                  <a:lnTo>
                    <a:pt x="17581" y="5635"/>
                  </a:lnTo>
                  <a:lnTo>
                    <a:pt x="17581" y="1526"/>
                  </a:lnTo>
                  <a:lnTo>
                    <a:pt x="17330" y="1291"/>
                  </a:lnTo>
                  <a:lnTo>
                    <a:pt x="17330" y="1174"/>
                  </a:lnTo>
                  <a:lnTo>
                    <a:pt x="17079" y="1057"/>
                  </a:lnTo>
                  <a:lnTo>
                    <a:pt x="16828" y="939"/>
                  </a:lnTo>
                  <a:lnTo>
                    <a:pt x="16577" y="822"/>
                  </a:lnTo>
                  <a:lnTo>
                    <a:pt x="16326" y="704"/>
                  </a:lnTo>
                  <a:lnTo>
                    <a:pt x="16074" y="704"/>
                  </a:lnTo>
                  <a:lnTo>
                    <a:pt x="15572" y="587"/>
                  </a:lnTo>
                  <a:lnTo>
                    <a:pt x="6028" y="587"/>
                  </a:lnTo>
                  <a:lnTo>
                    <a:pt x="5526" y="704"/>
                  </a:lnTo>
                  <a:lnTo>
                    <a:pt x="5274" y="704"/>
                  </a:lnTo>
                  <a:lnTo>
                    <a:pt x="5023" y="822"/>
                  </a:lnTo>
                  <a:lnTo>
                    <a:pt x="4772" y="939"/>
                  </a:lnTo>
                  <a:lnTo>
                    <a:pt x="4521" y="1057"/>
                  </a:lnTo>
                  <a:lnTo>
                    <a:pt x="4270" y="1174"/>
                  </a:lnTo>
                  <a:lnTo>
                    <a:pt x="4270" y="1291"/>
                  </a:lnTo>
                  <a:lnTo>
                    <a:pt x="4019" y="1526"/>
                  </a:lnTo>
                  <a:lnTo>
                    <a:pt x="4019" y="5635"/>
                  </a:lnTo>
                  <a:lnTo>
                    <a:pt x="4270" y="5870"/>
                  </a:lnTo>
                  <a:lnTo>
                    <a:pt x="4270" y="5987"/>
                  </a:lnTo>
                  <a:lnTo>
                    <a:pt x="4521" y="6222"/>
                  </a:lnTo>
                  <a:lnTo>
                    <a:pt x="4772" y="6222"/>
                  </a:lnTo>
                  <a:lnTo>
                    <a:pt x="5023" y="6339"/>
                  </a:lnTo>
                  <a:lnTo>
                    <a:pt x="5274" y="6457"/>
                  </a:lnTo>
                  <a:lnTo>
                    <a:pt x="5526" y="6574"/>
                  </a:lnTo>
                  <a:lnTo>
                    <a:pt x="6028" y="6574"/>
                  </a:lnTo>
                  <a:close/>
                </a:path>
                <a:path w="21600" h="21600">
                  <a:moveTo>
                    <a:pt x="6028" y="13617"/>
                  </a:moveTo>
                  <a:lnTo>
                    <a:pt x="15572" y="13617"/>
                  </a:lnTo>
                  <a:lnTo>
                    <a:pt x="16074" y="13617"/>
                  </a:lnTo>
                  <a:lnTo>
                    <a:pt x="16326" y="13617"/>
                  </a:lnTo>
                  <a:lnTo>
                    <a:pt x="16577" y="13500"/>
                  </a:lnTo>
                  <a:lnTo>
                    <a:pt x="16828" y="13383"/>
                  </a:lnTo>
                  <a:lnTo>
                    <a:pt x="17079" y="13265"/>
                  </a:lnTo>
                  <a:lnTo>
                    <a:pt x="17330" y="13148"/>
                  </a:lnTo>
                  <a:lnTo>
                    <a:pt x="17330" y="12913"/>
                  </a:lnTo>
                  <a:lnTo>
                    <a:pt x="17581" y="12796"/>
                  </a:lnTo>
                  <a:lnTo>
                    <a:pt x="17581" y="8687"/>
                  </a:lnTo>
                  <a:lnTo>
                    <a:pt x="17330" y="8452"/>
                  </a:lnTo>
                  <a:lnTo>
                    <a:pt x="17330" y="8335"/>
                  </a:lnTo>
                  <a:lnTo>
                    <a:pt x="17079" y="8217"/>
                  </a:lnTo>
                  <a:lnTo>
                    <a:pt x="16828" y="7983"/>
                  </a:lnTo>
                  <a:lnTo>
                    <a:pt x="16577" y="7983"/>
                  </a:lnTo>
                  <a:lnTo>
                    <a:pt x="16326" y="7865"/>
                  </a:lnTo>
                  <a:lnTo>
                    <a:pt x="16074" y="7865"/>
                  </a:lnTo>
                  <a:lnTo>
                    <a:pt x="15572" y="7748"/>
                  </a:lnTo>
                  <a:lnTo>
                    <a:pt x="6028" y="7748"/>
                  </a:lnTo>
                  <a:lnTo>
                    <a:pt x="5526" y="7865"/>
                  </a:lnTo>
                  <a:lnTo>
                    <a:pt x="5274" y="7865"/>
                  </a:lnTo>
                  <a:lnTo>
                    <a:pt x="5023" y="7983"/>
                  </a:lnTo>
                  <a:lnTo>
                    <a:pt x="4772" y="7983"/>
                  </a:lnTo>
                  <a:lnTo>
                    <a:pt x="4521" y="8217"/>
                  </a:lnTo>
                  <a:lnTo>
                    <a:pt x="4270" y="8335"/>
                  </a:lnTo>
                  <a:lnTo>
                    <a:pt x="4270" y="8452"/>
                  </a:lnTo>
                  <a:lnTo>
                    <a:pt x="4019" y="8687"/>
                  </a:lnTo>
                  <a:lnTo>
                    <a:pt x="4019" y="12796"/>
                  </a:lnTo>
                  <a:lnTo>
                    <a:pt x="4270" y="12913"/>
                  </a:lnTo>
                  <a:lnTo>
                    <a:pt x="4270" y="13148"/>
                  </a:lnTo>
                  <a:lnTo>
                    <a:pt x="4521" y="13265"/>
                  </a:lnTo>
                  <a:lnTo>
                    <a:pt x="4772" y="13383"/>
                  </a:lnTo>
                  <a:lnTo>
                    <a:pt x="5023" y="13500"/>
                  </a:lnTo>
                  <a:lnTo>
                    <a:pt x="5274" y="13617"/>
                  </a:lnTo>
                  <a:lnTo>
                    <a:pt x="5526" y="13617"/>
                  </a:lnTo>
                  <a:lnTo>
                    <a:pt x="6028" y="13617"/>
                  </a:lnTo>
                  <a:close/>
                </a:path>
                <a:path w="21600" h="21600">
                  <a:moveTo>
                    <a:pt x="6028" y="20778"/>
                  </a:moveTo>
                  <a:lnTo>
                    <a:pt x="15572" y="20778"/>
                  </a:lnTo>
                  <a:lnTo>
                    <a:pt x="16074" y="20778"/>
                  </a:lnTo>
                  <a:lnTo>
                    <a:pt x="16326" y="20661"/>
                  </a:lnTo>
                  <a:lnTo>
                    <a:pt x="16577" y="20661"/>
                  </a:lnTo>
                  <a:lnTo>
                    <a:pt x="16828" y="20543"/>
                  </a:lnTo>
                  <a:lnTo>
                    <a:pt x="17079" y="20426"/>
                  </a:lnTo>
                  <a:lnTo>
                    <a:pt x="17330" y="20309"/>
                  </a:lnTo>
                  <a:lnTo>
                    <a:pt x="17330" y="20074"/>
                  </a:lnTo>
                  <a:lnTo>
                    <a:pt x="17581" y="19957"/>
                  </a:lnTo>
                  <a:lnTo>
                    <a:pt x="17581" y="15730"/>
                  </a:lnTo>
                  <a:lnTo>
                    <a:pt x="17330" y="15613"/>
                  </a:lnTo>
                  <a:lnTo>
                    <a:pt x="17330" y="15378"/>
                  </a:lnTo>
                  <a:lnTo>
                    <a:pt x="17079" y="15378"/>
                  </a:lnTo>
                  <a:lnTo>
                    <a:pt x="16828" y="15143"/>
                  </a:lnTo>
                  <a:lnTo>
                    <a:pt x="16577" y="15026"/>
                  </a:lnTo>
                  <a:lnTo>
                    <a:pt x="16326" y="15026"/>
                  </a:lnTo>
                  <a:lnTo>
                    <a:pt x="16074" y="15026"/>
                  </a:lnTo>
                  <a:lnTo>
                    <a:pt x="15572" y="14909"/>
                  </a:lnTo>
                  <a:lnTo>
                    <a:pt x="6028" y="14909"/>
                  </a:lnTo>
                  <a:lnTo>
                    <a:pt x="5526" y="15026"/>
                  </a:lnTo>
                  <a:lnTo>
                    <a:pt x="5274" y="15026"/>
                  </a:lnTo>
                  <a:lnTo>
                    <a:pt x="5023" y="15026"/>
                  </a:lnTo>
                  <a:lnTo>
                    <a:pt x="4772" y="15143"/>
                  </a:lnTo>
                  <a:lnTo>
                    <a:pt x="4521" y="15378"/>
                  </a:lnTo>
                  <a:lnTo>
                    <a:pt x="4270" y="15378"/>
                  </a:lnTo>
                  <a:lnTo>
                    <a:pt x="4270" y="15613"/>
                  </a:lnTo>
                  <a:lnTo>
                    <a:pt x="4019" y="15730"/>
                  </a:lnTo>
                  <a:lnTo>
                    <a:pt x="4019" y="19957"/>
                  </a:lnTo>
                  <a:lnTo>
                    <a:pt x="4270" y="20074"/>
                  </a:lnTo>
                  <a:lnTo>
                    <a:pt x="4270" y="20309"/>
                  </a:lnTo>
                  <a:lnTo>
                    <a:pt x="4521" y="20426"/>
                  </a:lnTo>
                  <a:lnTo>
                    <a:pt x="4772" y="20543"/>
                  </a:lnTo>
                  <a:lnTo>
                    <a:pt x="5023" y="20661"/>
                  </a:lnTo>
                  <a:lnTo>
                    <a:pt x="5274" y="20661"/>
                  </a:lnTo>
                  <a:lnTo>
                    <a:pt x="5526" y="20778"/>
                  </a:lnTo>
                  <a:lnTo>
                    <a:pt x="6028" y="20778"/>
                  </a:lnTo>
                  <a:close/>
                </a:path>
                <a:path w="21600" h="21600">
                  <a:moveTo>
                    <a:pt x="753" y="1291"/>
                  </a:moveTo>
                  <a:lnTo>
                    <a:pt x="2260" y="1291"/>
                  </a:lnTo>
                  <a:lnTo>
                    <a:pt x="2260" y="235"/>
                  </a:lnTo>
                  <a:lnTo>
                    <a:pt x="753" y="235"/>
                  </a:lnTo>
                  <a:lnTo>
                    <a:pt x="753" y="1291"/>
                  </a:lnTo>
                  <a:close/>
                </a:path>
                <a:path w="21600" h="21600">
                  <a:moveTo>
                    <a:pt x="753" y="2700"/>
                  </a:moveTo>
                  <a:lnTo>
                    <a:pt x="2260" y="2700"/>
                  </a:lnTo>
                  <a:lnTo>
                    <a:pt x="2260" y="1643"/>
                  </a:lnTo>
                  <a:lnTo>
                    <a:pt x="753" y="1643"/>
                  </a:lnTo>
                  <a:lnTo>
                    <a:pt x="753" y="2700"/>
                  </a:lnTo>
                  <a:close/>
                </a:path>
                <a:path w="21600" h="21600">
                  <a:moveTo>
                    <a:pt x="753" y="4109"/>
                  </a:moveTo>
                  <a:lnTo>
                    <a:pt x="2260" y="4109"/>
                  </a:lnTo>
                  <a:lnTo>
                    <a:pt x="2260" y="3052"/>
                  </a:lnTo>
                  <a:lnTo>
                    <a:pt x="753" y="3052"/>
                  </a:lnTo>
                  <a:lnTo>
                    <a:pt x="753" y="4109"/>
                  </a:lnTo>
                  <a:close/>
                </a:path>
                <a:path w="21600" h="21600">
                  <a:moveTo>
                    <a:pt x="753" y="5517"/>
                  </a:moveTo>
                  <a:lnTo>
                    <a:pt x="2260" y="5517"/>
                  </a:lnTo>
                  <a:lnTo>
                    <a:pt x="2260" y="4461"/>
                  </a:lnTo>
                  <a:lnTo>
                    <a:pt x="753" y="4461"/>
                  </a:lnTo>
                  <a:lnTo>
                    <a:pt x="753" y="5517"/>
                  </a:lnTo>
                  <a:close/>
                </a:path>
                <a:path w="21600" h="21600">
                  <a:moveTo>
                    <a:pt x="753" y="6926"/>
                  </a:moveTo>
                  <a:lnTo>
                    <a:pt x="2260" y="6926"/>
                  </a:lnTo>
                  <a:lnTo>
                    <a:pt x="2260" y="5870"/>
                  </a:lnTo>
                  <a:lnTo>
                    <a:pt x="753" y="5870"/>
                  </a:lnTo>
                  <a:lnTo>
                    <a:pt x="753" y="6926"/>
                  </a:lnTo>
                  <a:close/>
                </a:path>
                <a:path w="21600" h="21600">
                  <a:moveTo>
                    <a:pt x="753" y="8335"/>
                  </a:moveTo>
                  <a:lnTo>
                    <a:pt x="2260" y="8335"/>
                  </a:lnTo>
                  <a:lnTo>
                    <a:pt x="2260" y="7278"/>
                  </a:lnTo>
                  <a:lnTo>
                    <a:pt x="753" y="7278"/>
                  </a:lnTo>
                  <a:lnTo>
                    <a:pt x="753" y="8335"/>
                  </a:lnTo>
                  <a:close/>
                </a:path>
                <a:path w="21600" h="21600">
                  <a:moveTo>
                    <a:pt x="753" y="9743"/>
                  </a:moveTo>
                  <a:lnTo>
                    <a:pt x="2260" y="9743"/>
                  </a:lnTo>
                  <a:lnTo>
                    <a:pt x="2260" y="8687"/>
                  </a:lnTo>
                  <a:lnTo>
                    <a:pt x="753" y="8687"/>
                  </a:lnTo>
                  <a:lnTo>
                    <a:pt x="753" y="9743"/>
                  </a:lnTo>
                  <a:close/>
                </a:path>
                <a:path w="21600" h="21600">
                  <a:moveTo>
                    <a:pt x="753" y="11152"/>
                  </a:moveTo>
                  <a:lnTo>
                    <a:pt x="2260" y="11152"/>
                  </a:lnTo>
                  <a:lnTo>
                    <a:pt x="2260" y="10096"/>
                  </a:lnTo>
                  <a:lnTo>
                    <a:pt x="753" y="10096"/>
                  </a:lnTo>
                  <a:lnTo>
                    <a:pt x="753" y="11152"/>
                  </a:lnTo>
                  <a:close/>
                </a:path>
                <a:path w="21600" h="21600">
                  <a:moveTo>
                    <a:pt x="753" y="12561"/>
                  </a:moveTo>
                  <a:lnTo>
                    <a:pt x="2260" y="12561"/>
                  </a:lnTo>
                  <a:lnTo>
                    <a:pt x="2260" y="11504"/>
                  </a:lnTo>
                  <a:lnTo>
                    <a:pt x="753" y="11504"/>
                  </a:lnTo>
                  <a:lnTo>
                    <a:pt x="753" y="12561"/>
                  </a:lnTo>
                  <a:close/>
                </a:path>
                <a:path w="21600" h="21600">
                  <a:moveTo>
                    <a:pt x="753" y="13970"/>
                  </a:moveTo>
                  <a:lnTo>
                    <a:pt x="2260" y="13970"/>
                  </a:lnTo>
                  <a:lnTo>
                    <a:pt x="2260" y="12913"/>
                  </a:lnTo>
                  <a:lnTo>
                    <a:pt x="753" y="12913"/>
                  </a:lnTo>
                  <a:lnTo>
                    <a:pt x="753" y="13970"/>
                  </a:lnTo>
                  <a:close/>
                </a:path>
                <a:path w="21600" h="21600">
                  <a:moveTo>
                    <a:pt x="753" y="15378"/>
                  </a:moveTo>
                  <a:lnTo>
                    <a:pt x="2260" y="15378"/>
                  </a:lnTo>
                  <a:lnTo>
                    <a:pt x="2260" y="14322"/>
                  </a:lnTo>
                  <a:lnTo>
                    <a:pt x="753" y="14322"/>
                  </a:lnTo>
                  <a:lnTo>
                    <a:pt x="753" y="15378"/>
                  </a:lnTo>
                  <a:close/>
                </a:path>
                <a:path w="21600" h="21600">
                  <a:moveTo>
                    <a:pt x="753" y="16787"/>
                  </a:moveTo>
                  <a:lnTo>
                    <a:pt x="2260" y="16787"/>
                  </a:lnTo>
                  <a:lnTo>
                    <a:pt x="2260" y="15730"/>
                  </a:lnTo>
                  <a:lnTo>
                    <a:pt x="753" y="15730"/>
                  </a:lnTo>
                  <a:lnTo>
                    <a:pt x="753" y="16787"/>
                  </a:lnTo>
                  <a:close/>
                </a:path>
                <a:path w="21600" h="21600">
                  <a:moveTo>
                    <a:pt x="753" y="18196"/>
                  </a:moveTo>
                  <a:lnTo>
                    <a:pt x="2260" y="18196"/>
                  </a:lnTo>
                  <a:lnTo>
                    <a:pt x="2260" y="17139"/>
                  </a:lnTo>
                  <a:lnTo>
                    <a:pt x="753" y="17139"/>
                  </a:lnTo>
                  <a:lnTo>
                    <a:pt x="753" y="18196"/>
                  </a:lnTo>
                  <a:close/>
                </a:path>
                <a:path w="21600" h="21600">
                  <a:moveTo>
                    <a:pt x="753" y="19604"/>
                  </a:moveTo>
                  <a:lnTo>
                    <a:pt x="2260" y="19604"/>
                  </a:lnTo>
                  <a:lnTo>
                    <a:pt x="2260" y="18548"/>
                  </a:lnTo>
                  <a:lnTo>
                    <a:pt x="753" y="18548"/>
                  </a:lnTo>
                  <a:lnTo>
                    <a:pt x="753" y="19604"/>
                  </a:lnTo>
                  <a:close/>
                </a:path>
                <a:path w="21600" h="21600">
                  <a:moveTo>
                    <a:pt x="753" y="21013"/>
                  </a:moveTo>
                  <a:lnTo>
                    <a:pt x="2260" y="21013"/>
                  </a:lnTo>
                  <a:lnTo>
                    <a:pt x="2260" y="19957"/>
                  </a:lnTo>
                  <a:lnTo>
                    <a:pt x="753" y="19957"/>
                  </a:lnTo>
                  <a:lnTo>
                    <a:pt x="753" y="21013"/>
                  </a:lnTo>
                  <a:close/>
                </a:path>
                <a:path w="21600" h="21600">
                  <a:moveTo>
                    <a:pt x="19340" y="1409"/>
                  </a:moveTo>
                  <a:lnTo>
                    <a:pt x="20595" y="1409"/>
                  </a:lnTo>
                  <a:lnTo>
                    <a:pt x="20595" y="352"/>
                  </a:lnTo>
                  <a:lnTo>
                    <a:pt x="19340" y="352"/>
                  </a:lnTo>
                  <a:lnTo>
                    <a:pt x="19340" y="1409"/>
                  </a:lnTo>
                  <a:close/>
                </a:path>
                <a:path w="21600" h="21600">
                  <a:moveTo>
                    <a:pt x="19340" y="2700"/>
                  </a:moveTo>
                  <a:lnTo>
                    <a:pt x="20595" y="2700"/>
                  </a:lnTo>
                  <a:lnTo>
                    <a:pt x="20595" y="1643"/>
                  </a:lnTo>
                  <a:lnTo>
                    <a:pt x="19340" y="1643"/>
                  </a:lnTo>
                  <a:lnTo>
                    <a:pt x="19340" y="2700"/>
                  </a:lnTo>
                  <a:close/>
                </a:path>
                <a:path w="21600" h="21600">
                  <a:moveTo>
                    <a:pt x="19340" y="4109"/>
                  </a:moveTo>
                  <a:lnTo>
                    <a:pt x="20595" y="4109"/>
                  </a:lnTo>
                  <a:lnTo>
                    <a:pt x="20595" y="3052"/>
                  </a:lnTo>
                  <a:lnTo>
                    <a:pt x="19340" y="3052"/>
                  </a:lnTo>
                  <a:lnTo>
                    <a:pt x="19340" y="4109"/>
                  </a:lnTo>
                  <a:close/>
                </a:path>
                <a:path w="21600" h="21600">
                  <a:moveTo>
                    <a:pt x="19340" y="5517"/>
                  </a:moveTo>
                  <a:lnTo>
                    <a:pt x="20595" y="5517"/>
                  </a:lnTo>
                  <a:lnTo>
                    <a:pt x="20595" y="4461"/>
                  </a:lnTo>
                  <a:lnTo>
                    <a:pt x="19340" y="4461"/>
                  </a:lnTo>
                  <a:lnTo>
                    <a:pt x="19340" y="5517"/>
                  </a:lnTo>
                  <a:close/>
                </a:path>
                <a:path w="21600" h="21600">
                  <a:moveTo>
                    <a:pt x="19340" y="6926"/>
                  </a:moveTo>
                  <a:lnTo>
                    <a:pt x="20595" y="6926"/>
                  </a:lnTo>
                  <a:lnTo>
                    <a:pt x="20595" y="5870"/>
                  </a:lnTo>
                  <a:lnTo>
                    <a:pt x="19340" y="5870"/>
                  </a:lnTo>
                  <a:lnTo>
                    <a:pt x="19340" y="6926"/>
                  </a:lnTo>
                  <a:close/>
                </a:path>
                <a:path w="21600" h="21600">
                  <a:moveTo>
                    <a:pt x="19340" y="8335"/>
                  </a:moveTo>
                  <a:lnTo>
                    <a:pt x="20595" y="8335"/>
                  </a:lnTo>
                  <a:lnTo>
                    <a:pt x="20595" y="7278"/>
                  </a:lnTo>
                  <a:lnTo>
                    <a:pt x="19340" y="7278"/>
                  </a:lnTo>
                  <a:lnTo>
                    <a:pt x="19340" y="8335"/>
                  </a:lnTo>
                  <a:close/>
                </a:path>
                <a:path w="21600" h="21600">
                  <a:moveTo>
                    <a:pt x="19340" y="9743"/>
                  </a:moveTo>
                  <a:lnTo>
                    <a:pt x="20595" y="9743"/>
                  </a:lnTo>
                  <a:lnTo>
                    <a:pt x="20595" y="8687"/>
                  </a:lnTo>
                  <a:lnTo>
                    <a:pt x="19340" y="8687"/>
                  </a:lnTo>
                  <a:lnTo>
                    <a:pt x="19340" y="9743"/>
                  </a:lnTo>
                  <a:close/>
                </a:path>
                <a:path w="21600" h="21600">
                  <a:moveTo>
                    <a:pt x="19340" y="11152"/>
                  </a:moveTo>
                  <a:lnTo>
                    <a:pt x="20595" y="11152"/>
                  </a:lnTo>
                  <a:lnTo>
                    <a:pt x="20595" y="10096"/>
                  </a:lnTo>
                  <a:lnTo>
                    <a:pt x="19340" y="10096"/>
                  </a:lnTo>
                  <a:lnTo>
                    <a:pt x="19340" y="11152"/>
                  </a:lnTo>
                  <a:close/>
                </a:path>
                <a:path w="21600" h="21600">
                  <a:moveTo>
                    <a:pt x="19340" y="12561"/>
                  </a:moveTo>
                  <a:lnTo>
                    <a:pt x="20595" y="12561"/>
                  </a:lnTo>
                  <a:lnTo>
                    <a:pt x="20595" y="11504"/>
                  </a:lnTo>
                  <a:lnTo>
                    <a:pt x="19340" y="11504"/>
                  </a:lnTo>
                  <a:lnTo>
                    <a:pt x="19340" y="12561"/>
                  </a:lnTo>
                  <a:close/>
                </a:path>
                <a:path w="21600" h="21600">
                  <a:moveTo>
                    <a:pt x="19340" y="13970"/>
                  </a:moveTo>
                  <a:lnTo>
                    <a:pt x="20595" y="13970"/>
                  </a:lnTo>
                  <a:lnTo>
                    <a:pt x="20595" y="12913"/>
                  </a:lnTo>
                  <a:lnTo>
                    <a:pt x="19340" y="12913"/>
                  </a:lnTo>
                  <a:lnTo>
                    <a:pt x="19340" y="13970"/>
                  </a:lnTo>
                  <a:close/>
                </a:path>
                <a:path w="21600" h="21600">
                  <a:moveTo>
                    <a:pt x="19340" y="15378"/>
                  </a:moveTo>
                  <a:lnTo>
                    <a:pt x="20595" y="15378"/>
                  </a:lnTo>
                  <a:lnTo>
                    <a:pt x="20595" y="14322"/>
                  </a:lnTo>
                  <a:lnTo>
                    <a:pt x="19340" y="14322"/>
                  </a:lnTo>
                  <a:lnTo>
                    <a:pt x="19340" y="15378"/>
                  </a:lnTo>
                  <a:close/>
                </a:path>
                <a:path w="21600" h="21600">
                  <a:moveTo>
                    <a:pt x="19340" y="16787"/>
                  </a:moveTo>
                  <a:lnTo>
                    <a:pt x="20595" y="16787"/>
                  </a:lnTo>
                  <a:lnTo>
                    <a:pt x="20595" y="15730"/>
                  </a:lnTo>
                  <a:lnTo>
                    <a:pt x="19340" y="15730"/>
                  </a:lnTo>
                  <a:lnTo>
                    <a:pt x="19340" y="16787"/>
                  </a:lnTo>
                  <a:close/>
                </a:path>
                <a:path w="21600" h="21600">
                  <a:moveTo>
                    <a:pt x="19340" y="18196"/>
                  </a:moveTo>
                  <a:lnTo>
                    <a:pt x="20595" y="18196"/>
                  </a:lnTo>
                  <a:lnTo>
                    <a:pt x="20595" y="17139"/>
                  </a:lnTo>
                  <a:lnTo>
                    <a:pt x="19340" y="17139"/>
                  </a:lnTo>
                  <a:lnTo>
                    <a:pt x="19340" y="18196"/>
                  </a:lnTo>
                  <a:close/>
                </a:path>
                <a:path w="21600" h="21600">
                  <a:moveTo>
                    <a:pt x="19340" y="19604"/>
                  </a:moveTo>
                  <a:lnTo>
                    <a:pt x="20595" y="19604"/>
                  </a:lnTo>
                  <a:lnTo>
                    <a:pt x="20595" y="18548"/>
                  </a:lnTo>
                  <a:lnTo>
                    <a:pt x="19340" y="18548"/>
                  </a:lnTo>
                  <a:lnTo>
                    <a:pt x="19340" y="19604"/>
                  </a:lnTo>
                  <a:close/>
                </a:path>
                <a:path w="21600" h="21600">
                  <a:moveTo>
                    <a:pt x="19340" y="21013"/>
                  </a:moveTo>
                  <a:lnTo>
                    <a:pt x="20595" y="21013"/>
                  </a:lnTo>
                  <a:lnTo>
                    <a:pt x="20595" y="19957"/>
                  </a:lnTo>
                  <a:lnTo>
                    <a:pt x="19340" y="19957"/>
                  </a:lnTo>
                  <a:lnTo>
                    <a:pt x="19340" y="21013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76" name="Sound"/>
            <p:cNvSpPr/>
            <p:nvPr/>
          </p:nvSpPr>
          <p:spPr>
            <a:xfrm>
              <a:off x="6933960" y="5735520"/>
              <a:ext cx="583920" cy="463320"/>
            </a:xfrm>
            <a:custGeom>
              <a:avLst/>
              <a:gdLst>
                <a:gd name="textAreaLeft" fmla="*/ 6120 w 583920"/>
                <a:gd name="textAreaRight" fmla="*/ 290880 w 583920"/>
                <a:gd name="textAreaTop" fmla="*/ 163080 h 463320"/>
                <a:gd name="textAreaBottom" fmla="*/ 290880 h 46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7273"/>
                  </a:moveTo>
                  <a:lnTo>
                    <a:pt x="5824" y="7273"/>
                  </a:lnTo>
                  <a:lnTo>
                    <a:pt x="11164" y="0"/>
                  </a:lnTo>
                  <a:lnTo>
                    <a:pt x="11164" y="21159"/>
                  </a:lnTo>
                  <a:lnTo>
                    <a:pt x="5824" y="13885"/>
                  </a:lnTo>
                  <a:lnTo>
                    <a:pt x="0" y="13885"/>
                  </a:lnTo>
                  <a:lnTo>
                    <a:pt x="0" y="7273"/>
                  </a:lnTo>
                  <a:close/>
                </a:path>
                <a:path w="21600" h="21600">
                  <a:moveTo>
                    <a:pt x="13024" y="7273"/>
                  </a:moveTo>
                  <a:lnTo>
                    <a:pt x="13591" y="6722"/>
                  </a:lnTo>
                  <a:lnTo>
                    <a:pt x="13833" y="7548"/>
                  </a:lnTo>
                  <a:lnTo>
                    <a:pt x="14076" y="8485"/>
                  </a:lnTo>
                  <a:lnTo>
                    <a:pt x="14157" y="9367"/>
                  </a:lnTo>
                  <a:lnTo>
                    <a:pt x="14197" y="10524"/>
                  </a:lnTo>
                  <a:lnTo>
                    <a:pt x="14197" y="11406"/>
                  </a:lnTo>
                  <a:lnTo>
                    <a:pt x="14116" y="12012"/>
                  </a:lnTo>
                  <a:lnTo>
                    <a:pt x="13995" y="12728"/>
                  </a:lnTo>
                  <a:lnTo>
                    <a:pt x="13833" y="13444"/>
                  </a:lnTo>
                  <a:lnTo>
                    <a:pt x="13712" y="14106"/>
                  </a:lnTo>
                  <a:lnTo>
                    <a:pt x="13591" y="14546"/>
                  </a:lnTo>
                  <a:lnTo>
                    <a:pt x="13065" y="13885"/>
                  </a:lnTo>
                  <a:lnTo>
                    <a:pt x="13307" y="12893"/>
                  </a:lnTo>
                  <a:lnTo>
                    <a:pt x="13469" y="11791"/>
                  </a:lnTo>
                  <a:lnTo>
                    <a:pt x="13550" y="10910"/>
                  </a:lnTo>
                  <a:lnTo>
                    <a:pt x="13591" y="10138"/>
                  </a:lnTo>
                  <a:lnTo>
                    <a:pt x="13469" y="9367"/>
                  </a:lnTo>
                  <a:lnTo>
                    <a:pt x="13388" y="8595"/>
                  </a:lnTo>
                  <a:lnTo>
                    <a:pt x="13267" y="7934"/>
                  </a:lnTo>
                  <a:lnTo>
                    <a:pt x="13024" y="7273"/>
                  </a:lnTo>
                  <a:close/>
                </a:path>
                <a:path w="21600" h="21600">
                  <a:moveTo>
                    <a:pt x="16382" y="3967"/>
                  </a:moveTo>
                  <a:lnTo>
                    <a:pt x="16786" y="5179"/>
                  </a:lnTo>
                  <a:lnTo>
                    <a:pt x="17150" y="6612"/>
                  </a:lnTo>
                  <a:lnTo>
                    <a:pt x="17474" y="8651"/>
                  </a:lnTo>
                  <a:lnTo>
                    <a:pt x="17595" y="9753"/>
                  </a:lnTo>
                  <a:lnTo>
                    <a:pt x="17635" y="12012"/>
                  </a:lnTo>
                  <a:lnTo>
                    <a:pt x="17393" y="13665"/>
                  </a:lnTo>
                  <a:lnTo>
                    <a:pt x="17150" y="15208"/>
                  </a:lnTo>
                  <a:lnTo>
                    <a:pt x="16786" y="16310"/>
                  </a:lnTo>
                  <a:lnTo>
                    <a:pt x="16341" y="17687"/>
                  </a:lnTo>
                  <a:lnTo>
                    <a:pt x="15815" y="17081"/>
                  </a:lnTo>
                  <a:lnTo>
                    <a:pt x="16503" y="14602"/>
                  </a:lnTo>
                  <a:lnTo>
                    <a:pt x="16786" y="13169"/>
                  </a:lnTo>
                  <a:lnTo>
                    <a:pt x="16867" y="12012"/>
                  </a:lnTo>
                  <a:lnTo>
                    <a:pt x="16867" y="9642"/>
                  </a:lnTo>
                  <a:lnTo>
                    <a:pt x="16705" y="7989"/>
                  </a:lnTo>
                  <a:lnTo>
                    <a:pt x="16422" y="6612"/>
                  </a:lnTo>
                  <a:lnTo>
                    <a:pt x="16220" y="5675"/>
                  </a:lnTo>
                  <a:lnTo>
                    <a:pt x="15856" y="4518"/>
                  </a:lnTo>
                  <a:lnTo>
                    <a:pt x="16382" y="3967"/>
                  </a:lnTo>
                  <a:close/>
                </a:path>
                <a:path w="21600" h="21600">
                  <a:moveTo>
                    <a:pt x="18889" y="1377"/>
                  </a:moveTo>
                  <a:lnTo>
                    <a:pt x="19415" y="826"/>
                  </a:lnTo>
                  <a:lnTo>
                    <a:pt x="20194" y="2576"/>
                  </a:lnTo>
                  <a:lnTo>
                    <a:pt x="20831" y="4683"/>
                  </a:lnTo>
                  <a:lnTo>
                    <a:pt x="21357" y="7204"/>
                  </a:lnTo>
                  <a:lnTo>
                    <a:pt x="21650" y="9450"/>
                  </a:lnTo>
                  <a:lnTo>
                    <a:pt x="21600" y="12301"/>
                  </a:lnTo>
                  <a:lnTo>
                    <a:pt x="21215" y="15938"/>
                  </a:lnTo>
                  <a:lnTo>
                    <a:pt x="20629" y="18348"/>
                  </a:lnTo>
                  <a:lnTo>
                    <a:pt x="19415" y="21655"/>
                  </a:lnTo>
                  <a:lnTo>
                    <a:pt x="18889" y="21159"/>
                  </a:lnTo>
                  <a:lnTo>
                    <a:pt x="19901" y="18404"/>
                  </a:lnTo>
                  <a:lnTo>
                    <a:pt x="20467" y="15593"/>
                  </a:lnTo>
                  <a:lnTo>
                    <a:pt x="20791" y="12342"/>
                  </a:lnTo>
                  <a:lnTo>
                    <a:pt x="20871" y="9532"/>
                  </a:lnTo>
                  <a:lnTo>
                    <a:pt x="20629" y="7411"/>
                  </a:lnTo>
                  <a:lnTo>
                    <a:pt x="20062" y="4628"/>
                  </a:lnTo>
                  <a:lnTo>
                    <a:pt x="19415" y="2810"/>
                  </a:lnTo>
                  <a:lnTo>
                    <a:pt x="18889" y="137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77" name="Photo"/>
            <p:cNvSpPr/>
            <p:nvPr/>
          </p:nvSpPr>
          <p:spPr>
            <a:xfrm>
              <a:off x="7156440" y="6010200"/>
              <a:ext cx="542880" cy="419040"/>
            </a:xfrm>
            <a:custGeom>
              <a:avLst/>
              <a:gdLst>
                <a:gd name="textAreaLeft" fmla="*/ 195120 w 542880"/>
                <a:gd name="textAreaRight" fmla="*/ 345960 w 542880"/>
                <a:gd name="textAreaTop" fmla="*/ 159840 h 419040"/>
                <a:gd name="textAreaBottom" fmla="*/ 3276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3085"/>
                  </a:lnTo>
                  <a:lnTo>
                    <a:pt x="1542" y="3085"/>
                  </a:lnTo>
                  <a:lnTo>
                    <a:pt x="1542" y="1028"/>
                  </a:lnTo>
                  <a:lnTo>
                    <a:pt x="3857" y="1028"/>
                  </a:lnTo>
                  <a:lnTo>
                    <a:pt x="3857" y="3085"/>
                  </a:lnTo>
                  <a:lnTo>
                    <a:pt x="5400" y="3085"/>
                  </a:lnTo>
                  <a:lnTo>
                    <a:pt x="6942" y="0"/>
                  </a:lnTo>
                  <a:lnTo>
                    <a:pt x="14657" y="0"/>
                  </a:lnTo>
                  <a:lnTo>
                    <a:pt x="16200" y="3085"/>
                  </a:ln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0" y="3085"/>
                  </a:moveTo>
                  <a:lnTo>
                    <a:pt x="21600" y="3085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3085"/>
                  </a:lnTo>
                  <a:close/>
                </a:path>
                <a:path w="21600" h="21600">
                  <a:moveTo>
                    <a:pt x="10800" y="4800"/>
                  </a:moveTo>
                  <a:lnTo>
                    <a:pt x="11925" y="4971"/>
                  </a:lnTo>
                  <a:lnTo>
                    <a:pt x="13017" y="5442"/>
                  </a:lnTo>
                  <a:lnTo>
                    <a:pt x="14046" y="6128"/>
                  </a:lnTo>
                  <a:lnTo>
                    <a:pt x="14914" y="7071"/>
                  </a:lnTo>
                  <a:lnTo>
                    <a:pt x="15621" y="8271"/>
                  </a:lnTo>
                  <a:lnTo>
                    <a:pt x="16167" y="9514"/>
                  </a:lnTo>
                  <a:lnTo>
                    <a:pt x="16425" y="11014"/>
                  </a:lnTo>
                  <a:lnTo>
                    <a:pt x="16585" y="12471"/>
                  </a:lnTo>
                  <a:lnTo>
                    <a:pt x="16489" y="14014"/>
                  </a:lnTo>
                  <a:lnTo>
                    <a:pt x="16135" y="15471"/>
                  </a:lnTo>
                  <a:lnTo>
                    <a:pt x="15621" y="16800"/>
                  </a:lnTo>
                  <a:lnTo>
                    <a:pt x="14914" y="18000"/>
                  </a:lnTo>
                  <a:lnTo>
                    <a:pt x="14046" y="18942"/>
                  </a:lnTo>
                  <a:lnTo>
                    <a:pt x="13050" y="19671"/>
                  </a:lnTo>
                  <a:lnTo>
                    <a:pt x="11925" y="20057"/>
                  </a:lnTo>
                  <a:lnTo>
                    <a:pt x="10832" y="20185"/>
                  </a:lnTo>
                  <a:lnTo>
                    <a:pt x="9675" y="20142"/>
                  </a:lnTo>
                  <a:lnTo>
                    <a:pt x="8582" y="19628"/>
                  </a:lnTo>
                  <a:lnTo>
                    <a:pt x="7553" y="18942"/>
                  </a:lnTo>
                  <a:lnTo>
                    <a:pt x="6717" y="17957"/>
                  </a:lnTo>
                  <a:lnTo>
                    <a:pt x="5946" y="16842"/>
                  </a:lnTo>
                  <a:lnTo>
                    <a:pt x="5464" y="15514"/>
                  </a:lnTo>
                  <a:lnTo>
                    <a:pt x="5078" y="14014"/>
                  </a:lnTo>
                  <a:lnTo>
                    <a:pt x="5014" y="12514"/>
                  </a:lnTo>
                  <a:lnTo>
                    <a:pt x="5110" y="11014"/>
                  </a:lnTo>
                  <a:lnTo>
                    <a:pt x="5528" y="9557"/>
                  </a:lnTo>
                  <a:lnTo>
                    <a:pt x="6010" y="8228"/>
                  </a:lnTo>
                  <a:lnTo>
                    <a:pt x="6750" y="7114"/>
                  </a:lnTo>
                  <a:lnTo>
                    <a:pt x="7650" y="6085"/>
                  </a:lnTo>
                  <a:lnTo>
                    <a:pt x="8614" y="5400"/>
                  </a:lnTo>
                  <a:lnTo>
                    <a:pt x="9707" y="4971"/>
                  </a:lnTo>
                  <a:lnTo>
                    <a:pt x="10800" y="4800"/>
                  </a:lnTo>
                  <a:close/>
                </a:path>
                <a:path w="21600" h="21600">
                  <a:moveTo>
                    <a:pt x="8003" y="8057"/>
                  </a:moveTo>
                  <a:lnTo>
                    <a:pt x="8807" y="7371"/>
                  </a:lnTo>
                  <a:lnTo>
                    <a:pt x="9546" y="6985"/>
                  </a:lnTo>
                  <a:lnTo>
                    <a:pt x="10446" y="6771"/>
                  </a:lnTo>
                  <a:lnTo>
                    <a:pt x="11217" y="6771"/>
                  </a:lnTo>
                  <a:lnTo>
                    <a:pt x="12053" y="7028"/>
                  </a:lnTo>
                  <a:lnTo>
                    <a:pt x="12889" y="7457"/>
                  </a:lnTo>
                  <a:lnTo>
                    <a:pt x="13628" y="8100"/>
                  </a:lnTo>
                  <a:lnTo>
                    <a:pt x="14175" y="8871"/>
                  </a:lnTo>
                  <a:lnTo>
                    <a:pt x="14625" y="9814"/>
                  </a:lnTo>
                  <a:lnTo>
                    <a:pt x="14978" y="10885"/>
                  </a:lnTo>
                  <a:lnTo>
                    <a:pt x="15171" y="12042"/>
                  </a:lnTo>
                  <a:lnTo>
                    <a:pt x="15107" y="13114"/>
                  </a:lnTo>
                  <a:lnTo>
                    <a:pt x="15042" y="14228"/>
                  </a:lnTo>
                  <a:lnTo>
                    <a:pt x="14689" y="15257"/>
                  </a:lnTo>
                  <a:lnTo>
                    <a:pt x="14207" y="16285"/>
                  </a:lnTo>
                  <a:lnTo>
                    <a:pt x="13596" y="17057"/>
                  </a:lnTo>
                  <a:lnTo>
                    <a:pt x="12889" y="17657"/>
                  </a:lnTo>
                  <a:lnTo>
                    <a:pt x="12053" y="18085"/>
                  </a:lnTo>
                  <a:lnTo>
                    <a:pt x="11185" y="18257"/>
                  </a:lnTo>
                  <a:lnTo>
                    <a:pt x="10414" y="18214"/>
                  </a:lnTo>
                  <a:lnTo>
                    <a:pt x="9546" y="18042"/>
                  </a:lnTo>
                  <a:lnTo>
                    <a:pt x="8742" y="17614"/>
                  </a:lnTo>
                  <a:lnTo>
                    <a:pt x="8003" y="17014"/>
                  </a:lnTo>
                  <a:lnTo>
                    <a:pt x="7457" y="16242"/>
                  </a:lnTo>
                  <a:lnTo>
                    <a:pt x="6975" y="15257"/>
                  </a:lnTo>
                  <a:lnTo>
                    <a:pt x="6653" y="14142"/>
                  </a:lnTo>
                  <a:lnTo>
                    <a:pt x="6492" y="13114"/>
                  </a:lnTo>
                  <a:lnTo>
                    <a:pt x="6525" y="11914"/>
                  </a:lnTo>
                  <a:lnTo>
                    <a:pt x="6621" y="10842"/>
                  </a:lnTo>
                  <a:lnTo>
                    <a:pt x="6942" y="9771"/>
                  </a:lnTo>
                  <a:lnTo>
                    <a:pt x="7457" y="8785"/>
                  </a:lnTo>
                  <a:lnTo>
                    <a:pt x="8003" y="805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78" name="Music"/>
            <p:cNvSpPr/>
            <p:nvPr/>
          </p:nvSpPr>
          <p:spPr>
            <a:xfrm>
              <a:off x="7219800" y="6256080"/>
              <a:ext cx="444240" cy="405000"/>
            </a:xfrm>
            <a:custGeom>
              <a:avLst/>
              <a:gdLst>
                <a:gd name="textAreaLeft" fmla="*/ 163800 w 444240"/>
                <a:gd name="textAreaRight" fmla="*/ 430560 w 444240"/>
                <a:gd name="textAreaTop" fmla="*/ 17280 h 405000"/>
                <a:gd name="textAreaBottom" fmla="*/ 100440 h 40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52" y="46"/>
                  </a:moveTo>
                  <a:lnTo>
                    <a:pt x="7373" y="9900"/>
                  </a:lnTo>
                  <a:lnTo>
                    <a:pt x="7352" y="16107"/>
                  </a:lnTo>
                  <a:lnTo>
                    <a:pt x="7103" y="15969"/>
                  </a:lnTo>
                  <a:lnTo>
                    <a:pt x="6729" y="15692"/>
                  </a:lnTo>
                  <a:lnTo>
                    <a:pt x="6355" y="15553"/>
                  </a:lnTo>
                  <a:lnTo>
                    <a:pt x="5981" y="15415"/>
                  </a:lnTo>
                  <a:lnTo>
                    <a:pt x="5607" y="15276"/>
                  </a:lnTo>
                  <a:lnTo>
                    <a:pt x="5109" y="15138"/>
                  </a:lnTo>
                  <a:lnTo>
                    <a:pt x="4735" y="15138"/>
                  </a:lnTo>
                  <a:lnTo>
                    <a:pt x="4236" y="15138"/>
                  </a:lnTo>
                  <a:lnTo>
                    <a:pt x="3364" y="15138"/>
                  </a:lnTo>
                  <a:lnTo>
                    <a:pt x="2616" y="15276"/>
                  </a:lnTo>
                  <a:lnTo>
                    <a:pt x="1869" y="15692"/>
                  </a:lnTo>
                  <a:lnTo>
                    <a:pt x="1246" y="15969"/>
                  </a:lnTo>
                  <a:lnTo>
                    <a:pt x="747" y="16523"/>
                  </a:lnTo>
                  <a:lnTo>
                    <a:pt x="373" y="17076"/>
                  </a:lnTo>
                  <a:lnTo>
                    <a:pt x="124" y="17630"/>
                  </a:lnTo>
                  <a:lnTo>
                    <a:pt x="0" y="18323"/>
                  </a:lnTo>
                  <a:lnTo>
                    <a:pt x="124" y="19015"/>
                  </a:lnTo>
                  <a:lnTo>
                    <a:pt x="373" y="19569"/>
                  </a:lnTo>
                  <a:lnTo>
                    <a:pt x="747" y="20123"/>
                  </a:lnTo>
                  <a:lnTo>
                    <a:pt x="1246" y="20676"/>
                  </a:lnTo>
                  <a:lnTo>
                    <a:pt x="1869" y="21092"/>
                  </a:lnTo>
                  <a:lnTo>
                    <a:pt x="2616" y="21369"/>
                  </a:lnTo>
                  <a:lnTo>
                    <a:pt x="3364" y="21507"/>
                  </a:lnTo>
                  <a:lnTo>
                    <a:pt x="4236" y="21646"/>
                  </a:lnTo>
                  <a:lnTo>
                    <a:pt x="5109" y="21507"/>
                  </a:lnTo>
                  <a:lnTo>
                    <a:pt x="5856" y="21369"/>
                  </a:lnTo>
                  <a:lnTo>
                    <a:pt x="6604" y="21092"/>
                  </a:lnTo>
                  <a:lnTo>
                    <a:pt x="7227" y="20676"/>
                  </a:lnTo>
                  <a:lnTo>
                    <a:pt x="7726" y="20123"/>
                  </a:lnTo>
                  <a:lnTo>
                    <a:pt x="8100" y="19569"/>
                  </a:lnTo>
                  <a:lnTo>
                    <a:pt x="8349" y="19015"/>
                  </a:lnTo>
                  <a:lnTo>
                    <a:pt x="8473" y="18323"/>
                  </a:lnTo>
                  <a:lnTo>
                    <a:pt x="8473" y="6276"/>
                  </a:lnTo>
                  <a:lnTo>
                    <a:pt x="20561" y="6276"/>
                  </a:lnTo>
                  <a:lnTo>
                    <a:pt x="20561" y="16107"/>
                  </a:lnTo>
                  <a:lnTo>
                    <a:pt x="20187" y="15830"/>
                  </a:lnTo>
                  <a:lnTo>
                    <a:pt x="19938" y="15692"/>
                  </a:lnTo>
                  <a:lnTo>
                    <a:pt x="19564" y="15553"/>
                  </a:lnTo>
                  <a:lnTo>
                    <a:pt x="19190" y="15415"/>
                  </a:lnTo>
                  <a:lnTo>
                    <a:pt x="18692" y="15276"/>
                  </a:lnTo>
                  <a:lnTo>
                    <a:pt x="18318" y="15138"/>
                  </a:lnTo>
                  <a:lnTo>
                    <a:pt x="17944" y="15138"/>
                  </a:lnTo>
                  <a:lnTo>
                    <a:pt x="17446" y="15138"/>
                  </a:lnTo>
                  <a:lnTo>
                    <a:pt x="16573" y="15138"/>
                  </a:lnTo>
                  <a:lnTo>
                    <a:pt x="15826" y="15276"/>
                  </a:lnTo>
                  <a:lnTo>
                    <a:pt x="15078" y="15692"/>
                  </a:lnTo>
                  <a:lnTo>
                    <a:pt x="14455" y="15969"/>
                  </a:lnTo>
                  <a:lnTo>
                    <a:pt x="13956" y="16523"/>
                  </a:lnTo>
                  <a:lnTo>
                    <a:pt x="13583" y="17076"/>
                  </a:lnTo>
                  <a:lnTo>
                    <a:pt x="13333" y="17630"/>
                  </a:lnTo>
                  <a:lnTo>
                    <a:pt x="13209" y="18323"/>
                  </a:lnTo>
                  <a:lnTo>
                    <a:pt x="13333" y="19015"/>
                  </a:lnTo>
                  <a:lnTo>
                    <a:pt x="13583" y="19569"/>
                  </a:lnTo>
                  <a:lnTo>
                    <a:pt x="13956" y="20123"/>
                  </a:lnTo>
                  <a:lnTo>
                    <a:pt x="14455" y="20676"/>
                  </a:lnTo>
                  <a:lnTo>
                    <a:pt x="15078" y="21092"/>
                  </a:lnTo>
                  <a:lnTo>
                    <a:pt x="15826" y="21369"/>
                  </a:lnTo>
                  <a:lnTo>
                    <a:pt x="16573" y="21507"/>
                  </a:lnTo>
                  <a:lnTo>
                    <a:pt x="17446" y="21646"/>
                  </a:lnTo>
                  <a:lnTo>
                    <a:pt x="18318" y="21507"/>
                  </a:lnTo>
                  <a:lnTo>
                    <a:pt x="19066" y="21369"/>
                  </a:lnTo>
                  <a:lnTo>
                    <a:pt x="19813" y="21092"/>
                  </a:lnTo>
                  <a:lnTo>
                    <a:pt x="20436" y="20676"/>
                  </a:lnTo>
                  <a:lnTo>
                    <a:pt x="20935" y="20123"/>
                  </a:lnTo>
                  <a:lnTo>
                    <a:pt x="21309" y="19569"/>
                  </a:lnTo>
                  <a:lnTo>
                    <a:pt x="21558" y="19015"/>
                  </a:lnTo>
                  <a:lnTo>
                    <a:pt x="21683" y="18323"/>
                  </a:lnTo>
                  <a:lnTo>
                    <a:pt x="21683" y="10061"/>
                  </a:lnTo>
                  <a:lnTo>
                    <a:pt x="21683" y="46"/>
                  </a:lnTo>
                  <a:lnTo>
                    <a:pt x="7352" y="46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79" name="AutoShape 20"/>
          <p:cNvSpPr/>
          <p:nvPr/>
        </p:nvSpPr>
        <p:spPr>
          <a:xfrm>
            <a:off x="7289640" y="1467000"/>
            <a:ext cx="1854360" cy="1238040"/>
          </a:xfrm>
          <a:prstGeom prst="wedgeEllipseCallout">
            <a:avLst>
              <a:gd name="adj1" fmla="val -10629"/>
              <a:gd name="adj2" fmla="val 104523"/>
            </a:avLst>
          </a:prstGeom>
          <a:solidFill>
            <a:srgbClr val="f3fa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0" name="Text Box 21"/>
          <p:cNvSpPr/>
          <p:nvPr/>
        </p:nvSpPr>
        <p:spPr>
          <a:xfrm>
            <a:off x="7427880" y="1536840"/>
            <a:ext cx="162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материалы целенаправ-ленных наблюдений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1" name="AutoShape 22"/>
          <p:cNvSpPr/>
          <p:nvPr/>
        </p:nvSpPr>
        <p:spPr>
          <a:xfrm>
            <a:off x="3065400" y="1855800"/>
            <a:ext cx="1494000" cy="903240"/>
          </a:xfrm>
          <a:prstGeom prst="wedgeEllipseCallout">
            <a:avLst>
              <a:gd name="adj1" fmla="val 19712"/>
              <a:gd name="adj2" fmla="val 153310"/>
            </a:avLst>
          </a:prstGeom>
          <a:solidFill>
            <a:srgbClr val="f3faff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2" name="Text Box 23"/>
          <p:cNvSpPr/>
          <p:nvPr/>
        </p:nvSpPr>
        <p:spPr>
          <a:xfrm>
            <a:off x="3065400" y="1855800"/>
            <a:ext cx="156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Arial"/>
              </a:rPr>
              <a:t>рабочие материалы групп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3" name="Text Box 26"/>
          <p:cNvSpPr/>
          <p:nvPr/>
        </p:nvSpPr>
        <p:spPr>
          <a:xfrm>
            <a:off x="4954680" y="6021360"/>
            <a:ext cx="180504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64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6436b"/>
                </a:solidFill>
                <a:latin typeface="Arial"/>
              </a:rPr>
              <a:t>видеозапись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7229520" y="4113360"/>
            <a:ext cx="18432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зультаты взаимооценки (голосование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5" name="Text Box 26"/>
          <p:cNvSpPr/>
          <p:nvPr/>
        </p:nvSpPr>
        <p:spPr>
          <a:xfrm>
            <a:off x="3459240" y="1266840"/>
            <a:ext cx="42512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упповой проект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6" name="AutoShape 7"/>
          <p:cNvSpPr/>
          <p:nvPr/>
        </p:nvSpPr>
        <p:spPr>
          <a:xfrm>
            <a:off x="4732200" y="3357720"/>
            <a:ext cx="2425680" cy="1511280"/>
          </a:xfrm>
          <a:prstGeom prst="roundRect">
            <a:avLst>
              <a:gd name="adj" fmla="val 16667"/>
            </a:avLst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ndara"/>
              </a:rPr>
              <a:t>Работа в группе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70c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ndara"/>
              </a:rPr>
              <a:t>саморегуляц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70c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ndara"/>
              </a:rPr>
              <a:t>сотрудничество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70c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ndara"/>
              </a:rPr>
              <a:t>коммуникац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70c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ndara"/>
              </a:rPr>
              <a:t>использование ИКТ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7" name="Line 31"/>
          <p:cNvSpPr/>
          <p:nvPr/>
        </p:nvSpPr>
        <p:spPr>
          <a:xfrm>
            <a:off x="2441520" y="1335240"/>
            <a:ext cx="0" cy="54003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8" name="Text Box 26"/>
          <p:cNvSpPr/>
          <p:nvPr/>
        </p:nvSpPr>
        <p:spPr>
          <a:xfrm>
            <a:off x="193680" y="3784680"/>
            <a:ext cx="203832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Итоговый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индивидуаль-ный проект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9" name="AutoShape 8"/>
          <p:cNvSpPr/>
          <p:nvPr/>
        </p:nvSpPr>
        <p:spPr>
          <a:xfrm>
            <a:off x="2603520" y="6072120"/>
            <a:ext cx="2052720" cy="631800"/>
          </a:xfrm>
          <a:prstGeom prst="roundRect">
            <a:avLst>
              <a:gd name="adj" fmla="val 16667"/>
            </a:avLst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ndara"/>
              </a:rPr>
              <a:t>2-3 урок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0" name="Прямоугольник 1"/>
          <p:cNvSpPr/>
          <p:nvPr/>
        </p:nvSpPr>
        <p:spPr>
          <a:xfrm>
            <a:off x="500040" y="214200"/>
            <a:ext cx="82501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ndara"/>
              </a:rPr>
              <a:t>Регулятивные и коммуникативные УУД:  инструментарий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Итоговая аттестация учащихся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(новые модели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одель процедуры проверки освоения основной образовательной программы ступени основного общего образования учащихся общеобразовательных учреждений в 9 классах, ориентированной на оценку метапредметных и личностных  результатов образования в соответствии с новыми ФГОС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«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Предпрофильное индивидуально-групповое испытание».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зработка модели и инструментария для организации и проведения итоговой аттестации школьников в части оценки метапредметных и личностных результатов образования (11 класс).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«Предпрофессиональное индивидуально-групповое испытание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При разработке ОУ основной образовательной программ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1.3. 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истема оценки достижения планируемых результатов освоения основной образовательной программы основного общего образов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одель системы оценки результатов освоения общеобразовательных програм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(Авторский коллектив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: Ковалева Г.С., Красновский Э.А., Краснянская К.А., Логинова О.Б., Татур А.О.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истема оценки ЭУК «Школа  развития»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(Москв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истема оценки «Школа 2100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5f6d"/>
                </a:solidFill>
                <a:latin typeface="Century Schoolbook"/>
              </a:rPr>
              <a:t>А ФГОС И НЫНЕ ТАМ?</a:t>
            </a:r>
            <a:br>
              <a:rPr sz="2900"/>
            </a:br>
            <a:r>
              <a:rPr b="1" lang="ru-RU" sz="3100" spc="-1" strike="noStrike">
                <a:solidFill>
                  <a:srgbClr val="575f6d"/>
                </a:solidFill>
                <a:latin typeface="Century Schoolbook"/>
              </a:rPr>
              <a:t>Что может стать рычагом изменений?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78920" y="1916280"/>
            <a:ext cx="768348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арк Зелма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фесс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стонского университета, старший консультант Американского совета        по образованию США)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ведение новых инструментов оценки эффективнее, чем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вышение заработной платы учител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меньшение количества учащихся в клас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0" name="Picture 4" descr="0_subevent_265_1"/>
          <p:cNvPicPr/>
          <p:nvPr/>
        </p:nvPicPr>
        <p:blipFill>
          <a:blip r:embed="rId1"/>
          <a:stretch/>
        </p:blipFill>
        <p:spPr>
          <a:xfrm>
            <a:off x="7236000" y="2133720"/>
            <a:ext cx="14252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ru-RU" sz="2500" spc="-1" strike="noStrike">
                <a:solidFill>
                  <a:srgbClr val="ff0000"/>
                </a:solidFill>
                <a:latin typeface="Century Schoolbook"/>
              </a:rPr>
              <a:t>Общероссийская система оценки качества общего образования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(ОСОКО) </a:t>
            </a:r>
            <a:r>
              <a:rPr b="1" lang="ru-RU" sz="2500" spc="-1" strike="noStrike">
                <a:solidFill>
                  <a:srgbClr val="ff0000"/>
                </a:solidFill>
                <a:latin typeface="Century Schoolbook"/>
              </a:rPr>
              <a:t>– 2015 год</a:t>
            </a:r>
            <a:r>
              <a:rPr b="1" lang="ru-RU" sz="2300" spc="-1" strike="noStrike">
                <a:solidFill>
                  <a:srgbClr val="575f6d"/>
                </a:solidFill>
                <a:latin typeface="Arial"/>
              </a:rPr>
              <a:t> </a:t>
            </a:r>
            <a:br>
              <a:rPr sz="2300"/>
            </a:b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ТИПЫ ИНСТРУМЕНТАРИЯ</a:t>
            </a:r>
            <a:r>
              <a:rPr b="1" lang="ru-RU" sz="2200" spc="-1" strike="noStrike">
                <a:solidFill>
                  <a:srgbClr val="575f6d"/>
                </a:solidFill>
                <a:latin typeface="Arial"/>
              </a:rPr>
              <a:t> и ПРОЦЕДУРЫ ОЦЕНКИ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628280"/>
            <a:ext cx="82915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Тест достижений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оценка итогов достижений отдельных учащих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Тест готовнос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ли «прогностический тест»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ценка готовности к обучению на следующей ступе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Тест индивидуального прогресса: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возможность качественной оценки внутри одного возраст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агностический тест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диагностики освоения основных предметных и метапредметных способов/средств действий учащими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Экспертная оценка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тогового образовательного события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ектная задача, учебный проект…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ст достижений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23640" y="1412640"/>
            <a:ext cx="8064360" cy="51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5f6d"/>
                </a:solidFill>
                <a:latin typeface="Century Schoolbook"/>
              </a:rPr>
              <a:t>«Тест достижений»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оценочная процедура (ретроспективная оценка), которая проводится по завершению второй и третьей ступени общего образования (ГИА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ГЭ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– оценить выполнение ФГОС ОО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цедура носит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нормативный характе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Содержание КИМов не может выходить за рамки требований ФГОС. Заканчивается оценочная процедура обязательн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тоговой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ттестацие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аждого ученика с помощью балльной шкалы оценива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федерально-региональном уровн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рогностический тест (тест готовности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850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«Прогностический тест (тест готовности)»</a:t>
            </a:r>
            <a:r>
              <a:rPr b="1" i="1" lang="ru-RU" sz="20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ценочная процедура (прогностическая оценка), которая проводится на образовательных переходах с одной ступени на другую (1,5,10 классы), а также в 7 классе (переход от младшего подростка (5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классы) к подростковому возрасту (7-9 классы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лавная ц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определить уровень готовности учащихся к обучению на следующей ступе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ценивается не работа в целом, а определяется уровень выполнения  группы заданий на определенные умения. Используется исключительно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критериальная шкал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цениван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 КИМах используется как знакомый, так и новый для учащихся учебный материал. Процедура предполагает право выбора учащимися заданий для их выполнения. Результаты работы необходимы для проектирования «зоны ближайшего развития  учащихся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водится в рамках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региональных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мониторинговых  исследован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entury Schoolbook"/>
              </a:rPr>
              <a:t>Тест успешности 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индивидуального </a:t>
            </a:r>
            <a:r>
              <a:rPr b="1" lang="ru-RU" sz="2500" spc="-1" strike="noStrike">
                <a:solidFill>
                  <a:srgbClr val="ff0000"/>
                </a:solidFill>
                <a:latin typeface="Century Schoolbook"/>
              </a:rPr>
              <a:t>прогресса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23640" y="1196640"/>
            <a:ext cx="8351640" cy="51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575f6d"/>
                </a:solidFill>
                <a:latin typeface="Century Schoolbook"/>
              </a:rPr>
              <a:t>«Тест успешности (прогресса)»</a:t>
            </a: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оценочная процедура (ретроспективная оценка), которая проводится </a:t>
            </a: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по итогам учебного года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и относится к </a:t>
            </a: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промежуточно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аттестации школьников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Century Schoolbook"/>
              </a:rPr>
              <a:t>Основная цель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– фиксация индивидуального прогресса у учащихся в предметных  образовательных результатах. КИМы носят </a:t>
            </a: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уровневый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характер. Оценивание учащихся производится отдельно по каждому из трех уровней освоения предметных способов/средств действий (1 уровень –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ормальный (репродуктивный); 2 уровень – рефлексивный; 3 уровень –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ункциональный). На основе полученных данных строятся индивидуальные профили учащихся, а также класса, школы в целом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Главное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в такой процедуре – </a:t>
            </a: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сравнение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(дельта) с прошлыми результатами подобной работы. КИМы разрабатываются под ключевые (ядерные) понятия курса (предмета). Данная оценочная процедура проводится </a:t>
            </a:r>
            <a:r>
              <a:rPr b="0" i="1" lang="ru-RU" sz="1900" spc="-1" strike="noStrike">
                <a:solidFill>
                  <a:srgbClr val="000000"/>
                </a:solidFill>
                <a:latin typeface="Century Schoolbook"/>
              </a:rPr>
              <a:t>на уровне образовательного учреждения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 силами администрации (школьной лаборатории оценки качества образования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Диагностический тест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23640" y="1125000"/>
            <a:ext cx="813564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5f6d"/>
                </a:solidFill>
                <a:latin typeface="Century Schoolbook"/>
              </a:rPr>
              <a:t>«Диагностический тест»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– оценочная процедура (рефлексивная оценка), которая проводится в ходе изучения того или иного учебного предмета и напрямую связана с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формирующим оцениванием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в классе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Цель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добных процедур – проведение </a:t>
            </a: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«точечной» диагностики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своения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основных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предметных и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метапредметных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способов/средств действий учащимися для организации адресной коррекционной индивидуально-групповой работы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КИМы носят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операциональный характер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Для оценки результатов подобных текстов может использоваться только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бинарная шкала оценивания.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Данная оценочная процедура используется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исключительно учителями и учащимися О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овое образовательное событие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24000" y="1268280"/>
            <a:ext cx="820872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«Экспертная оценка образовательного событ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» - оценочная процедура (экспертная оценка), которая проводится за пределами класса, урока и носит, как правило, межвозрастной и межпредметный характер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Приме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ы задач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роектные, исследовательские и художественно-творческие задачи, которые решаются на протяжении продолжительного времени в малой групп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Главная ц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такой процедуры – оценить формирование у учащихся тех метапредметных и личностных образовательных результатов, которые не в полной мере могут быть оценены с помощью измер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естов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Оценка производится  экспертами с помощью встроенного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аблюдения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ценочная процедура может использоваться как образовательным учреждением самостоятельно, так и может быть использована при аккредитации ОУ, а также в государственной итоговой аттестации 9,11 класс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"/>
          <p:cNvSpPr/>
          <p:nvPr/>
        </p:nvSpPr>
        <p:spPr>
          <a:xfrm>
            <a:off x="198360" y="189000"/>
            <a:ext cx="8755200" cy="648648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Helvetica Neue"/>
              </a:rPr>
              <a:t>Проектная задача как инструмент оцен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апредметных результатов учащихся (</a:t>
            </a:r>
            <a:r>
              <a:rPr b="1" lang="en-US" sz="2400" spc="-1" strike="noStrike">
                <a:solidFill>
                  <a:srgbClr val="ff0000"/>
                </a:solidFill>
                <a:latin typeface="Helvetica Neue"/>
              </a:rPr>
              <a:t>коммуникативной и информационной грамотност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064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5f6d"/>
                </a:solidFill>
                <a:latin typeface="Century Schoolbook"/>
              </a:rPr>
              <a:t>Проектная задача</a:t>
            </a:r>
            <a:r>
              <a:rPr b="1" lang="en-US" sz="2400" spc="-1" strike="noStrike">
                <a:solidFill>
                  <a:srgbClr val="1a1a1a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1a1a1a"/>
                </a:solidFill>
                <a:latin typeface="Century Schoolbook"/>
              </a:rPr>
              <a:t>-  система или набор заданий, целенаправленно стимулирующих систему детских  действий, направленных на получение еще никогда не существовавшего в практике ребенка результата </a:t>
            </a:r>
            <a:r>
              <a:rPr b="0" lang="ru-RU" sz="2400" spc="-1" strike="noStrike">
                <a:solidFill>
                  <a:srgbClr val="1a1a1a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1a1a1a"/>
                </a:solidFill>
                <a:latin typeface="Century Schoolbook"/>
              </a:rPr>
              <a:t>«продукта»,  в ходе решения которой происходит качественное изменение группы детей</a:t>
            </a:r>
            <a:r>
              <a:rPr b="0" lang="ru-RU" sz="2400" spc="-1" strike="noStrike">
                <a:solidFill>
                  <a:srgbClr val="1a1a1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1a1a"/>
                </a:solidFill>
                <a:latin typeface="Arial"/>
              </a:rPr>
              <a:t>Примеры:</a:t>
            </a:r>
            <a:r>
              <a:rPr b="0" lang="ru-RU" sz="2400" spc="-1" strike="noStrike">
                <a:solidFill>
                  <a:srgbClr val="1a1a1a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овневые компетентностные задачи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инипроекты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1"/>
          <p:cNvSpPr/>
          <p:nvPr/>
        </p:nvSpPr>
        <p:spPr>
          <a:xfrm>
            <a:off x="198360" y="189000"/>
            <a:ext cx="8755200" cy="648648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1" name="Line 2"/>
          <p:cNvSpPr/>
          <p:nvPr/>
        </p:nvSpPr>
        <p:spPr>
          <a:xfrm>
            <a:off x="193680" y="5880240"/>
            <a:ext cx="876132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1"/>
          <a:srcRect l="2650" t="0" r="2689" b="0"/>
          <a:stretch/>
        </p:blipFill>
        <p:spPr>
          <a:xfrm>
            <a:off x="258840" y="254160"/>
            <a:ext cx="4278240" cy="55544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4" descr=""/>
          <p:cNvPicPr/>
          <p:nvPr/>
        </p:nvPicPr>
        <p:blipFill>
          <a:blip r:embed="rId2"/>
          <a:srcRect l="7758" t="0" r="7753" b="0"/>
          <a:stretch/>
        </p:blipFill>
        <p:spPr>
          <a:xfrm>
            <a:off x="4597560" y="254160"/>
            <a:ext cx="4286160" cy="555444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66760" y="5892480"/>
            <a:ext cx="387360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75f6d"/>
                </a:solidFill>
                <a:latin typeface="Century Schoolbook"/>
              </a:rPr>
              <a:t>экспертные листы</a:t>
            </a:r>
            <a:endParaRPr b="0" lang="en-US" sz="1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6760" y="634968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Schoolbook"/>
              </a:rPr>
              <a:t>наблюдения за действиями детской группы, 3 день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4211640" y="5892840"/>
            <a:ext cx="47419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83a6"/>
                </a:solidFill>
                <a:latin typeface="Calibri"/>
              </a:rPr>
              <a:t>сводная таблица вклада каждого ребенка группы 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483a6"/>
                </a:solidFill>
                <a:latin typeface="Calibri"/>
              </a:rPr>
              <a:t>в общий результат проектной задачи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"/>
          <p:cNvSpPr/>
          <p:nvPr/>
        </p:nvSpPr>
        <p:spPr>
          <a:xfrm>
            <a:off x="198360" y="189000"/>
            <a:ext cx="8755200" cy="648648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18" name="Line 2"/>
          <p:cNvSpPr/>
          <p:nvPr/>
        </p:nvSpPr>
        <p:spPr>
          <a:xfrm>
            <a:off x="193680" y="5880240"/>
            <a:ext cx="876132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19" name="Picture 3" descr=""/>
          <p:cNvPicPr/>
          <p:nvPr/>
        </p:nvPicPr>
        <p:blipFill>
          <a:blip r:embed="rId1"/>
          <a:srcRect l="144" t="5899" r="0" b="43404"/>
          <a:stretch/>
        </p:blipFill>
        <p:spPr>
          <a:xfrm>
            <a:off x="266760" y="266760"/>
            <a:ext cx="8623080" cy="556272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8640" y="58816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575f6d"/>
                </a:solidFill>
                <a:latin typeface="Century Schoolbook"/>
              </a:rPr>
              <a:t>экспертный лист</a:t>
            </a:r>
            <a:endParaRPr b="0" lang="en-US" sz="1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66400" y="6349680"/>
            <a:ext cx="8623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сформированность метапредметных образовательных результатов участниками групп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Schoolbook"/>
              </a:rPr>
              <a:t>Оценка внеучебных достижений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6840" y="1268280"/>
            <a:ext cx="793116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«Оценка внеучебных достижений</a:t>
            </a: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оценочная процедура (публичная оценка), которая может проводиться, как минимум, в двух формах: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ортфолио и публичное представление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своих достижений (соревнование, спектакль, конференция, выставка и т.п.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сновная ц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этой процедуры – сделать внеучебные достижения школьников такими же значимыми для всех, как и учебные достижения. Предлагаемые формы этой оценочной процедуры позволят каждому учащемуся продемонстрировать то, что он сам считает достойным публичной оценки. Такая оценочная процедура позволяет «уравнять» в сознании школьника значимость его учебных и внеучебных достижений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этапе 9,11 класса в перспективе данная оценочная процедура может стать обязательной и включенной в государственную итоговую аттестаци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655164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Вопросы и проблем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AutoShape 9"/>
          <p:cNvSpPr/>
          <p:nvPr/>
        </p:nvSpPr>
        <p:spPr>
          <a:xfrm>
            <a:off x="395280" y="1413000"/>
            <a:ext cx="4680000" cy="1296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ля чего измеряем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1403280" y="2781360"/>
            <a:ext cx="4753080" cy="12952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Что измеряем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4" name="AutoShape 11"/>
          <p:cNvSpPr/>
          <p:nvPr/>
        </p:nvSpPr>
        <p:spPr>
          <a:xfrm>
            <a:off x="2411280" y="4149720"/>
            <a:ext cx="460872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Чем измеряем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45" name="Picture 20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1656000" cy="128088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14"/>
          <p:cNvSpPr/>
          <p:nvPr/>
        </p:nvSpPr>
        <p:spPr>
          <a:xfrm>
            <a:off x="3419640" y="5445000"/>
            <a:ext cx="467964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 измеряем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47" name="Picture 114" descr="053"/>
          <p:cNvPicPr/>
          <p:nvPr/>
        </p:nvPicPr>
        <p:blipFill>
          <a:blip r:embed="rId2"/>
          <a:stretch/>
        </p:blipFill>
        <p:spPr>
          <a:xfrm>
            <a:off x="7380360" y="5445000"/>
            <a:ext cx="1439640" cy="1163880"/>
          </a:xfrm>
          <a:prstGeom prst="rect">
            <a:avLst/>
          </a:prstGeom>
          <a:ln w="28440">
            <a:solidFill>
              <a:srgbClr val="ff9933"/>
            </a:solidFill>
            <a:miter/>
          </a:ln>
        </p:spPr>
      </p:pic>
      <p:grpSp>
        <p:nvGrpSpPr>
          <p:cNvPr id="448" name="Group 2"/>
          <p:cNvGrpSpPr/>
          <p:nvPr/>
        </p:nvGrpSpPr>
        <p:grpSpPr>
          <a:xfrm>
            <a:off x="631080" y="1096200"/>
            <a:ext cx="1659240" cy="2261880"/>
            <a:chOff x="631080" y="1096200"/>
            <a:chExt cx="1659240" cy="2261880"/>
          </a:xfrm>
        </p:grpSpPr>
        <p:sp>
          <p:nvSpPr>
            <p:cNvPr id="449" name="Freeform 3"/>
            <p:cNvSpPr/>
            <p:nvPr/>
          </p:nvSpPr>
          <p:spPr>
            <a:xfrm flipH="1" rot="20004000">
              <a:off x="1260000" y="1152000"/>
              <a:ext cx="542160" cy="1353600"/>
            </a:xfrm>
            <a:custGeom>
              <a:avLst/>
              <a:gdLst>
                <a:gd name="textAreaLeft" fmla="*/ 360 w 542160"/>
                <a:gd name="textAreaRight" fmla="*/ 542880 w 54216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 flipH="1" rot="20004000">
              <a:off x="1322280" y="2378880"/>
              <a:ext cx="280440" cy="96732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51" name="Freeform 5"/>
            <p:cNvSpPr/>
            <p:nvPr/>
          </p:nvSpPr>
          <p:spPr>
            <a:xfrm flipH="1" rot="20004000">
              <a:off x="1652040" y="2584440"/>
              <a:ext cx="335520" cy="602280"/>
            </a:xfrm>
            <a:custGeom>
              <a:avLst/>
              <a:gdLst>
                <a:gd name="textAreaLeft" fmla="*/ 360 w 335520"/>
                <a:gd name="textAreaRight" fmla="*/ 336240 w 33552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52" name="Freeform 6"/>
            <p:cNvSpPr/>
            <p:nvPr/>
          </p:nvSpPr>
          <p:spPr>
            <a:xfrm flipH="1" rot="20004000">
              <a:off x="991800" y="1208520"/>
              <a:ext cx="936720" cy="1835280"/>
            </a:xfrm>
            <a:custGeom>
              <a:avLst/>
              <a:gdLst>
                <a:gd name="textAreaLeft" fmla="*/ 360 w 936720"/>
                <a:gd name="textAreaRight" fmla="*/ 937440 w 9367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53" name="Group 2"/>
          <p:cNvGrpSpPr/>
          <p:nvPr/>
        </p:nvGrpSpPr>
        <p:grpSpPr>
          <a:xfrm>
            <a:off x="1496160" y="2464560"/>
            <a:ext cx="1659240" cy="2261880"/>
            <a:chOff x="1496160" y="2464560"/>
            <a:chExt cx="1659240" cy="2261880"/>
          </a:xfrm>
        </p:grpSpPr>
        <p:sp>
          <p:nvSpPr>
            <p:cNvPr id="454" name="Freeform 3"/>
            <p:cNvSpPr/>
            <p:nvPr/>
          </p:nvSpPr>
          <p:spPr>
            <a:xfrm flipH="1" rot="20004000">
              <a:off x="2125080" y="2520360"/>
              <a:ext cx="542160" cy="1353600"/>
            </a:xfrm>
            <a:custGeom>
              <a:avLst/>
              <a:gdLst>
                <a:gd name="textAreaLeft" fmla="*/ 360 w 542160"/>
                <a:gd name="textAreaRight" fmla="*/ 542880 w 54216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55" name="Freeform 4"/>
            <p:cNvSpPr/>
            <p:nvPr/>
          </p:nvSpPr>
          <p:spPr>
            <a:xfrm flipH="1" rot="20004000">
              <a:off x="2187360" y="3747240"/>
              <a:ext cx="280440" cy="96732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56" name="Freeform 5"/>
            <p:cNvSpPr/>
            <p:nvPr/>
          </p:nvSpPr>
          <p:spPr>
            <a:xfrm flipH="1" rot="20004000">
              <a:off x="2517120" y="3952800"/>
              <a:ext cx="335520" cy="602280"/>
            </a:xfrm>
            <a:custGeom>
              <a:avLst/>
              <a:gdLst>
                <a:gd name="textAreaLeft" fmla="*/ 360 w 335520"/>
                <a:gd name="textAreaRight" fmla="*/ 336240 w 33552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flipH="1" rot="20004000">
              <a:off x="1856880" y="2576880"/>
              <a:ext cx="936720" cy="1835280"/>
            </a:xfrm>
            <a:custGeom>
              <a:avLst/>
              <a:gdLst>
                <a:gd name="textAreaLeft" fmla="*/ 360 w 936720"/>
                <a:gd name="textAreaRight" fmla="*/ 937440 w 9367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58" name="Group 2"/>
          <p:cNvGrpSpPr/>
          <p:nvPr/>
        </p:nvGrpSpPr>
        <p:grpSpPr>
          <a:xfrm>
            <a:off x="2504160" y="3760200"/>
            <a:ext cx="1658880" cy="2261520"/>
            <a:chOff x="2504160" y="3760200"/>
            <a:chExt cx="1658880" cy="2261520"/>
          </a:xfrm>
        </p:grpSpPr>
        <p:sp>
          <p:nvSpPr>
            <p:cNvPr id="459" name="Freeform 3"/>
            <p:cNvSpPr/>
            <p:nvPr/>
          </p:nvSpPr>
          <p:spPr>
            <a:xfrm flipH="1" rot="20004000">
              <a:off x="3133080" y="3815280"/>
              <a:ext cx="541800" cy="1353600"/>
            </a:xfrm>
            <a:custGeom>
              <a:avLst/>
              <a:gdLst>
                <a:gd name="textAreaLeft" fmla="*/ -360 w 541800"/>
                <a:gd name="textAreaRight" fmla="*/ 541800 w 54180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 flipH="1" rot="20004000">
              <a:off x="3195360" y="5042520"/>
              <a:ext cx="280440" cy="96732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 flipH="1" rot="20004000">
              <a:off x="3525480" y="5247720"/>
              <a:ext cx="335160" cy="602280"/>
            </a:xfrm>
            <a:custGeom>
              <a:avLst/>
              <a:gdLst>
                <a:gd name="textAreaLeft" fmla="*/ -360 w 335160"/>
                <a:gd name="textAreaRight" fmla="*/ 335160 w 33516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 flipH="1" rot="20004000">
              <a:off x="2865240" y="3872520"/>
              <a:ext cx="936360" cy="1835280"/>
            </a:xfrm>
            <a:custGeom>
              <a:avLst/>
              <a:gdLst>
                <a:gd name="textAreaLeft" fmla="*/ -360 w 936360"/>
                <a:gd name="textAreaRight" fmla="*/ 936360 w 93636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grpSp>
        <p:nvGrpSpPr>
          <p:cNvPr id="463" name="Group 2"/>
          <p:cNvGrpSpPr/>
          <p:nvPr/>
        </p:nvGrpSpPr>
        <p:grpSpPr>
          <a:xfrm>
            <a:off x="-411840" y="-272160"/>
            <a:ext cx="1659240" cy="2261880"/>
            <a:chOff x="-411840" y="-272160"/>
            <a:chExt cx="1659240" cy="2261880"/>
          </a:xfrm>
        </p:grpSpPr>
        <p:sp>
          <p:nvSpPr>
            <p:cNvPr id="464" name="Freeform 3"/>
            <p:cNvSpPr/>
            <p:nvPr/>
          </p:nvSpPr>
          <p:spPr>
            <a:xfrm flipH="1" rot="20004000">
              <a:off x="217080" y="-215640"/>
              <a:ext cx="542160" cy="1353600"/>
            </a:xfrm>
            <a:custGeom>
              <a:avLst/>
              <a:gdLst>
                <a:gd name="textAreaLeft" fmla="*/ 360 w 542160"/>
                <a:gd name="textAreaRight" fmla="*/ 542880 w 542160"/>
                <a:gd name="textAreaTop" fmla="*/ 0 h 1353600"/>
                <a:gd name="textAreaBottom" fmla="*/ 1353960 h 135360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 flipH="1" rot="20004000">
              <a:off x="279360" y="1010520"/>
              <a:ext cx="280440" cy="96732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967320"/>
                <a:gd name="textAreaBottom" fmla="*/ 967680 h 96732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 flipH="1" rot="20004000">
              <a:off x="609120" y="1216080"/>
              <a:ext cx="335520" cy="602280"/>
            </a:xfrm>
            <a:custGeom>
              <a:avLst/>
              <a:gdLst>
                <a:gd name="textAreaLeft" fmla="*/ 360 w 335520"/>
                <a:gd name="textAreaRight" fmla="*/ 336240 w 33552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 flipH="1" rot="20004000">
              <a:off x="-50760" y="-159480"/>
              <a:ext cx="936720" cy="1835280"/>
            </a:xfrm>
            <a:custGeom>
              <a:avLst/>
              <a:gdLst>
                <a:gd name="textAreaLeft" fmla="*/ 360 w 936720"/>
                <a:gd name="textAreaRight" fmla="*/ 937440 w 9367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pic>
        <p:nvPicPr>
          <p:cNvPr id="468" name="Picture 18" descr="9"/>
          <p:cNvPicPr/>
          <p:nvPr/>
        </p:nvPicPr>
        <p:blipFill>
          <a:blip r:embed="rId3"/>
          <a:stretch/>
        </p:blipFill>
        <p:spPr>
          <a:xfrm>
            <a:off x="6156360" y="4149720"/>
            <a:ext cx="1368360" cy="11890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8" descr="i.jpg"/>
          <p:cNvPicPr/>
          <p:nvPr/>
        </p:nvPicPr>
        <p:blipFill>
          <a:blip r:embed="rId4"/>
          <a:stretch/>
        </p:blipFill>
        <p:spPr>
          <a:xfrm>
            <a:off x="4788000" y="1413000"/>
            <a:ext cx="1050840" cy="12952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5"/>
          <a:stretch/>
        </p:blipFill>
        <p:spPr>
          <a:xfrm>
            <a:off x="7020000" y="189000"/>
            <a:ext cx="1857240" cy="7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ниторинг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68000" y="1125000"/>
            <a:ext cx="806436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5f6d"/>
                </a:solidFill>
                <a:latin typeface="Century Schoolbook"/>
              </a:rPr>
              <a:t>«Мониторинговые исследования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– оценочная процедура, которая связана с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аблюдением за состоянием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результатов, процесса, условий) по определенным постоянно действующим параметрам в определенное врем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Основная цел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данной процедуры – оценивать текущее состояние системы образования (ее отдельных элементов) для определения последующих шагов по коррекции тех или иных составных частей системы образован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мониторинговых исследованиях персонально ученик не оценивается. Оценивание происходит по специально разработанным критериям и параметрам. Полученные результаты обязательно сравниваются с предыдущими подобными замерами и на основе делаются определенные выводы и рекомендации по состоянию исследуемого объект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Данная оценочная процедура может проводиться на любом уровне управления образованием.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Никаких последствий для участников исследования не должно быт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Возможные типы заданий для оценки основ учебной грамотности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50560" y="954000"/>
            <a:ext cx="8281800" cy="590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дания с приведенными ошибочными решениями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пособы решения должны быть подробно показаны). Ошибочные решения должны быть двух типов: а) ответ правильный, но способ решения неправильный; б) способ правильный, но ответ неправильный. Ученик должен найти ошибки и указать их прич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Задания, в которых учащийся должен самостоятельно выдвинуть критерии и оценить свою работу по этим критерия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Задания с готовым решением и выделением нескольких критериев. Учащимся необходимо оценивать правильность выполнения задания по этим критерия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 Дано нескольких заданий. Ученик должен оценить, какие он может решить, а какие – нет (задание на выявление границы применимости того или иного способа действия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Возможные типы заданий для оценки основ учебной грамотности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50560" y="1484280"/>
            <a:ext cx="8281800" cy="5184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Дано задание и небольшой «справочник» (текст, не входящий непосредственно в задание, возможно, избыточный). При решении учащийся должен использовать справочник.(Задание должно быть таким, чтобы выполнить его без справочника учащийся не мог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6) Дано набор задач, одни из которых решить можно, а другие решить невозможно, так как не хватает каких-либо данных. Учащимся необходимо найти такие задачи и сформулировать запрос на недостающие данны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7) Дано задание, его решение, содержащее ошибку, и набор карточек с дополнительными заданиями (без решений). Нужно выбрать ту карточку, которая поможет разобраться с ошиб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entury Schoolbook"/>
              </a:rPr>
              <a:t>Возможные типы заданий для оценки основ информационной грамотности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23640" y="981000"/>
            <a:ext cx="8351640" cy="51451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     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Для 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оценки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информационной грамотности используются прежде всего тексты, различающемся </a:t>
            </a:r>
            <a:r>
              <a:rPr b="1" lang="ru-RU" sz="2000" spc="-1" strike="noStrike">
                <a:solidFill>
                  <a:srgbClr val="0033cc"/>
                </a:solidFill>
                <a:latin typeface="Century Schoolbook"/>
              </a:rPr>
              <a:t>по формату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(сплошные, несплошные, смешанные и составные) </a:t>
            </a:r>
            <a:r>
              <a:rPr b="1" lang="ru-RU" sz="2000" spc="-1" strike="noStrike">
                <a:solidFill>
                  <a:srgbClr val="0033cc"/>
                </a:solidFill>
                <a:latin typeface="Century Schoolbook"/>
              </a:rPr>
              <a:t>и по описанию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(повествование, рассуждение, толкование, инструкция, переговоры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Для разработки  заданий использовали три основных действ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найти и извлечь </a:t>
            </a:r>
            <a:r>
              <a:rPr b="0" i="1" lang="ru-RU" sz="2000" spc="-1" strike="noStrike">
                <a:solidFill>
                  <a:srgbClr val="0033cc"/>
                </a:solidFill>
                <a:latin typeface="Century Schoolbook"/>
              </a:rPr>
              <a:t>(сообщение или информацию)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интегрировать и интерпретировать </a:t>
            </a:r>
            <a:r>
              <a:rPr b="0" i="1" lang="ru-RU" sz="2000" spc="-1" strike="noStrike">
                <a:solidFill>
                  <a:srgbClr val="0033cc"/>
                </a:solidFill>
                <a:latin typeface="Century Schoolbook"/>
              </a:rPr>
              <a:t>(сообщение)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, или – по-русски: связывать и толковать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осмыслить и оценить </a:t>
            </a:r>
            <a:r>
              <a:rPr b="0" i="1" lang="ru-RU" sz="2000" spc="-1" strike="noStrike">
                <a:solidFill>
                  <a:srgbClr val="0033cc"/>
                </a:solidFill>
                <a:latin typeface="Century Schoolbook"/>
              </a:rPr>
              <a:t>(сообщение)</a:t>
            </a: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айти несколько единиц информации, не сообщенной в явном виде и отвечающей нескольким критериям. Соединять вербальную и графическую информацию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entury Schoolbook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Определить основную мысль текста, понять отношения отдельных сообщений текста, построить или применить простые понятия, истолковать значение небольшой части текста. Искомая информация не выделена в тексте специально, но для ее понимания требуются простые мыслительные операции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Возможные типы заданий для оценки основ информационной грамотност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268280"/>
            <a:ext cx="8075520" cy="4857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3) Использование для заданий составных текстов ( письменный текст, таблица, график или диаграмма) в каждом из фрагмента текста сосредоточена часть информации. Для того, что бы выполнить задание необходимо сопоставить данную информацию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4) Точное выполнение инструкции для решения задачи или перевод текста-повествования в текст-инструкцию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5) Использование моделей (схем, чертежей, формул) для решения задачи  или перевод задачи с одного языка моделирования на другой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6) Извлечение из текста этапов эксперимента: гипотезы, способов ее проверки, формулировки выводов. Нахождение ошибок в проведении эксперимента;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7) Установление причинно-следственных  связей между единицами информации текста, заданного в разной форме (таблица, график, диаграмма) при условии, что в тексте есть противоречи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Возможные типы заданий для оценки основ коммуникативной грамотности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23640" y="1268280"/>
            <a:ext cx="8351640" cy="485784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 все аспекты коммуникативной грамотности можно оценить с помощью измерителей, но все же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 на позиционность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 в тексте высказано одна-две, три точки зрения. Необходимо отнестись к этим точкам зрения или одну из них поддержать, выдвинув свои аргументы в поддержку той или иной точки зрения, либо не согласиться ни с одной и обосновать свою точку зрения (письменная дискуссия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 на отношение к другому тексту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(письменный о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тзыв, рецензия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 на совпадение и расхождение позици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выявление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сути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разногласий, сравнительная оценка предложенных идей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в ходе решения конкретно-практической задачи;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дание для публичного выступления 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 заданную тему (краткий текс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500040" y="1642680"/>
            <a:ext cx="82152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емидова М.Ю. </a:t>
            </a:r>
            <a:r>
              <a:rPr b="0" lang="ru-RU" sz="2400" spc="-1" strike="noStrike">
                <a:solidFill>
                  <a:srgbClr val="052e65"/>
                </a:solidFill>
                <a:latin typeface="Candara"/>
              </a:rPr>
              <a:t>, Логинова О.Б.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зентация и материалы ФИП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ишман И.С., Голуб Г.Б.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Формирующая оценка образовательных результатов учащихся: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етодическое пособие. - Самара:  Учебная литература, 2007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Загребина М.Г., Плотникова А.Ю., Севостьянова О.В., Смирнова И.В.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есты внешней оценки уровня сформированности ключевых компетентностей учащихся: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етодическое пособие для руководителей и педагогов образовательных учреждений / под ред. И.С. Фишман. – Вып. 2 – Самара, 2006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айт «Эврика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ndara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Нормативные документ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1600200"/>
            <a:ext cx="8002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Федеральный з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кон «Об образовании в РФ» 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от 29.12.2012 N 273-ФЗ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становление Правительства РФ от 05.08.2013 N 662 "Об осуществлении мониторинга системы образования" (вместе с "Правилами осуществления мониторинга системы образования"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З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он «Об образовании в РФ» </a:t>
            </a:r>
            <a:br>
              <a:rPr sz="40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от 29.12.2012 N 273-ФЗ)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560" y="1628280"/>
            <a:ext cx="843588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татья 92 п. 19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just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принятии решения о государственной аккредитации образовательной деятельности аккредитационным органом выдается свидетельство о государственной аккредитации, срок действия которого составляет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шесть лет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организации, осуществляющей образовательную деятельность по основным профессиональным образовательным программа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двенадцать лет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организации, осуществляющей образовательную деятельность по основным общеобразовательным программа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Система оценивания результатов реализации ОПП строится на основе специального локального нормативно-правового документа на уровне учрежд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В этом документе фиксируется, что содержательный контроль и оценка предметных компетентностей учащихся предусматривают выявление </a:t>
            </a:r>
            <a:r>
              <a:rPr b="1" lang="ru-RU" sz="2400" spc="-1" strike="noStrike">
                <a:solidFill>
                  <a:srgbClr val="073e87"/>
                </a:solidFill>
                <a:latin typeface="Arial"/>
              </a:rPr>
              <a:t>индивидуальной динамики</a:t>
            </a: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 качества усвоения предмета учеником и  не допускают его сравнение с другими деть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1"/>
          <p:cNvSpPr/>
          <p:nvPr/>
        </p:nvSpPr>
        <p:spPr>
          <a:xfrm>
            <a:off x="1066680" y="2841480"/>
            <a:ext cx="7392960" cy="3993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ДОЛЖНЫ ИЗМЕНИТЬ НОВЫЕ СТАНДАРТЫ?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ая задача школы – дать хорошие, прочные…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НИЯ 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AFA5-AA01-40D6-8177-59CE3E7A7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611280" y="404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539640" y="2438280"/>
            <a:ext cx="828036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ТЕЛЬНЫЕ РЕЗУЛЬТАТЫ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1" name="Прямоугольник 1"/>
          <p:cNvSpPr/>
          <p:nvPr/>
        </p:nvSpPr>
        <p:spPr>
          <a:xfrm>
            <a:off x="0" y="2795760"/>
            <a:ext cx="9144000" cy="29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6443640" y="3114720"/>
            <a:ext cx="277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редметные </a:t>
            </a:r>
            <a:r>
              <a:rPr b="0" i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я, пре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 предмет-ных знан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3352680" y="3114720"/>
            <a:ext cx="309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ые учеб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ознава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регулятив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9410"/>
                </a:solidFill>
                <a:latin typeface="Arial"/>
              </a:rPr>
              <a:t>коммуникатив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34920" y="311472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ичностные</a:t>
            </a: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ностно-смысловые установки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й позиции,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гражданской идентичност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0" y="76320"/>
            <a:ext cx="9144000" cy="25574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ГОС – это требования к …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3429000" y="990720"/>
            <a:ext cx="2209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152280" y="990720"/>
            <a:ext cx="312444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вое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1066680" y="1676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5867280" y="990720"/>
            <a:ext cx="312444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ализаци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0" name="Group 17"/>
          <p:cNvGrpSpPr/>
          <p:nvPr/>
        </p:nvGrpSpPr>
        <p:grpSpPr>
          <a:xfrm>
            <a:off x="1599840" y="1752480"/>
            <a:ext cx="2895840" cy="838440"/>
            <a:chOff x="1599840" y="1752480"/>
            <a:chExt cx="2895840" cy="838440"/>
          </a:xfrm>
        </p:grpSpPr>
        <p:sp>
          <p:nvSpPr>
            <p:cNvPr id="491" name="Line 8"/>
            <p:cNvSpPr/>
            <p:nvPr/>
          </p:nvSpPr>
          <p:spPr>
            <a:xfrm>
              <a:off x="4495680" y="2209680"/>
              <a:ext cx="0" cy="381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2" name="Line 19"/>
            <p:cNvSpPr/>
            <p:nvPr/>
          </p:nvSpPr>
          <p:spPr>
            <a:xfrm flipH="1">
              <a:off x="1599840" y="2209680"/>
              <a:ext cx="28954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93" name="Line 20"/>
            <p:cNvSpPr/>
            <p:nvPr/>
          </p:nvSpPr>
          <p:spPr>
            <a:xfrm>
              <a:off x="1600200" y="1752480"/>
              <a:ext cx="0" cy="4572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494" name="Line 7"/>
          <p:cNvSpPr/>
          <p:nvPr/>
        </p:nvSpPr>
        <p:spPr>
          <a:xfrm>
            <a:off x="4500720" y="2795760"/>
            <a:ext cx="0" cy="404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5" name="Line 8"/>
          <p:cNvSpPr/>
          <p:nvPr/>
        </p:nvSpPr>
        <p:spPr>
          <a:xfrm flipH="1">
            <a:off x="1692360" y="2819520"/>
            <a:ext cx="745920" cy="314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6" name="Line 9"/>
          <p:cNvSpPr/>
          <p:nvPr/>
        </p:nvSpPr>
        <p:spPr>
          <a:xfrm>
            <a:off x="7162920" y="2819520"/>
            <a:ext cx="68580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7" name="Прямоугольник 2"/>
          <p:cNvSpPr/>
          <p:nvPr/>
        </p:nvSpPr>
        <p:spPr>
          <a:xfrm>
            <a:off x="152280" y="5468760"/>
            <a:ext cx="883944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оценки результатов ФГОС: КИМы, проверяющие не знания, а умения ими пользоваться – действия! (меняются ГИА и ЕГЭ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3"/>
          <p:cNvSpPr/>
          <p:nvPr/>
        </p:nvSpPr>
        <p:spPr>
          <a:xfrm>
            <a:off x="611280" y="1808280"/>
            <a:ext cx="244800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Стандарт 2004 г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ЗНАНИЕВАЯ</a:t>
            </a:r>
            <a:r>
              <a:rPr b="1" i="1" lang="en-US" sz="1800" spc="-1" strike="noStrike">
                <a:solidFill>
                  <a:srgbClr val="000000"/>
                </a:solidFill>
                <a:latin typeface="Candar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5580000" y="1808280"/>
            <a:ext cx="29876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ФГОС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ДЕЯТЕЛЬНОСТНАЯ</a:t>
            </a:r>
            <a:r>
              <a:rPr b="1" i="1" lang="en-US" sz="1800" spc="-1" strike="noStrike">
                <a:solidFill>
                  <a:srgbClr val="000000"/>
                </a:solidFill>
                <a:latin typeface="Candar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2340000" y="2637000"/>
            <a:ext cx="4103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Основа кодификатор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2376360" y="3573360"/>
            <a:ext cx="4103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Предмет оценк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395280" y="2852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ый минимум (ОМ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6516720" y="285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уемые результаты (ПР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7280" y="3824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воение всех элементов ОМ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6408720" y="375300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ь к реше-нию учебных задач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2268360" y="4545000"/>
            <a:ext cx="41040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Основные функци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468360" y="4941720"/>
            <a:ext cx="37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ратная связ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ной акцент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имущественно отсроченная коррекция учебников, методик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своением ОМ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8" name="Text Box 13"/>
          <p:cNvSpPr/>
          <p:nvPr/>
        </p:nvSpPr>
        <p:spPr>
          <a:xfrm>
            <a:off x="5580000" y="5013360"/>
            <a:ext cx="35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ратная связ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сновной ак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кущая коррекция процесса учения каждого учащегос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нт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достижением ПР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09" name="Прямоугольник 1"/>
          <p:cNvSpPr/>
          <p:nvPr/>
        </p:nvSpPr>
        <p:spPr>
          <a:xfrm>
            <a:off x="25092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ndara"/>
              </a:rPr>
              <a:t>Система оценки: переход от «знаниевой»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ndara"/>
              </a:rPr>
              <a:t>к «деятельностной» парадигме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560" y="337680"/>
            <a:ext cx="87138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Особенности системы оценки достижения планируемых результатов освоения основной образовательной программы</a:t>
            </a:r>
            <a:r>
              <a:rPr b="1" i="1" lang="ru-RU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комплексный подход к оценке результатов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образования, позволяющий вести оценку достижения учащимися всех трёх групп результатов образования: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личностных, метапредметных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предметных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уровневый подход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к содержанию оценки и инструментарию для оценки достижения планируемых результатов, а также к представлению и интерпретации результатов измерен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оценка индивидуальных образовательных достижений на основе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en-US" sz="2000" spc="-1" strike="noStrike">
                <a:solidFill>
                  <a:srgbClr val="073e87"/>
                </a:solidFill>
                <a:latin typeface="Candara"/>
              </a:rPr>
              <a:t>«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метода сложения</a:t>
            </a:r>
            <a:r>
              <a:rPr b="1" i="1" lang="en-US" sz="2000" spc="-1" strike="noStrike">
                <a:solidFill>
                  <a:srgbClr val="073e87"/>
                </a:solidFill>
                <a:latin typeface="Candara"/>
              </a:rPr>
              <a:t>»,</a:t>
            </a:r>
            <a:r>
              <a:rPr b="1" lang="en-US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ри котором фиксируется достижение уровня, необходимого для успешного продолжения образования и реально достигаемого большинством учащихся, и его превышение, что позволяет выстраивать </a:t>
            </a:r>
            <a:r>
              <a:rPr b="1" i="1" lang="ru-RU" sz="2000" spc="-1" strike="noStrike">
                <a:solidFill>
                  <a:srgbClr val="073e87"/>
                </a:solidFill>
                <a:latin typeface="Candara"/>
              </a:rPr>
              <a:t>индивидуальные траектории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 движения с учётом зоны ближайшего развития, формировать положительную учебную и социальную мотивац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0:34:08Z</dcterms:created>
  <dc:creator>марина</dc:creator>
  <dc:description/>
  <dc:language>en-US</dc:language>
  <cp:lastModifiedBy>ФГОС-2</cp:lastModifiedBy>
  <dcterms:modified xsi:type="dcterms:W3CDTF">2014-05-23T09:41:32Z</dcterms:modified>
  <cp:revision>71</cp:revision>
  <dc:subject/>
  <dc:title>Подходы к диагностике учебных достижений в рамках требований ФГОС</dc:title>
</cp:coreProperties>
</file>