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40EC-51DD-4AED-AE5D-ED44473F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1010-FCD2-415B-BE93-B56EBB0A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36C44-68FB-40EB-92D1-7ED6F600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ABBF50-E60E-4EC6-A461-70165F14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A5948-EAF6-43C3-8B23-ADF3B9B4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75A5E6-D0A3-48AD-8DC2-6FC8A0FA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9E88E-A28F-4E6F-9DE3-4158865F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90EB6-61FB-472E-9C55-CC265487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3F14C-8745-459F-B828-97EF1CE7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5F2CB9-B46E-4BEE-91A7-F812FE07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BD1689-3AF2-43B7-B499-D73F22EC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6F38F2-481E-431F-967D-B5C4CD8E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7CD-F971-4E89-B442-6628E65E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03912C-9E0D-4515-823D-8DD94158E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CEA9F1-F77C-4BE6-9317-F561C74D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FA8C77-89BA-4D79-A5F5-518A6D6E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C53E9F-1B94-4C60-9435-86925245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969C03-CD51-4DBD-A81F-C6469770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B7DAA6-F534-4691-9334-52FEF94C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9D6C00-7C7B-42F4-952D-6E9AFD8B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2628E8-4862-4FA6-A00B-7547054B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4644F6-78E5-4DC3-8204-044F91C4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AAA8E6-4012-4A7A-AF0D-F957C681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93B-87C8-451E-9AF7-E6949818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BD0952-37F1-4C56-B443-597ABE88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59B92F-3691-44FD-A8AE-6BD74BBF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7D8DE-A779-4D2B-B2BD-5F82C3F9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64479-2AB3-4612-A674-1BE1B693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255D0-22B3-414F-BFD1-B2314033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444B15-E2DB-42EA-A2EF-91DB36DE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46E90-7909-4814-A820-C0B11A2C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483532-437F-4B18-A2CB-29863C66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ACD24-8F90-4746-8ABF-64936BA6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E575D8-88E3-464B-8AB2-B182405C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1AF8-0AD2-4E00-98E1-DD8C9554D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0C7D0-16B9-4445-85FA-0798A28C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2F8FD-A2EA-4D95-A97A-BFF0676C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8FF84-1C22-42BA-A4EC-21396D97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5931D7-5042-432B-BCC3-DC0C09D98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BF948F-5928-49C2-9F5D-CC31E70C8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69346E-A11E-48FB-A096-C88F94AE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5FC291-C526-4F20-9544-C5EE4C41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09060-38AC-49F1-A31A-4788A9E9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27F298-D1C2-43A9-9036-EA8BE952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204D99-216B-4A65-AD9D-E4BE302E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7BCB-F76A-4E98-B015-72AB939A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463430-176F-465A-8BC8-CB11791A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492E6C-6B40-43E1-AEDE-E59AAACA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47D9C-CD52-4C46-9CC8-317EBEEE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3B2C18-E647-46A1-A846-F454B452D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BEC21-0F85-4659-AF96-13E145BA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A7F8-20D7-408A-9839-D1BA869B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05B9-D349-4B45-AEE9-4C1305E9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0EA9-3B6F-44D7-95AA-0BC7CBEA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8B4F-B91C-4FEF-AEF7-931DAB2D7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4BE35-979C-4B97-8778-CC7F367E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FB0-F344-48EA-B41C-97386C47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E26E-34AC-4257-BF69-0A48024B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3558-026A-44C2-A8CE-074B1CF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74974-9647-460E-AD84-ABB1CD13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B027-C917-4E92-BC06-A4B8F7645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C3CF-7AFB-4AAC-91D4-E416ECD4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16BC2-AB14-4AFD-81A5-A9E216CF3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C8449-A8DC-4F5F-ADC2-F2E09F13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F4659-966B-43FF-BBB9-D8921A29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2DD47-83BA-405A-BC30-F107110A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3EE51-DE22-4C0A-80AB-828271E4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81F4-32E2-48BD-9F80-5D15F0DD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147F2-AA6A-45AF-8199-A94D0767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54B00-FCA7-4355-8035-1858036F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80EF9-D3DB-4402-B52A-1E607E62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55C82-2B8C-4940-A6F3-CF083574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64342-4335-445E-89D2-43252D07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0501F-286F-413F-BA94-95C910C7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37462-6753-42EA-A44C-F8C1F97A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C62F0-DBDD-4FB2-AFE2-AAA56E4EA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5454A-564A-43E1-A65F-CB9A2289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2A67C-1AD6-415A-89B2-2D571E83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77A-260E-4433-B432-02FAC9874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DC63A-176B-408E-BC62-06A977B7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1FD6-9010-4108-B3CB-618290E0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9B1F9-8D58-4790-B005-29460437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1145-17E6-46D7-BCBF-DACF276E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3A11A-E209-444C-BE2F-9B48161C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D6798-1A6A-4785-8268-26D65FA6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AD48E-4DEA-4725-88F7-4BF344FE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FD842-DC7E-4DCB-9A3C-80D05B1FA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9D66B-CB8F-4A7D-9C25-4B83F07D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683E2-06C9-4CC9-9782-27B218B8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7BD-FDC6-4419-9F60-587CC461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33510-A1E4-4E33-B5EC-394FC4F6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136D4-4140-4755-8E02-469FE4BA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17115-1923-4D97-AB61-BB8AD48A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030CB-08C2-4295-AB86-75B980315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D4DBD-94F0-4D0E-8688-105EE8AA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84E1D-AB54-4FB7-9F4F-53397D99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91B34-265D-4861-BEDA-43F57EB1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0F124-5986-4D3A-80E6-EB55EF49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98E2D-D64F-44C8-96E3-310B5F1B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98F76-E195-4F7F-84BD-3670CA7C0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8CF-0A51-4D0E-ADB1-C7A79BD9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B5200-E240-44E8-9753-122E2A8B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925DD-368D-4C8E-A0A3-E86F8F11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23383-FC25-4C3C-ACD9-56DE93FB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2E271-DA98-4BB3-B74D-CC141F41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C2332-D0F7-4C42-8D2B-F18A7C87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66B45-E5C8-4B29-BF16-0D64021F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60B8C-50B5-4369-AA9D-2296A262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45F3A-6636-4E1E-B31C-8587DF7E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CB3A0-1956-43B3-BD51-3469492D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A107E-D595-4C23-B1D3-A1266FFC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4C5F-C5DE-4874-BCFA-0F2BA163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D3FBD-BA33-411B-B1CA-B1AE0627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52A8E-B404-461F-BA5D-9BFD9B59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250FD-4DD0-4614-B6E8-835F0810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05641-300A-4A94-96D0-2B3E234F4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6676F-C4EB-426C-896E-31CB1011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C8DB2-DEDC-498F-8A39-BFD00B50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E2279-C743-4C5E-8F36-000641C0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8FB25-8F89-4845-8123-D77FA9B1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0993D-4DBD-4BC8-98BC-567646798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39C77-A2AF-4A5F-96A0-DE4632B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FDA3-EA99-43B5-8276-BF507E8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49CD5-4E88-4839-85F1-B7E49D3F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3A50B-3E18-4735-BBC5-A763CDEB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FDD8C-2FAB-4B54-A5B6-D643D26A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93391-39F3-4DAE-968B-E0C5FE314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2B3ABC-E2C3-4487-B4F9-222DDAB5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11A69-6335-40D8-83F6-4D4F8865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38D5E-5F6E-45D5-9A3C-7144AE94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FA4E4-1888-4A15-B382-9989F4E8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124F5-C89F-483A-AA7B-888AB111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5C9F9-75B2-4867-B18D-5F52E703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6981-23FC-4229-A86B-ABE56604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C00DA-BD62-493C-B669-179A6B65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9ABE6-363E-4E76-9E5A-5FAB36D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5492E-FC75-4744-AEF9-47AFBB3D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174C1-FB2F-49E1-917C-D9B03CFE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EC0D3-BC4F-41EE-AC5D-5AE09E0A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DD9C3-8814-4016-A387-E92648A4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3BE45-182C-45BC-9CE8-FCAA283E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10642-4F69-41CC-AF6F-C1813A21E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78BB0C-7053-47BE-8110-952CE87E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62365D-33B1-46D2-81D2-AFA9FE9D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E670-A2CD-45DC-96F2-FE1FF955EE6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456C-2860-4A45-90B0-B89B62A95BE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B9C93-3896-4769-9318-6AB862E5E03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5FDC-214B-4019-9689-CAAAB2B6940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A2B4-CC65-4C10-AED9-493BB6AE485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F164-869F-434F-803D-5BC376264D5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EDAE-E332-408B-B019-BF29B9D937C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0B18-4E85-4DEF-977F-30270311095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EA5F9-3CB5-409C-B035-BC455860470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64B8-4BD6-40C6-9511-9026E465D3C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C5BA-8BBE-43AA-8FEF-4E0A80CD4473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C503-4044-4DAC-BE2A-FAD13A67D85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ippdrao.ru/" TargetMode="External"/><Relationship Id="rId2" Type="http://schemas.openxmlformats.org/officeDocument/2006/relationships/hyperlink" Target="mailto:ippdrao@yandex.ru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79280" y="2707920"/>
            <a:ext cx="8785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ПРОЕКТИРОВАНИЕ ПРЕДМЕТНО-ПРОСТРАНСТВЕННОЙ РАЗВИВАЮЩЕЙ ОБРАЗОВАТЕЛЬНОЙ СРЕДЫ В ДОШКОЛЬНОЙ ОБРАЗОВАТЕЛЬНОЙ ОРГАНИЗАЦИИ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d16349"/>
                </a:solidFill>
                <a:latin typeface="Georgia"/>
              </a:rPr>
              <a:t> </a:t>
            </a:r>
            <a:br>
              <a:rPr sz="3800"/>
            </a:br>
            <a:r>
              <a:rPr b="1" lang="ru-RU" sz="2000" spc="-1" strike="noStrike">
                <a:solidFill>
                  <a:srgbClr val="d16349"/>
                </a:solidFill>
                <a:latin typeface="Georgia"/>
              </a:rPr>
              <a:t>СЕМИНАР</a:t>
            </a:r>
            <a:r>
              <a:rPr b="1" i="1" lang="ru-RU" sz="3800" spc="-1" strike="noStrike">
                <a:solidFill>
                  <a:srgbClr val="d16349"/>
                </a:solidFill>
                <a:latin typeface="Georgia"/>
              </a:rPr>
              <a:t> </a:t>
            </a:r>
            <a:br>
              <a:rPr sz="3800"/>
            </a:br>
            <a:r>
              <a:rPr b="1" lang="ru-RU" sz="2000" spc="-1" strike="noStrike">
                <a:solidFill>
                  <a:srgbClr val="d16349"/>
                </a:solidFill>
                <a:latin typeface="Georgia"/>
              </a:rPr>
              <a:t>Введение Федерального государственного образовательного стандарта дошкольного образования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d16349"/>
                </a:solidFill>
                <a:latin typeface="Georgia"/>
              </a:rPr>
              <a:t>г. Смоленск, 9 июня 2014 г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78544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ПОЛИФУНКЦИОНАЛЬНОСТЬ МАТЕРИАЛОВ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) Полифункциональность материалов предполагает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озможность разнообразного использования различных составляющих предметной среды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например, детской мебели, матов, мягких модулей, ширм и т.д.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наличие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олифункциональных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(не обладающих жестко закрепленным способом употребления)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едметов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в том числе природных материалов, пригодных для использования в разных видах детской активности (в том числе в качестве предметов-заместителей в детской игре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ВАРИАТИВНОСТЬ СРЕД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 Вариативность среды предполагает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наличие различных пространств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для игры, конструирования, уединения и пр.), а также разнообразных материалов, игр, игрушек и оборудования, обеспечивающих свободный выбор дете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периодическую сменяемость игрового материал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появление новых предметов, стимулирующих игровую, двигательную, познавательную и исследовательскую активность дет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ДОСТУПНОСТЬ СРЕД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 Доступность среды предполагает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доступность для воспитанников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в том числе детей с ограниченными возможностями здоровья и детей-инвалидов, всех помещений, где осуществляется образовательная деятельность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свободный доступ детей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в том числе детей с ограниченными возможностями здоровья, к играм, игрушкам, материалам, пособиям, обеспечивающим все основные виды детской активно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Georgia"/>
              </a:rPr>
              <a:t>исправность и сохранност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атериалов и оборудова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БЕЗОПАСНОСТЬ ПРЕДМЕТНО-ПРОСТРАНСТВЕННОЙ СРЕД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6) Безопасность предметно-пространственной среды предполагает </a:t>
            </a: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соответствие всех ее элементов требованиям по обеспечению надежности и безопасности их использовани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ПОСОБ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Короткова Н.А., Глушкова Г.В., Мусиенко С.И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едметно-пространственная среда детского сада: старший дошкольный возраст: пособие для воспитателей / Под редакцией Коротковой Н.А. – М.: ЛИНКА-Пресс, 2010. – 96 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пособии представлена концепция проектирования предметно-пространственной среды для детей старшего дошкольного возраста в дошкольных учреждениях; предложены конкретные варианты устройства групповых помещений в детских садах разного типа (со спальнями и без спален); варианты организации среды подкреплены иллюстративным материалом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воспитателей детских садов, для педагогов, работающих с детьми старшего дошкольного возраста в рамках других образовательных и культурно-досуговых учрежде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ПОСОБИЯ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атериалы и оборудование для детского сада: пособие для воспитателей и заведующих / Под редакцией Дороновой Т.Н. Коротковой Н.А. – М.: ЛИНКА-Пресс, 2011. – 96 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Для заведующих и воспитателей детских садов, для педагогов, работающих с детьми старшего дошкольного возраста в рамках других образовательных и культурно-досуговых учреждени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СПАСИБО ЗА ВНИМАНИЕ!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УСПЕХОВ В РАБОТЕ!!!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287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Контакты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ippdrao.r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Электронная почта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3d6"/>
                </a:solidFill>
                <a:uFillTx/>
                <a:latin typeface="Georgia"/>
                <a:ea typeface="Aharoni"/>
                <a:hlinkClick r:id="rId2"/>
              </a:rPr>
              <a:t>ippdrao@yandex.r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Телефон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8-499-246-83-0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8" name="Picture 2" descr="http://img-fotki.yandex.ru/get/5608/funtry.44/0_5c3bd_5cf090f2_XXL.jpeg"/>
          <p:cNvPicPr/>
          <p:nvPr/>
        </p:nvPicPr>
        <p:blipFill>
          <a:blip r:embed="rId3"/>
          <a:srcRect l="0" t="6901" r="0" b="6901"/>
          <a:stretch/>
        </p:blipFill>
        <p:spPr>
          <a:xfrm>
            <a:off x="3000240" y="609480"/>
            <a:ext cx="586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СНОВНЫЕ ПРИНЦИПЫ ДОШКОЛЬНОГО ОБРАЗОВА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79280" y="152712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лноценное проживание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бёнком всех этапов детств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огащение  (амплификация)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детского развит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) построение образовательной деятельности на основе индивидуальных особенностей каждого ребенка, при котором сам ребенок становится активны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выборе содержания своего образования, становится субъектом образования (далее –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индивидуализация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дошкольного образования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ОДЕЙСТВИЕ И СОТРУДНИЧЕСТВО ДЕТЕЙ И ВЗРОСЛЫХ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, признание ребенка полноценным участником (субъектом) образовательных отношени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ДДЕРЖКА ИНИЦИАТИВЫ ДЕТЕЙ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различ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) сотрудничество Организации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 семьёй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СНОВНЫЕ ПРИНЦИПЫ ДОШКОЛЬНОГО ОБРАЗОВА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) приобщение детей 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оциокультурным нормам, традициям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семьи, общества и государств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) формирова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ЗНАВАТЕЛЬНЫХ ИНТЕРЕСОВ И ПОЗНАВАТЕЛЬНЫХ ДЕЙСТВИЙ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бенка в различ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8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возрастная адекватность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ошкольного образования (соответствия условий, требований, методов возрасту  и особенностям развития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9)учё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этнокультурной ситуации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азвития дет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 обеспечивает максимальную реализацию образовательного потенциала пространства Организации, Группы, а также территории, прилегающей к Организации или находящейся на небольшом удалении, приспособленной для реализации Программы (далее – участок), материалов, оборудования и инвентаря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 должна обеспечивать возможность общения и совместной деятельности детей (в том числе детей разного возраста) и взрослых, двигательной активности детей, а также возможности для уедин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78920" y="1557000"/>
            <a:ext cx="8720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 должна обеспечивать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ализацию различных образовательных программ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случае организации инклюзивного образования – необходимые для него условия;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ёт национально-культурных, климатических условий, в которых осуществляется образовательная деятельность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ёт возрастных особенностей дет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78920" y="1557000"/>
            <a:ext cx="8720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олжна бы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ОДЕРЖАТЕЛЬНО-НАСЫЩЕН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ТРАНСФОРМИРУЕМ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ОЛИФУНКЦИОНАЛЬ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АРИАТИВ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ДОСТУП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ЕЗОПАСНО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НАСЫЩЕННОСТЬ СРЕДЫ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79280" y="1413000"/>
            <a:ext cx="87854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) Насыщенность среды должна соответствовать возрастным возможностям детей и содержанию Программ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Образовательное пространство должно быть оснащено средствами обучения и воспитания (в том числе техническими), соответствующими материалами … в соответствии со спецификой Программы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Для детей младенческого и раннего возраста образовательное пространство должно предоставлять необходимые и достаточные возможности для движения, предметной и игровой деятельности с разными материалами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5672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ТРАНСФОРМИРУЕМОСТЬ ПРОСТРАНСТВА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 Трансформируемость пространства предполагает возможность изменений предметно-пространственной среды в зависимости от образовательной ситуации, в том числе от меняющихся интересов и возможностей детей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21:04:11Z</dcterms:created>
  <dc:creator>KIL</dc:creator>
  <dc:description/>
  <dc:language>en-US</dc:language>
  <cp:lastModifiedBy>U01</cp:lastModifiedBy>
  <dcterms:modified xsi:type="dcterms:W3CDTF">2014-06-09T03:51:15Z</dcterms:modified>
  <cp:revision>27</cp:revision>
  <dc:subject/>
  <dc:title>ВСЕРОССИЙСКАЯ КОНФЕРЕНЦИЯ  ПО ОБСУЖДЕНИЮ МОДЕЛЕЙ ОРГАНИЗАЦИИ ДОШКОЛЬНОГО ОБРАЗОВАНИЯ, МЕХАНИЗМОВ ВНЕДРЕНИЯ ФГОС ДОШКОЛЬНОГО ОБРАЗОВАНИЯ  г. Москва, 31 октября – 2 ноября 2013 г.</dc:title>
</cp:coreProperties>
</file>