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37BF-BC09-451D-B8F1-2DB83299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8A0-3EB8-44E1-83E3-50A586C7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06B49-42E3-4444-BBF0-1E2FCA08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5476B-C848-4603-99C8-95E9E7FF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01BACE-339B-4BE6-91D0-82C79840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FBE2B4-6E41-4979-A5FD-28C44186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9B83B4-95EA-4D21-B62F-98801B18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18F264-A59D-4E4D-901F-A902B10C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F7795B-2B03-425B-B175-D0D38EE8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82006-634E-4F76-AD4D-5F96BF1A5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7DF9D0-74EE-4B53-A1BE-8CF78AD3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B81D8-A7B6-484B-8420-1DDC5808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23F-0299-4835-9066-C59F4A5EE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00646-8F92-4821-830C-FEBD9A32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FB66EE-7F9D-4CC2-A6BD-B16D71D6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DF3036-997E-4FA4-ACD1-68FE506A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32C7D9-EB95-4A73-B865-1B5D93AA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1C79A9-44D8-4B16-BE48-B77DC73B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72ED39-8133-4725-ABDA-8B6F9A08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FDA80B-21AB-4319-A985-0AE54849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DD01A-AEDD-466F-AD72-8DF3F1C1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AFEEC4-ECA5-4DBF-9D99-C182AFE6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A2385-3BC3-40DA-8602-44F6072A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F859-3CBA-419C-9E62-A51E3613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DDBC8A-1935-472E-9522-9A7F60DF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14939C-3789-40A6-AFC3-6E1B6203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FEDA9-72C1-495F-B413-5C96BE24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05322-A1F6-40BF-A687-C201B9C8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8EB52-1B46-492A-852E-013A5F0C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092A4-B6F9-4EAE-B165-8A2274A7B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E4159-4E6F-4B3C-9786-66D4185A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B7340-1AE9-48A6-8B18-854BEC22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55FAF-168C-415B-9E08-0E7F7D6D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25DA8-9A93-46D3-8DA8-95EB8D5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F388-4375-4542-8DFD-AB543C4E3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023102-DCB6-4FC7-84FC-77E56008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FD5581-8942-4640-A10A-8C5B28AA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977FD-1416-4AF5-9228-E193FF36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6222D0-2F5C-46B2-9E40-B2790EB9B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51B31-3919-4460-AB75-43600F69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C55BFB-426D-423F-B10E-86978CAD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6552C-7573-48E6-8217-5BE8DCA0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3E145C-0455-461B-BF0F-22D40AA6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8A47B-F5C5-44FA-9D8F-EF82C63C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561108-0410-4CF0-961F-F8B8B1FF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275B-63ED-4789-8F7F-B53F53FD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F1F972-F092-43FB-98C9-5945FD24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CCDC1-9449-4EB3-B907-60D91E32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09C510-CBDF-44AC-AEA9-1D7F6810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A2DA94-2C59-458C-AD29-C55D0FC2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B747AB-AB7F-4673-8F58-A69E752A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281D-D253-4622-94D5-BF5270EB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3A19D-6C61-41AB-BEF3-154F90E6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C28EC-BF5F-46AA-B19B-4240C2B8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5160-A1BF-4940-8F9A-AB67D869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AACB-5531-4A37-B84D-C42379B4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3B2E-B22F-4D75-BA51-78582BF3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C595-22A0-4867-9D89-62BDF704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E9FA-13A2-48BA-92C6-54481BE0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289D-C738-4FC1-BBF8-0244663E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59585-4B9E-4D98-828E-52863F410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6ADC-049A-4E10-B200-B7EE0594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3471-0B20-414E-B87B-9D2655CA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49D3E-2F58-4D3E-80E9-AC8CB8A3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2F878-A01E-4370-AF2B-A8BD6D01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58C3A-EF6B-435C-9F2C-CA5D833B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C83AB-BB2E-4F7F-8D0C-152DFF75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E62-6CA3-4A9B-997E-B5538A94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1C8F-1547-4308-ABED-6DD262F9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6F047-A060-4F99-9972-3A8DA7CF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0ACA2-DCC7-4194-A5F7-B56FAA32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67B3-0CCA-4AC3-91C8-A3A6004A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F2F74-1CAF-4F06-9372-74FF5EC9F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FBDDF-B49B-4E5C-9F93-2A104EAC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3D891-1396-4004-B5DE-EB866B94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24A43-47AE-480C-A19A-4B2B2F42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DA8B9-C745-4A30-8320-300765579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F0D3-5B14-4BF3-81CC-1599554A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4CD-CF3C-405E-B0A4-F018BD10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D0CBF-6176-46D8-8C2B-BCCE3C53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47364-2C43-4961-804F-3CEDCD9F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828648-808A-4486-BA1A-FFC12E50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92542-626A-4764-8B07-959E1EA8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F1CD9-A7CA-4BCD-98E5-899781CB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986A-0017-4299-A467-EA4D0481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5E390-1A28-4CBD-AF01-5EE2FDA5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13073-B013-4A5F-8E9E-DF1CA2D6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94B5-9C76-4320-A141-BAB932ED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C9254-43BD-4FB3-AED4-3ABF99FF2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D33-9092-4D29-9D1B-5A769606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64D9E-70CA-4E1D-93CE-DB78C80E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66197-AE6F-4243-9A8A-1065F1A08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6E99E-28A9-4CDF-B6A8-125D8AD0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8F8C5-3B2C-4DE2-977A-39C5318D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7D60D-7467-4F4D-9C9D-0B9639B0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135CF2-C345-4E9C-9D1E-CD5015BD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4B9DD-1A58-4D34-B65E-FB48CAD5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40662-D533-4268-B688-48D86973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378E5-1110-45ED-8DC5-79C432F0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53DC6-7E30-4791-99F4-B19DBB4C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4990-A672-4817-B1A1-61AD4362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10A7E-26D6-4C1D-AE2A-42D0FC0C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0A616-4C61-4052-9F5B-89EC13FFA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41D9A-E9E8-4C5D-9B3E-2FFD43539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F7ACC-4D40-4E7F-BD64-ABBDB2C80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EC2AF-1064-4663-BC5C-BA1DDBA5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E95107-3C7C-409D-B7B0-E6DA534D6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76211-21A8-40B3-A28F-00DF022C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35E88-7C3B-4C7A-AEA2-F23E28CC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178DE-AC58-416D-9C56-AD713ADF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0C8D2-D880-4909-842C-901B409E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B7FF-F4C4-4A91-8F82-7C0A5B51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F9D57-81B9-4D5B-9F76-04282191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201D0-AAE9-4582-BB8B-C6F9043D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13959-A7D1-49D3-B3D3-C7DFA012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F8E8E-BE7A-4B54-AB6E-31B06147B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8559C-D88E-4378-9E35-62A3300D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C9F00-DA1F-4C5B-87CA-A973AA27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BB454-B57A-4EC1-874B-EAA022F8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CBE14-21E7-483F-9216-5C502BE3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40A52-073D-4A42-836E-1E783AD6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ED5E2-6270-464E-B6D1-5BCA41BA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D86-E2E7-40E1-AF66-4230AC705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E2807-3C65-42E7-9CDE-FF008691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1EAAF-F5C6-4E78-BF23-7EF9446BA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C5F9B-52D1-473E-89B5-DF7A2DAB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D8698-280C-47B8-AFF5-9B80560CE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F32B2-D624-4FD5-87C2-D757EB2CB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D1E58-C3EF-4DE9-9626-34B34C49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DAEF0-A4FB-4410-8EA2-B3AF3FE5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6CB2C-A6F5-4D61-9497-2ACEA6E51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9474B-9A2A-4848-9CBE-95B76B83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65201-5D61-40D0-9E85-4C5424CC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0BF-EF9A-4F9B-8BEE-FE98FE85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45206-3F70-4F0B-BCD0-9226B59B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75A3A-A7CC-4A77-B578-FD798AB6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52849-D064-42F3-A2BB-03633118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B102E-7119-444D-B6E7-62341E61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2D918-CDCA-470D-9465-B5ED28AAB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E1BB4-D4AF-494D-81F7-23EE8E52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8B481-ADBA-4872-8C45-148AE795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2BE9A-0A5F-4A8C-A670-05AADF0D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97889-39CE-41A3-9C94-F114A1E2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FD75C-BD28-440F-A688-4B52D6EF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c2"/>
            </a:gs>
            <a:gs pos="100000">
              <a:srgbClr val="fff8c2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7925-2379-45EB-8705-34ECFF6B77A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c2"/>
            </a:gs>
            <a:gs pos="100000">
              <a:srgbClr val="fff8c2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3B4B-DBDF-4268-AB33-7E9B7B33BD5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c2"/>
            </a:gs>
            <a:gs pos="100000">
              <a:srgbClr val="fff8c2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0FE5-DE49-4C88-B791-FF145B06BDDC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c2"/>
            </a:gs>
            <a:gs pos="100000">
              <a:srgbClr val="fff8c2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2488-D1B4-4AB8-AB5A-32D77F606FF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c2"/>
            </a:gs>
            <a:gs pos="100000">
              <a:srgbClr val="fff8c2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3584-B498-48A3-B9C9-22FD93D68F6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c2"/>
            </a:gs>
            <a:gs pos="100000">
              <a:srgbClr val="fff8c2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CA71-E806-4106-AF2A-214A5600A83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c2"/>
            </a:gs>
            <a:gs pos="100000">
              <a:srgbClr val="fff8c2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6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3CA5-7493-4C78-8D9E-7A12ADF719D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c2"/>
            </a:gs>
            <a:gs pos="100000">
              <a:srgbClr val="fff8c2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784A-36AA-4C37-84D2-78B995E4EC7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c2"/>
            </a:gs>
            <a:gs pos="100000">
              <a:srgbClr val="fff8c2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2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0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13D6-CF23-4839-B403-6CA7C7ED409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c2"/>
            </a:gs>
            <a:gs pos="100000">
              <a:srgbClr val="fff8c2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379B-0077-4271-9892-812EC50EF47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c2"/>
            </a:gs>
            <a:gs pos="100000">
              <a:srgbClr val="fff8c2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023C0-7F30-48DB-A4CE-FB813942C20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8c2"/>
            </a:gs>
            <a:gs pos="100000">
              <a:srgbClr val="fff8c2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7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7707-2E7A-40DA-8B7A-1867570ADCE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ippdrao.ru/" TargetMode="External"/><Relationship Id="rId2" Type="http://schemas.openxmlformats.org/officeDocument/2006/relationships/hyperlink" Target="mailto:ippdrao@yandex.ru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179280" y="2819520"/>
            <a:ext cx="878544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РАЗРАБОТКА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ОСНОВНОЙ ОБРАЗОВАТЕЛЬНОЙ ПРОГРАММЫ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Georgia"/>
              </a:rPr>
              <a:t>ДОШКОЛЬНОГО ОБРАЗОВАНИЯ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title"/>
          </p:nvPr>
        </p:nvSpPr>
        <p:spPr>
          <a:xfrm>
            <a:off x="179280" y="189000"/>
            <a:ext cx="8785440" cy="19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i="1" lang="ru-RU" sz="3800" spc="-1" strike="noStrike">
                <a:solidFill>
                  <a:srgbClr val="d16349"/>
                </a:solidFill>
                <a:latin typeface="Georgia"/>
              </a:rPr>
              <a:t> </a:t>
            </a:r>
            <a:br>
              <a:rPr sz="3800"/>
            </a:br>
            <a:r>
              <a:rPr b="1" lang="ru-RU" sz="1800" spc="-1" strike="noStrike">
                <a:solidFill>
                  <a:srgbClr val="ff0000"/>
                </a:solidFill>
                <a:latin typeface="Georgia"/>
              </a:rPr>
              <a:t>СЕМИНАР</a:t>
            </a:r>
            <a:r>
              <a:rPr b="1" i="1" lang="ru-RU" sz="3800" spc="-1" strike="noStrike">
                <a:solidFill>
                  <a:srgbClr val="d16349"/>
                </a:solidFill>
                <a:latin typeface="Georgia"/>
              </a:rPr>
              <a:t> </a:t>
            </a:r>
            <a:br>
              <a:rPr sz="3800"/>
            </a:br>
            <a:r>
              <a:rPr b="1" lang="ru-RU" sz="1800" spc="-1" strike="noStrike">
                <a:solidFill>
                  <a:srgbClr val="c00000"/>
                </a:solidFill>
                <a:latin typeface="Georgia"/>
              </a:rPr>
              <a:t>Введение Федерального государственного образовательного стандарта дошкольного образования</a:t>
            </a:r>
            <a:br>
              <a:rPr sz="1800"/>
            </a:b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c00000"/>
                </a:solidFill>
                <a:latin typeface="Georgia"/>
              </a:rPr>
              <a:t>г. Смоленск, 06 июня 2014 г.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ЗАДАЧ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301320" y="1526760"/>
            <a:ext cx="85042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) охрана и укрепления физического и психического здоровья детей, в том числе их эмоционального благополучия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) обеспечение равных возможностей для полноценного развития каждого ребёнка в период дошкольного детства независимо от места проживания, пола, нации, языка, социального статуса, психофизиологических и других особенностей (в том числе ограниченных возможностей здоровья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) обеспечение преемственности целей, задач и содержания образования, реализуемых в рамках образовательных программ различных уровней (далее – преемственность основных образовательных программ дошкольного и начального общего образования)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4)создание благоприятных условий развития детей в соответствии с их возрастными и индивидуальными особенностями и склонностями, развития способностей и творческого потенциала каждого ребёнка как субъекта отношений с самим собой, другими детьми, взрослыми и миром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ЗАДАЧИ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(продолжение)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301320" y="1527120"/>
            <a:ext cx="8504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5) объединения обучения и воспитания в целостный образовательный процесс на основе духовно-нравственных и социокультурных ценностей и принятых в обществе правил и норм поведения в интересах человека, семьи, общества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6) формирования общей культуры личности детей, в том числе, ценностей здорового образа жизни,  развития их социальных, нравственных, эстетических, интеллектуальных, физических качеств, инициативности, самостоятельности и ответственности ребёнка, формирования предпосылок учебной деятельности;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7) обеспечения вариативности и разнообразия содержания Программ и организационных форм дошкольного образования, возможности формирования Программ различной направленности с учётом образовательных потребностей, способностей и состояния здоровья детей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8) формирования социокультурной среды, соответствующей возрастным, индивидуальным, психологическим  и физиологическим особенностям детей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9) обеспечения психолого-педагогической поддержки семьи и повышения компетентности родителей (законных представителей) в вопросах развития и образования, охраны и укрепления здоровья детей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67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ОСНОВНЫЕ ПРИНЦИПЫ ДОШКОЛЬНОГО ОБРАЗОВА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олноценное проживание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ебёнком всех этапов детства,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богащение  (амплификация)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детского развити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2) построение образовательной деятельности на основе индивидуальных особенностей каждого ребенка, при котором сам ребенок становится активным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выборе содержания своего образования, становится субъектом образования (далее –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индивидуализация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дошкольного образования);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3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содействие и сотрудничество детей и взрослых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, признание ребенка полноценным участником (субъектом) образовательных отношений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4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оддержка инициативы детей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различных видах деятельнос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5) сотрудничество Организации 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с семьёй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Georgia"/>
              </a:rPr>
              <a:t>ОСНОВНЫЕ ПРИНЦИПЫ ДОШКОЛЬНОГО ОБРАЗОВАНИЯ</a:t>
            </a:r>
            <a:endParaRPr b="0" lang="en-US" sz="2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(продолжение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6) приобщение детей 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социокультурным нормам, традициям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семьи, общества и государства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7) формирование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ознавательных интересов и познавательных действий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ебенка в различных видах деятельност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8)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возрастная адекватность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ошкольного образования (соответствия условий, требований, методов возрасту  и особенностям развития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9)учё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этнокультурной ситуации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азвития детей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СОДЕРЖАТЕЛЬНЫЙ РАЗДЕ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одержательный раздел Программы должен включать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а) 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описание образовательной деятельности в соответствии с направлениями развития ребенка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, представленными в пяти образовательных областях, с учётом используемых вариативных примерных основных образовательных программ дошкольного образования и методических пособий, обеспечивающих реализацию данного содержания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б) 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описание вариативных форм, способов, методов и средств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реализации Программы с учётом возрастных и индивидуальных особенностей воспитанников, специфики их образовательных потребностей и интересов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) 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описание образовательной деятельности по профессиональной коррекции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рушений развития детей в случае, если эта работа предусмотрена Программо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СОДЕРЖАТЕЛЬНЫЙ РАЗДЕ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 содержательном разделе Программы должны быть представлены: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а) 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особенности образовательной деятельности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зных видов и культурных практик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б) способы и направления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поддержки детской инициативы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) особенности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взаимодействия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педагогического коллектива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с семьями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оспитанников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г) 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иные характеристики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одержания Программы, наиболее существенные с точки зрения авторов Программы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СОДЕРЖАТЕЛЬНЫЙ РАЗДЕ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ограмма состоит из обязательной части и части, формируемой участниками образовательных отношений. Обе части являются взаимодополняющими и необходимыми с точки зрения реализации требований Стандарта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Обязательная часть Программы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едполагает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комплексность подхода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, обеспечивая развитие детей во всех пяти взаимодополняющих образовательных областях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В части, формируемой участниками образовательных отношений,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должны быть представлены выбранные и/или разработанные самостоятельно участниками образовательных отношений </a:t>
            </a:r>
            <a:r>
              <a:rPr b="1" lang="ru-RU" sz="1900" spc="-1" strike="noStrike" u="sng">
                <a:solidFill>
                  <a:srgbClr val="000000"/>
                </a:solidFill>
                <a:uFillTx/>
                <a:latin typeface="Georgia"/>
              </a:rPr>
              <a:t>Программы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, направленные на развитие детей в одной или нескольких образовательных областях, видах деятельности и/или культурных практиках (далее - парциальные образовательные программы), методики, формы организации образовательной работы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33cc"/>
                </a:solidFill>
                <a:latin typeface="Georgia"/>
              </a:rPr>
              <a:t>ОБРАЗОВАТЕЛЬНЫЕ ОБЛАСТИ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оциально‑коммуникативное развити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знавательное развити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чевое развити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художественно‑эстетическое развитие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изическое развит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СОЦИАЛЬНО‑КОММУНИКАТИВНОЕ РАЗВИТИ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301320" y="1526760"/>
            <a:ext cx="85042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своение норм и ценностей, принятых в обществе, включая моральные и нравственные ценност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звитие общения и взаимодействия ребёнка с взрослыми и сверстникам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тановление самостоятельности, целенаправленности и саморегуляции собственных действий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звитие социального и эмоционального интеллекта, эмоциональной отзывчивости, сопереживания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ормирование готовности к совместной деятельности со сверстниками,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ормирование уважительного отношения и чувства принадлежности к своей семье и к сообществу детей и взрослых в Организации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ормирование позитивных установок к различным видам труда и творчества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формирование основ безопасного поведения в быту, социуме,  природе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ПОЗНАВАТЕЛЬНОЕ РАЗВИТ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79280" y="152712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интересов детей, любознательности и познавательной мотивации; формирование познавательных действий, становление сознания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воображения и творческой активности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формирование первичных представлений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о себе, других людях, объектах окружающего мира, о свойствах и отношениях объектов окружающего мира (форме, цвете, размере, материале, звучании, ритме, темпе, количестве, числе, части и целом, пространстве и времени, движении и покое, причинах и следствиях и др.), о малой родине и Отечестве, представлений о социокультурных ценностях нашего народа, об отечественных традициях и праздниках, о планете Земля как общем доме людей, об особенностях её природы, многообразии стран и народов мира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ОБЩЕЕ ОПРЕДЕЛЕНИЕ ПРОГРАММЫ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грамма формируется как программа психолого-педагогической поддержки позитивной социализации и индивидуализации, развития личности детей дошкольного возраста и определяет комплекс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сновных характеристик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школьного образования (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объём, содержание и планируемые результаты в виде целевых ориентиров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дошкольного образования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РЕЧЕВОЕ РАЗВИТ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178920" y="1526760"/>
            <a:ext cx="87138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владение речью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ак средством общения и культуры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огащение активного словаря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развитие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связной, грамматически правильной диалогической и монологической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речи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; развитие речевого творчеств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звитие звуковой и интонационной культуры речи, фонематического слух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знакомство с книжной культурой,  детской литературой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онимание на слух текстов  различных жанров детской литературы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формирование звуковой аналитико-синтетической активности как </a:t>
            </a:r>
            <a:r>
              <a:rPr b="1" lang="ru-RU" sz="2500" spc="-1" strike="noStrike" u="sng">
                <a:solidFill>
                  <a:srgbClr val="000000"/>
                </a:solidFill>
                <a:uFillTx/>
                <a:latin typeface="Georgia"/>
              </a:rPr>
              <a:t>предпосылки обучения грамоте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ХУДОЖЕСТВЕННО‑ЭСТЕТИЧЕСКОЕ РАЗВИТИЕ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179280" y="1526760"/>
            <a:ext cx="8785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звитие предпосылок ценностно-смыслового восприятия и понимания произведений искусства (словесного, музыкального, изобразительного), мира природы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тановление эстетического отношения к окружающему миру; формирование элементарных представлений о видах искусств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осприятие музыки, художественной литературы, фольклора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тимулирование сопереживания персонажам художественных произведений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еализация самостоятельной творческой деятельности детей (изобразительной, конструктивно-модельной, музыкальной,  и др.)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ФИЗИЧЕСКОЕ РАЗВИТИЕ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179280" y="1526760"/>
            <a:ext cx="8785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обретение опыта в следующих видах деятельности детей: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двигательной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в том числе связанной с выполнением упражнений, направленных на развитие таких физических качеств, как координация и гибкость; способствующих правильному формированию опорно-двигательной системы организма, развитию равновесия, координации движения, крупной и мелкой моторики обеих рук, а также с правильным, не наносящем ущерба организму, выполнением основных движений (ходьба, бег, мягкие прыжки, повороты в обе стороны)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формирование начальных представлений о некоторых  видах спорта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овладение подвижными играми с правилами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тановление целенаправленности и саморегуляции в двигательной сфере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становление ценностей здорового образа жизни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, овладение его элементарными нормами и правилами (в питании, двигательном режиме, закаливании, при формировании полезных привычек и др.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Georgia"/>
              </a:rPr>
              <a:t>ВОЗРАСТНЫЕ ОСОБЕННОСТИ СОДЕРЖАНИЯ ПРОГРАММЫ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младенческом возрасте (2 месяца – 1 год) –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непосредственное эмоциональное общение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 взрослым,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манипулировани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 предметами и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познавательно-исследовательские действия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восприяти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музыки, детских песен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стихов,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двигательная активность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и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тактильно-двигательные игры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ОЗРАСТНЫЕ ОСОБЕННОСТИ СОДЕРЖАНИЯ ПРОГРАММЫ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раннем возрасте (1 год – 3 года) –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предметная деятельность и игры с составными и динамическими игрушками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;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экспериментирование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с материалами и веществами (песок, вода, тесто и пр.),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общение с взрослым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совместные игры со сверстникам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од руководством взрослого, самообслуживание и действия с бытовыми предметами-орудиями (ложка, савок, лопатка и пр.),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восприятие смысла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узыки, сказок, стихов, рассматривание картинок, 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двигательная активнос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ВОЗРАСТНЫЕ ОСОБЕННОСТИ СОДЕРЖАНИЯ ПРОГРАММЫ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для детей дошкольного возраста (3 года – 8 лет) – ряд видов деятельности, таких как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Georgia"/>
              </a:rPr>
              <a:t>игровая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, включая сюжетно-ролевую игру, игру с правилами и другие виды игры,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Georgia"/>
              </a:rPr>
              <a:t>коммуникативная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(общение и взаимодействие со взрослыми и сверстниками),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Georgia"/>
              </a:rPr>
              <a:t>познавательно-исследовательская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(исследования объектов окружающего мира и экспериментирования с ними), а также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Georgia"/>
              </a:rPr>
              <a:t>восприятие художественной литературы и фольклора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Georgia"/>
              </a:rPr>
              <a:t>самообслуживание и элементарный бытовой труд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(в помещении и на улице),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Georgia"/>
              </a:rPr>
              <a:t>конструировани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из разного материала, включая конструкторы, модули, бумагу, природный и иной материал, изобразительная (рисование, лепка, аппликация),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Georgia"/>
              </a:rPr>
              <a:t>музыкальная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(восприятие и понимание смысла музыкальных произведений, пение, музыкально-ритмические движения, игры на детских музыкальных инструментах) и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Georgia"/>
              </a:rPr>
              <a:t>двигательная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(овладение основными движениями) формы 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Georgia"/>
              </a:rPr>
              <a:t>активности ребенка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КОРРЕКЦИОННАЯ РАБОТА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беспечение коррекции нарушений развития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зличных категорий детей с ограниченными возможностями здоровья, оказание им квалифицированной помощи в освоении Программ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 </a:t>
            </a: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освоение детьми с ограниченными возможностями здоровья Программы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их разностороннее развитие с учётом возрастных и индивидуальных особенностей и особых образовательных потребностей, социальной адаптаци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002060"/>
                </a:solidFill>
                <a:uFillTx/>
                <a:latin typeface="Georgia"/>
              </a:rPr>
              <a:t>ОРГАНИЗАЦИОННЫЙ РАЗДЕ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описание материально-технического обеспечения Программы, обеспеченности методическими материалами и средствами обучения и воспитания, включать распорядок и /или режим дня, а также особенности традиционных событий, праздников, мероприятий; особенности организации развивающей предметно-пространственной сре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УСЛОВИЯ РЕАЛИЗАЦИИ ОСНОВНОЙ ОБРАЗОВАТЕЛЬНОЙ ПРОГРАММЫ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СИХОЛОГО-ПЕДАГОГИЧЕСКИЕ УСЛОВИЯ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КАДРОВЫЕ УСЛОВИЯ,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АТЕРИАЛЬНО-ТЕХНИЧЕСКИЕ УСЛОВИЯ,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ФИНАНСОВЫЕ УСЛОВИЯ,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cc"/>
                </a:solidFill>
                <a:latin typeface="Georgia"/>
              </a:rPr>
              <a:t>ПСИХОЛОГО-ПЕДАГОГИЧЕСКИЕ УСЛОВИЯ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179280" y="152712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1) уважение взрослых к человеческому достоинству детей, формирование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и поддержка их положительной самооценки, уверенности в собственных возможностях и способностях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2) использование в образовательной деятельности форм и методов работы с детьми, соответствующих их возрастным и индивидуальным особенностям (недопустимость как искусственного ускорения, так и искусственного замедления развития детей)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3) построение образовательной деятельности на основе взаимодействия взрослых с детьми, ориентированного на интересы и возможности каждого ребёнка и учитывающего социальную ситуацию его развития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4) поддержка взрослыми положительного, доброжелательного отношения детей друг к другу и взаимодействия детей друг с другом в разных видах деятельности;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ОСНОВНОЕ СОДЕРЖАНИЕ ПРОГРАММЫ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рограмма направлена на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оздание условий развития ребенка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открывающих возможности для его позитивной социализации, его личностного развития, развития инициативы и творческих способностей на основе сотрудничества со взрослыми и сверстниками и соответствующим возрасту видам деятельност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оздание развивающей образовательной среды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, которая представляет собой систему условий социализации и индивидуализации  дет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cc"/>
                </a:solidFill>
                <a:latin typeface="Georgia"/>
              </a:rPr>
              <a:t>ПСИХОЛОГО-ПЕДАГОГИЧЕСКИЕ УСЛОВИЯ</a:t>
            </a:r>
            <a:br>
              <a:rPr sz="2500"/>
            </a:br>
            <a:r>
              <a:rPr b="1" lang="ru-RU" sz="2500" spc="-1" strike="noStrike">
                <a:solidFill>
                  <a:srgbClr val="0033cc"/>
                </a:solidFill>
                <a:latin typeface="Georgia"/>
              </a:rPr>
              <a:t>(продолжение)</a:t>
            </a:r>
            <a:endParaRPr b="0" lang="en-US" sz="25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5) поддержка инициативы и самостоятельности детей в специфических для них видах деятельности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6) возможность выбора детьми материалов,  видов активности, участников совместной деятельности и общения;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7) защита детей от всех форм физического и психического насилия;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8) поддержка родителей (законных представителей) в воспитании детей, охране и укреплении их здоровья, вовлечение семей непосредственно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 образовательную деятельность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Условия, необходимые для создания социальной ситуации развития детей дошкольного возраста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179280" y="152712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1) 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обеспечение эмоционального благополучия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через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епосредственное общение с каждым ребёнком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уважительное отношение к каждому ребенку, к его чувствам и потребностям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2) 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Georgia"/>
              </a:rPr>
              <a:t>поддержку индивидуальности и инициативы детей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через: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оздание условий для свободного выбора детьми деятельности, участников совместной деятельности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оздание условий для принятия детьми решений, выражения своих чувств и мыслей,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едирективную помощь детям, поддержку детской инициативы 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и самостоятельности в разных видах деятельности (игровой, исследовательской, проектной, познавательной и т.д.);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Условия, необходимые для создания социальной ситуации развития детей дошкольного возраста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2" name=""/>
          <p:cNvSpPr txBox="1"/>
          <p:nvPr/>
        </p:nvSpPr>
        <p:spPr>
          <a:xfrm>
            <a:off x="179280" y="152712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Georgia"/>
              </a:rPr>
              <a:t>(продолжение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3) 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Georgia"/>
              </a:rPr>
              <a:t>установление правил взаимодействия в разных ситуациях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оздание условий для позитивных, доброжелательных отношений между детьми, в том числе принадлежащими к разным национально-культурным, религиозным общностям и социальным слоям, а также имеющими различные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(в том числе ограниченные) возможности здоровья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развитие коммуникативных способностей детей, позволяющих разрешать конфликтные ситуации со сверстниками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развитие умения детей работать в группе сверстников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оздание правил взаимодействия в помещении, на прогулке, во время образовательной деятельности, осуществляемой в режимных моментах, непосредственной образовательной деятельности, обсуждение их с детьми и предъявление в конструктивной, позитивной  и понятной детям форме;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Условия, необходимые для создания социальной ситуации развития детей дошкольного возраста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179280" y="152712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Georgia"/>
              </a:rPr>
              <a:t>(продолжение)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4)</a:t>
            </a:r>
            <a:r>
              <a:rPr b="1" lang="ru-RU" sz="2100" spc="-1" strike="noStrike" u="sng">
                <a:solidFill>
                  <a:srgbClr val="000000"/>
                </a:solidFill>
                <a:uFillTx/>
                <a:latin typeface="Georgia"/>
              </a:rPr>
              <a:t> построение вариативного развивающего образования, ориентированного на уровень развития, проявляющийся у ребенка в совместной деятельности со взрослым и более опытными сверстниками, но не актуализирующийся в его индивидуальной деятельности  (далее - зона ближайшего развития каждого ребенка)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, через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оздание условий для овладения культурными средствами деятельности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рганизацию видов деятельности, способствующих развитию мышления, речи, общения, воображения и детского творчества, личностного, физического и художественно-эстетического развития детей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поддержку спонтанной игры детей, ее обогащение, обеспечение игрового времени и пространства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ценку индивидуального развития детей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Условия, необходимые для создания социальной ситуации развития детей дошкольного возраста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179280" y="1527120"/>
            <a:ext cx="8785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Georgia"/>
              </a:rPr>
              <a:t>(продолжение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5) 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взаимодействие с родителями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(законными представителями) по вопросам образования ребёнка, непосредственного вовлечения их в образовательную деятельность, в том числе посредством создания образовательных проектов совместно с семьёй на основе выявления потребностей и поддержки образовательных инициатив семь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ОЦЕНКА ИНДИВИДУАЛЬНОГО РАЗВИТИЯ ДЕТЕЙ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301320" y="1413000"/>
            <a:ext cx="8504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изводится педагогическим работником в рамках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едагогической диагностики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зультаты педагогической диагностики (мониторинга) могут использоваться исключительно для решения следующих образовательных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дач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) индивидуализации образования (в том числе поддержки ребёнка, построения его образовательной траектории или профессиональной коррекции особенностей его развития)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) оптимизации работы с группой дет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Georgia"/>
              </a:rPr>
              <a:t>ПСИХОЛОГИЧЕСКАЯ ДИАГНОСТИКА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 необходимости используется психологическая диагностика развития детей, которую проводят квалифицированные специалисты (педагоги-психологи, психологи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Участие ребёнка в психологической диагностике допускается только с согласия его родителей (законных представителей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езультаты психологической диагностики могут использоваться для решения задач психологического сопровождения и проведения квалифицированной коррекции развития детей. Психологическая диагностика – выявление и изучение индивидуально‑психологических особенностей дете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КАДРОВЫЕ УСЛОВ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178920" y="1526760"/>
            <a:ext cx="87138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еализация Программы обеспечивается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руководящими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едагогическими,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учебно-вспомогательными, административно-хозяйственными работниками Организации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188640"/>
            <a:ext cx="85345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Georgia"/>
              </a:rPr>
              <a:t>МАТЕРИАЛЬНО-ТЕХНИЧЕСКИЕ УСЛОВИЯ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179280" y="1526760"/>
            <a:ext cx="8785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1) требования, определяемые в соответствии с санитарно-эпидемиологическими правилами и нормативам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2) требования, определяемые в соответствии с правилами пожарной безопасност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3) оснащённость помещений для работы медицинского персонала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в Организации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4) оснащенность помещений развивающей предметно-пространственной средой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5) требования к материально-техническому обеспечению программы (учебно-методический комплект, оборудование, оснащение (предметы)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стоящее требование относится только к образовательным организациям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ФИНАНСОВЫЕ УСЛОВ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179280" y="1526760"/>
            <a:ext cx="8785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инансовое обеспечение государственных гарантий на получение гражданами общедоступного и бесплатного дошкольного образования за счёт средств соответствующих бюджетов бюджетной системы Российской Федерации в государственных, муниципальных и частных организациях осуществля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а основе нормативов обеспечения государственных гарантий реализации прав на получение общедоступного и бесплатного дошкольного 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, определяемых органами государственной власти субъектов Российской Федерации, обеспечивающих реализацию Программы в соответствии со Стандартом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8534520" cy="896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Georgia"/>
              </a:rPr>
              <a:t>РАЗВИВАЮЩАЯ ОБРАЗОВАТЕЛЬНАЯ СРЕДА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одержание Программы должно отражать следующие аспекты образовательной среды для ребёнка дошкольного возраста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 предметно-пространственная развивающая образовательная среда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 характер взаимодействия со взрослыми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 характер взаимодействия с другими детьми;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4) система отношений ребёнка к миру, к другим людям, к себе самом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Georgia"/>
              </a:rPr>
              <a:t>ФИНАНСОВЫЕ УСЛОВИЯ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79280" y="1526760"/>
            <a:ext cx="8785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Финансовые условия реализации Программы должны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) обеспечивать возможность выполнения требований Стандарта к условиям реализации и структуре Программы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2) обеспечивать реализацию обязательной части Программы и части, формируемой участниками образовательного процесса, учитывая вариативность индивидуальных траекторий развития детей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) отражать структуру и объём расходов, необходимых для реализации Программы, а также механизм их формирова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ТРЕБОВАНИЯ К РАЗВИВАЮЩЕЙ ПРЕДМЕТНО-ПРОСТРАНСТВЕННОЙ СРЕД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 обеспечивает максимальную реализацию образовательного потенциала пространства Организации, Группы, а также территории, прилегающей к Организации или находящейся на небольшом удалении, приспособленной для реализации Программы (далее – участок), материалов, оборудования и инвентаря для развития детей дошкольного возраста в соответствии с особенностями каждого возрастного этапа, охраны и укрепления их здоровья, учёта особенностей и коррекции недостатков их развития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ТРЕБОВАНИЯ К РАЗВИВАЮЩЕЙ ПРЕДМЕТНО-ПРОСТРАНСТВЕННОЙ СРЕД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 должна обеспечивать возможность общения и совместной деятельности детей (в том числе детей разного возраста) и взрослых, двигательной активности детей, а также возможности для уединени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ТРЕБОВАНИЯ К РАЗВИВАЮЩЕЙ ПРЕДМЕТНО-ПРОСТРАНСТВЕННОЙ СРЕД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78920" y="1557000"/>
            <a:ext cx="8720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 должна обеспечивать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ализацию различных образовательных программ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случае организации инклюзивного образования – необходимые для него условия;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чёт национально-культурных, климатических условий, в которых осуществляется образовательная деятельность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чёт возрастных особенностей дет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Georgia"/>
              </a:rPr>
              <a:t>ТРЕБОВАНИЯ К РАЗВИВАЮЩЕЙ ПРЕДМЕТНО-ПРОСТРАНСТВЕННОЙ СРЕДЕ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78920" y="1557000"/>
            <a:ext cx="8720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ЗВИВАЮЩАЯ ПРЕДМЕТНО-ПРОСТРАНСТВЕННАЯ СРЕД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олжна быть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СОДЕРЖАТЕЛЬНО-НАСЫЩЕНН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ТРАНСФОРМИРУЕМ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ОЛИФУНКЦИОНАЛЬН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ВАРИАТИВН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ДОСТУПНОЙ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БЕЗОПАСНО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33cc"/>
                </a:solidFill>
                <a:latin typeface="Georgia"/>
              </a:rPr>
              <a:t>ОФОРМЛЕНИЕ ПРОГРАММ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 случае если обязательная часть Программы соответствует примерной программе, она оформляется в виде ссылки на соответствующую примерную программу. Обязательная часть должна быть представлена развёрнуто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в соответствии с пунктом 2.11 Стандарта, в случае  если она не  соответствует одной из примерных программ.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Часть Программы, формируемая участниками образовательных отношений, может быть представлена в виде ссылок на соответствующую методическую литературу, позволяющую ознакомиться с содержанием выбранных участниками образовательных отношений парциальных программ, методик, форм организации образовательной работы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33cc"/>
                </a:solidFill>
                <a:latin typeface="Georgia"/>
              </a:rPr>
              <a:t>ПРЕЗЕНТАЦИЯ ПРОГРАММ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1) возрастные и иные категории детей, на которых ориентирована Программы Организации, в том числе категории детей с ограниченными возможностями здоровья, если Программа предусматривает особенности ее реализации для этой категории детей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2) используемые Примерные программы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3) характеристика взаимодействия педагогического коллектива с семьями дете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999880" y="502884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СПАСИБО ЗА ВНИМАНИЕ!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Georgia"/>
              </a:rPr>
              <a:t>УСПЕХОВ В РАБОТЕ!!!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107640" y="990360"/>
            <a:ext cx="2879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Контакты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a3d6"/>
                </a:solidFill>
                <a:uFillTx/>
                <a:latin typeface="Georgia"/>
                <a:hlinkClick r:id="rId1"/>
              </a:rPr>
              <a:t>www.ippdrao.r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Электронная почта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a3d6"/>
                </a:solidFill>
                <a:uFillTx/>
                <a:latin typeface="Georgia"/>
                <a:ea typeface="Aharoni"/>
                <a:hlinkClick r:id="rId2"/>
              </a:rPr>
              <a:t>ippdrao@yandex.r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eorgia"/>
              </a:rPr>
              <a:t>Телефон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8-499-246-83-0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63" name="Picture 2" descr="http://img-fotki.yandex.ru/get/5608/funtry.44/0_5c3bd_5cf090f2_XXL.jpeg"/>
          <p:cNvPicPr/>
          <p:nvPr/>
        </p:nvPicPr>
        <p:blipFill>
          <a:blip r:embed="rId3"/>
          <a:srcRect l="0" t="6901" r="0" b="6901"/>
          <a:stretch/>
        </p:blipFill>
        <p:spPr>
          <a:xfrm>
            <a:off x="3000240" y="609480"/>
            <a:ext cx="586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Georgia"/>
              </a:rPr>
              <a:t>ПОРЯДОК РАЗРАБОТКИ ПРОГРАММЫ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301320" y="1413000"/>
            <a:ext cx="8504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грамма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разрабатывается и утверждается Организацией самостоятельно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соответствии с настоящим Стандартом и с учётом Примерных программ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разработке Программы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рганизация определяет продолжительность пребывания детей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Организации,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жим работы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Организации в соответствии с объёмом решаемых задач образовательной деятельност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Организация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ожет разрабатывать и реализовывать в Группах различные Программы с разной продолжительностью пребывания детей в течение суток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, в том числе Групп кратковременного пребывания детей, Групп полного и продлённого дня, Групп круглосуточного пребывания, Групп детей разного возраста от двух месяцев до восьми лет, в том числе разновозрастных Групп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ограмма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ализуется в течение всего времени пребывания дете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Организации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ри круглосуточном пребывании детей в Группе реализация программы осуществляется  не более 14 часов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ЧАСТИ ПРОГРАММ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79280" y="1526760"/>
            <a:ext cx="8785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ограмма состоит из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обязательной части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части, формируемой участниками образовательных отношений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. Обе части являются взаимодополняющими и необходимыми с точки зрения реализации требований Стандарта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Обязательная часть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Программы предполагает комплексность подхода, обеспечивая развитие детей во всех пяти взаимодополняющих образовательных областях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части, формируемой участниками образовательных отношений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, должны быть представлены выбранные и/или разработанные самостоятельно участниками образовательных отношений Программы, направленные на развитие детей  в одной или нескольких образовательных областях, видах деятельности и/или культурных практиках (далее - парциальные образовательные программы), методики, формы организации образовательной работы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бъём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обязательной части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рограммы рекомендуется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Georgia"/>
              </a:rPr>
              <a:t>не менее 60%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т её общего объёма;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части, формируемой участниками образовательных отношений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Georgia"/>
              </a:rPr>
              <a:t>не более 40%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СТРУКТУРА ПРОГРАММЫ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ри основных раздела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целевой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одержательный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рганизационный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 каждом из которых отражается обязательная часть и часть, формируемая участниками образовательных отношений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2060"/>
                </a:solidFill>
                <a:latin typeface="Georgia"/>
              </a:rPr>
              <a:t>ЦЕЛЕВОЙ РАЗДЕЛ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9280" y="1526760"/>
            <a:ext cx="878544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включает в себя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пояснительную записку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и 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планируемые результаты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освоения программы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Пояснительная записка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должна раскрывать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цели и задачи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реализации Программы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принципы и подходы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к формированию Программы;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значимые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для разработки и реализации Программы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характеристики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, в том числе характеристики особенностей 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развития детей  раннего и дошкольного возраста. 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Планируемые результаты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освоения Программы конкретизируют требования Стандарта к целевым ориентирам в обязательной части и части, формируемой участниками образовательных отношений, с учетом возрастных возможностей и индивидуальных различий (индивидуальных траекторий развития) детей, а также особенностей развития детей с ограниченными возможностями здоровья, в том числе детей-инвалидов (далее – дети с ограниченными возможностями здоровья)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Georgia"/>
              </a:rPr>
              <a:t>ЦЕЛИ</a:t>
            </a:r>
            <a:endParaRPr b="0" lang="en-US" sz="24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301320" y="1526760"/>
            <a:ext cx="850428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1) повышение социального статуса дошкольного образования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2) обеспечение государством равенства возможностей для каждого ребёнка в получении качественного дошкольного образования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3) обеспечение государственных гарантий уровня и качества дошкольного образования на основе единства обязательных требований к условиям реализации образовательных программ дошкольного образования, их структуре и результатам их освоения;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4)сохранение единства образовательного пространства Российской Федерации относительно уровня дошкольного образования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1T21:04:11Z</dcterms:created>
  <dc:creator>KIL</dc:creator>
  <dc:description/>
  <dc:language>en-US</dc:language>
  <cp:lastModifiedBy>U01</cp:lastModifiedBy>
  <cp:lastPrinted>2014-03-12T15:17:42Z</cp:lastPrinted>
  <dcterms:modified xsi:type="dcterms:W3CDTF">2014-06-09T03:44:07Z</dcterms:modified>
  <cp:revision>38</cp:revision>
  <dc:subject/>
  <dc:title>ВСЕРОССИЙСКАЯ КОНФЕРЕНЦИЯ  ПО ОБСУЖДЕНИЮ МОДЕЛЕЙ ОРГАНИЗАЦИИ ДОШКОЛЬНОГО ОБРАЗОВАНИЯ, МЕХАНИЗМОВ ВНЕДРЕНИЯ ФГОС ДОШКОЛЬНОГО ОБРАЗОВАНИЯ  г. Москва, 31 октября – 2 ноября 2013 г.</dc:title>
</cp:coreProperties>
</file>