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9AAC-3CA3-44C2-82EC-4185CF9524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72D9-5F2F-436A-B801-54B1FD9C4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569-71C8-4CD3-B71D-E2DBF1E59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E4BC-00FD-43DA-B249-C4E497BD3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E5F0-10E0-4B7B-A5CE-32B7F81413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985B-6676-44B4-82D1-6272E498E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8DF5-C3C0-4A45-9A80-7F9AF79DB1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D65C-DE19-49C2-8533-CAF973114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75F-7025-468B-BBCA-CB2F9112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96A-8AA0-40A5-BAFC-2BE6436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9E488-5224-448D-B180-3A6DD301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A7C9A-F0B1-4E3C-9162-E0D79D8B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E1512-2603-480A-AF3F-EBCCF6F7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CE221-618F-4D81-854B-21B3703F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BDAE2-8C8A-49DD-92AA-04A0362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B66DF-ED49-42DD-82B1-A0C9B16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C4350-BB17-4981-AF8D-6F4E39D2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20B65-BA07-47A6-B3EB-B8934954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1D047-5AEF-4775-AD6A-A7ECA51F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6B37B-BDD2-4D53-9807-64693892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645-921C-40E3-9E36-FD342CB2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CAE75-3A32-4101-9866-88EA1E88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623E6-74ED-40BA-9C47-CA6CD8D0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257D7-BB32-4139-AF44-F624936B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953D7-D78B-4038-A163-AA8934BA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23956-FE7D-493F-A7D1-5C92B495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3F719-483B-4285-8D26-C0C0CF4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4C3ED-917D-4B1B-8B90-B68B68C6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FA2AF-7803-448B-B5F8-60405A21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947B2-16BF-4543-B844-BF9FE90B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E87FE-0393-42A4-9A37-E82212EA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86F-2119-4ACC-A70D-E906B6A7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8ED30-4D48-4BA5-91BD-E42794D8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BCB4C-A7E4-4E5C-99D1-4FDF40A2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3CA98-E5C0-4964-AC66-41E6103A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5390F-544B-475A-A450-D59085AE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EF880-EF5D-4BDC-B8C0-1D699646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88EED-6E18-498F-90AA-CFE90F1B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745C9-6C8B-4D73-AAF1-7E8A2BAF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A3528-F8DE-4D08-83F3-FEB5A2A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EB67B-6754-43A1-BD8E-5DDE506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D41C5-A51D-4CC1-8D65-F9E2C46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69AA-5936-46DC-8888-84D11249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EA76A-9263-4E9B-A666-74BC1CB2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3357B-172E-4616-B5C3-FBC7B20C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EB2A-981A-41F4-952D-0C98D908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11D2A-CF79-4220-9FA2-B752A3A8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B98D0-73EE-4710-9EAA-839CB576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4E9A2-3BF5-4DC2-ACF7-4879308B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36462-FAF4-4D7D-918F-7E6BCDD2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FEEA2-95C7-488C-8D22-299E3D28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A5468-93F3-466B-89D1-88FFF8F6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AF314-5D44-4C4C-AF5C-4DEAA791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F229-B022-4F62-AD03-DB40BC36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6D0CF-7F2F-4D0E-8B79-AE4DEBA0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345FF-8F36-4948-9176-0135AA21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7D769-C7A6-4652-9CED-6D9D9346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98FD4-487B-4B2E-9191-9FC14ACE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0CEB9-F808-4A30-9AFC-F110EBED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14DBD-3C96-4D5E-94F7-AF713A93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40E68-5429-48AD-A88B-C49650AD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AEA6F-7F1D-4CE6-A82B-3CE57E9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955F9-75A6-40D0-88DF-78405FD0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FF0BE-DDBE-405C-8B01-1F6C48E7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12BE-7C57-469B-BD5C-55F1A5C9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DEED1-BBB0-449C-9E73-C1EB164F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3C35B-C393-49A7-B9F0-6095A64F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E1946-5F78-4557-9B56-5235C912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29A89-4E6A-4D0F-AD28-1999F93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73947-0D9A-4198-9CF2-F198DDB0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BD943-35D1-43DC-B7E3-429F1C53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7458A-59BC-4F75-90B2-4ED10C48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3B82-DB69-41B2-94AF-7851B867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D1C5-43DB-437B-9490-B09128EA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8B67-CFC2-452B-96E2-7FDAF63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383C-40F0-4D6B-9BD1-ADEE63B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BD3-9C16-435C-994B-451D3CDC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214C-5745-4896-8CD3-3443E78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6618-A771-4DD8-895E-0FED8B48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160D-0B96-4EC8-8A60-0A037A6E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CDF0-8992-40D0-8FC5-2036990A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98A5-2B36-4DB2-B871-0B24AA5A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5F6D-DA3A-475E-895E-A8E4DC32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9D52-638C-43DF-B6E1-B82FE203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25EBD-9D51-4F53-AF11-B4C4D200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74047-B4EF-4D42-B36C-F91E3BC2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5945-A198-473B-BEEB-F96808AE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685-6411-44EB-94E3-4673E84D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5B07A-7BCA-47DB-B8BD-8A20526A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B4005-24E9-4B56-B5C1-0D213C9A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BEE74-E652-46AD-BAD3-65B678F9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C088-BC15-4396-9143-578EE6C6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2C4A-4EEA-4872-92D0-AA8B33F5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9465-70B1-4908-AE60-0289F7B5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4274-998B-4C60-96BD-39A90ECD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E8AD-F2DF-460A-94C1-A9AA6290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4F56-2BF8-420D-A4B7-56EFD538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D5A4-197E-4118-888C-813C82B5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ED7-B719-4ACF-B056-B79795A1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A941-93E5-4A77-87A4-CEA698E5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AF039-E503-4768-936A-1622CD06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1215C-0C88-45FE-8649-5BFC8809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3101-8E4A-4E89-AB41-3D22E52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7527E-74C4-4675-93C3-27D4EDD1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54AE1-7889-4345-AB1A-32C06574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3836B-71A4-422A-B66E-3C920B57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FD39-8746-4885-BE43-FB823C98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EF31-88F3-4C56-B6F5-4FEA5432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33C0-95ED-4FA8-87ED-3C557BF9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927-FCFA-48CD-8DAA-636768D1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705F9-ACC6-46B2-872F-F7074804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0F00-6065-4D3C-A53F-6AC7526F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93DF-4F16-4FD3-8DFC-80046DE7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A53DB-F732-4BD2-9ADB-FFCBA41C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D66D-D411-4269-B3FA-F22CCB02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81869-C07E-421B-A1BF-68EDE673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AB5D6-A779-466D-8253-FB561EBA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97246-FE4B-49D3-9E0A-74C602CD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5DF92-1AAD-401B-8849-C8B8626A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CE09D-87A7-43AD-B016-09C1D719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EEE-59EA-4C5F-804F-157B1B3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13ED-B532-4A7A-B2F6-07CA147E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D2CFB-6D8C-485D-BFCD-C0E84043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7C9DB-BC3A-41FA-BA53-88972697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70554-B1CA-4E0E-9960-06EB1F0E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7F809-AC75-4EEF-B2AF-6ACB6CC8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202DD-9637-43A5-B8CE-6F3FFCE6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5F0D4-AA4C-486B-BAB6-4C077583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09F00-6126-47EE-9BBE-CECDE95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051BA-7D44-4A4E-932C-3C293679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BFC3E-F79B-43D8-A8E7-0E8B573C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F24-E967-414F-8C05-2E68AD1F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9961-9C93-45A7-BCB1-5BB1E821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BF94C-64E7-46C4-8154-3359293A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F9B3B-5EE9-4103-B553-9CA83AA2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62325-FD5A-48CB-9922-F6959501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10086-16DB-4971-999E-A95CA512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263DB-AC9F-4734-8A40-DEA6487E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F52DF-973A-42BC-B0AD-4E1A7687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DA77F-9FE6-4781-B20D-5B0A6715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C375-4A38-45B9-ADD9-7AF29A8A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9C0E1-D6EA-4A67-A325-B6AA2B6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391-2648-4F25-B166-FC76B15A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BE366-D3E3-484E-9D62-1AB904E0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D156-49B1-4298-8C89-B0101740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EA3FD-2476-4E64-8535-4ED69515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42066-96B8-4D30-9922-03B18498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C6BCF-E2AC-42F9-B71C-4D32F7AC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D836B-4DE1-44AD-862B-71494868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501AA-B415-4B69-8B27-7CA29A14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503F7-BCE9-463B-A1EA-AEB2836A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DA24B-12A6-4524-9D2D-572D461F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B62DA-2B35-4102-8D19-20EE2825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020-D11F-450D-B56C-757B9AFF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280D6-3F96-4A2E-B78E-AD2F81B4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1ACDD-6E22-464C-8F2A-76510E50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9CF66-36CA-4CA7-8149-14284FEF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1B0E7-FB2A-4694-87C2-A192B937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B3D66-990F-43C0-924B-DEE457E8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61147-2A50-4E58-9F28-AB9DCB3C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1178E-EF90-443A-B23E-234C2E7B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66286-B6F1-4B47-A554-595296F9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E45D5-4180-4BD6-9F16-17BB70F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10231-87D0-4E82-AA1A-9BD1599E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A4F9-6823-489E-B8ED-8DB9F7A75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C31B-E87B-499F-AE27-71B6C724D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8B9A-F88A-49BE-95BD-0A4ABD52D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694F-34A5-451B-9DD1-F132341852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F7D5-8141-41D8-B43E-CBAE62260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B3F8-9BA8-4780-9161-038453914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5F6D-F783-46BC-894B-C49EB818E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B018-B7C0-4743-B2DD-1CB58DB72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E186-BC6F-4EB1-9423-847DEB983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45D0-134A-42EE-9FC4-0F35EA78F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AF3F-AC51-47B5-95F0-2A663FDB6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9A04-46B3-44DD-8F30-D2BF33E6C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665A-F4A7-4B1D-81C0-58841269F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mailto:67@yandex.ru" TargetMode="External"/><Relationship Id="rId5" Type="http://schemas.openxmlformats.org/officeDocument/2006/relationships/hyperlink" Target="mailto:67@yandex.ru" TargetMode="External"/><Relationship Id="rId6" Type="http://schemas.openxmlformats.org/officeDocument/2006/relationships/hyperlink" Target="mailto:67@yandex.ru" TargetMode="External"/><Relationship Id="rId7" Type="http://schemas.openxmlformats.org/officeDocument/2006/relationships/hyperlink" Target="mailto:67@yandex.ru" TargetMode="External"/><Relationship Id="rId8" Type="http://schemas.openxmlformats.org/officeDocument/2006/relationships/hyperlink" Target="mailto:iro67ru@yandex.ru" TargetMode="External"/><Relationship Id="rId9" Type="http://schemas.openxmlformats.org/officeDocument/2006/relationships/hyperlink" Target="http://yandex.ru/clck/jsredir?from=yandex.ru%3Byandsearch%3Bweb%3B%3B&amp;text=&amp;etext=592.-cq5tEPni4RhY-nEguQlaiktr4i-0kKwDkMvxWkEto_lfECPUJv_bWSJvg9j2jv2YHz6JZeaz5zchz-SCTyVgcTrinGHodr7cE83-v1okzni9d6G-27te-WznkxMftkUwLn-eJKVvG4KuRrHgmetLw.ba9bf2d002e551f3c1a312b2083aa0d4183145db&amp;uuid=&amp;state=AiuY0DBWFJ4ePaEse6rgeKdnI0e4oXuRYo0IEhrXr7w0L24O5Xv8RnUVwmxyeTliQI-KbE6oCBUknbKlp5ij70H7TL0VHvwnLErCH8msSZ2XVQaykt_6Mqn9jBIRg1btKferRKy6M2uxlR8tpfu88a7RsB4tFAVNSj02_AG9bNa7xKzQNquUEquOz_Uvyga90tzBI0VzL58OlRkUwfZwNSlXGjAQsxXDDN9AHsuXshpGk-d24rtXfVHQeXPQChTG8jdzpQPWp-sXa1qaiv1Z92uVw87BImWgy1_2fbucxJdO3HZP639oCbG0vF3s1n0g2LwD1VjxmMENpjBBf0EIv9JzdNODdvQ9qkF2Eln_NRSBh9XOAEiCFbk8QAZ_1W0fG3KMZq0luHkiGIbZALiZaegfSmkFKo200Rimh9TL5cqlQuA9TP6TifHFE2t8GrAu6ZD9cRUqv_FYnFAqlN7dZZ2-e85ACL65ztaXAW-1-AyroOCiTE-1jKpklzScmrNw697sKWtygJhBk3Zd0nBjnuWrMOQ0FMPKHb7SuUChtGND_BGsF5kIhA&amp;data=UlNrNmk5WktYejR0eWJFYk1LdmtxamNjM0VkUS1VQlBKSk9pWHRnZ0lGXzBrMkl1LXhIZllSZndLbk1aQjQ1U08wcXJIY2FFQ2l3RXpNZDRzRENuN2ZQSEVIXzFJZ2xYdmhoYy1icTRIbVU&amp;b64e=2&amp;sign=afc119986ed50ea3b8ea8a1bd63dbd39&amp;keyno=0&amp;ref=cM777e4sMOAycdZhdUbYHtkusEOiLu3mrcs1BCKzuV0wt3VszUMThG6cAPZupVd52yavv9KrOsaW35cj8zsrKjdqyptfw22kSFRAc-6UNrRbHketA3Sks2_BpIWO1VJa7Vnc36XZch55VzbLxSxBoFAdjQulEXFzG1PESA2gR0cpXmR82XA3FC5b_iySVGyvxXwG99yUF5CSMH31eIQKoqtg5uUC0zH9tIMuNhjByhITmpV_SV4OWBUhIJRlKw0Qe8-d-WdAWHWxP6WdqPufSnuPbcrXIQjc&amp;l10n=ru&amp;cts=1423246587766&amp;mc=4.7213539765475065" TargetMode="External"/><Relationship Id="rId10" Type="http://schemas.openxmlformats.org/officeDocument/2006/relationships/hyperlink" Target="http://yandex.ru/clck/jsredir?from=yandex.ru%3Byandsearch%3Bweb%3B%3B&amp;text=&amp;etext=592.-cq5tEPni4RhY-nEguQlaiktr4i-0kKwDkMvxWkEto_lfECPUJv_bWSJvg9j2jv2YHz6JZeaz5zchz-SCTyVgcTrinGHodr7cE83-v1okzni9d6G-27te-WznkxMftkUwLn-eJKVvG4KuRrHgmetLw.ba9bf2d002e551f3c1a312b2083aa0d4183145db&amp;uuid=&amp;state=AiuY0DBWFJ4ePaEse6rgeKdnI0e4oXuRYo0IEhrXr7w0L24O5Xv8RnUVwmxyeTliQI-KbE6oCBUknbKlp5ij70H7TL0VHvwnLErCH8msSZ2XVQaykt_6Mqn9jBIRg1btKferRKy6M2uxlR8tpfu88a7RsB4tFAVNSj02_AG9bNa7xKzQNquUEquOz_Uvyga90tzBI0VzL58OlRkUwfZwNSlXGjAQsxXDDN9AHsuXshpGk-d24rtXfVHQeXPQChTG8jdzpQPWp-sXa1qaiv1Z92uVw87BImWgy1_2fbucxJdO3HZP639oCbG0vF3s1n0g2LwD1VjxmMENpjBBf0EIv9JzdNODdvQ9qkF2Eln_NRSBh9XOAEiCFbk8QAZ_1W0fG3KMZq0luHkiGIbZALiZaegfSmkFKo200Rimh9TL5cqlQuA9TP6TifHFE2t8GrAu6ZD9cRUqv_FYnFAqlN7dZZ2-e85ACL65ztaXAW-1-AyroOCiTE-1jKpklzScmrNw697sKWtygJhBk3Zd0nBjnuWrMOQ0FMPKHb7SuUChtGND_BGsF5kIhA&amp;data=UlNrNmk5WktYejR0eWJFYk1LdmtxamNjM0VkUS1VQlBKSk9pWHRnZ0lGXzBrMkl1LXhIZllSZndLbk1aQjQ1U08wcXJIY2FFQ2l3RXpNZDRzRENuN2ZQSEVIXzFJZ2xYdmhoYy1icTRIbVU&amp;b64e=2&amp;sign=afc119986ed50ea3b8ea8a1bd63dbd39&amp;keyno=0&amp;ref=cM777e4sMOAycdZhdUbYHtkusEOiLu3mrcs1BCKzuV0wt3VszUMThG6cAPZupVd52yavv9KrOsaW35cj8zsrKjdqyptfw22kSFRAc-6UNrRbHketA3Sks2_BpIWO1VJa7Vnc36XZch55VzbLxSxBoFAdjQulEXFzG1PESA2gR0cpXmR82XA3FC5b_iySVGyvxXwG99yUF5CSMH31eIQKoqtg5uUC0zH9tIMuNhjByhITmpV_SV4OWBUhIJRlKw0Qe8-d-WdAWHWxP6WdqPufSnuPbcrXIQjc&amp;l10n=ru&amp;cts=1423246587766&amp;mc=4.7213539765475065" TargetMode="External"/><Relationship Id="rId11" Type="http://schemas.openxmlformats.org/officeDocument/2006/relationships/hyperlink" Target="http://yandex.ru/clck/jsredir?from=yandex.ru%3Byandsearch%3Bweb%3B%3B&amp;text=&amp;etext=592.-cq5tEPni4RhY-nEguQlaiktr4i-0kKwDkMvxWkEto_lfECPUJv_bWSJvg9j2jv2YHz6JZeaz5zchz-SCTyVgcTrinGHodr7cE83-v1okzni9d6G-27te-WznkxMftkUwLn-eJKVvG4KuRrHgmetLw.ba9bf2d002e551f3c1a312b2083aa0d4183145db&amp;uuid=&amp;state=AiuY0DBWFJ4ePaEse6rgeKdnI0e4oXuRYo0IEhrXr7w0L24O5Xv8RnUVwmxyeTliQI-KbE6oCBUknbKlp5ij70H7TL0VHvwnLErCH8msSZ2XVQaykt_6Mqn9jBIRg1btKferRKy6M2uxlR8tpfu88a7RsB4tFAVNSj02_AG9bNa7xKzQNquUEquOz_Uvyga90tzBI0VzL58OlRkUwfZwNSlXGjAQsxXDDN9AHsuXshpGk-d24rtXfVHQeXPQChTG8jdzpQPWp-sXa1qaiv1Z92uVw87BImWgy1_2fbucxJdO3HZP639oCbG0vF3s1n0g2LwD1VjxmMENpjBBf0EIv9JzdNODdvQ9qkF2Eln_NRSBh9XOAEiCFbk8QAZ_1W0fG3KMZq0luHkiGIbZALiZaegfSmkFKo200Rimh9TL5cqlQuA9TP6TifHFE2t8GrAu6ZD9cRUqv_FYnFAqlN7dZZ2-e85ACL65ztaXAW-1-AyroOCiTE-1jKpklzScmrNw697sKWtygJhBk3Zd0nBjnuWrMOQ0FMPKHb7SuUChtGND_BGsF5kIhA&amp;data=UlNrNmk5WktYejR0eWJFYk1LdmtxamNjM0VkUS1VQlBKSk9pWHRnZ0lGXzBrMkl1LXhIZllSZndLbk1aQjQ1U08wcXJIY2FFQ2l3RXpNZDRzRENuN2ZQSEVIXzFJZ2xYdmhoYy1icTRIbVU&amp;b64e=2&amp;sign=afc119986ed50ea3b8ea8a1bd63dbd39&amp;keyno=0&amp;ref=cM777e4sMOAycdZhdUbYHtkusEOiLu3mrcs1BCKzuV0wt3VszUMThG6cAPZupVd52yavv9KrOsaW35cj8zsrKjdqyptfw22kSFRAc-6UNrRbHketA3Sks2_BpIWO1VJa7Vnc36XZch55VzbLxSxBoFAdjQulEXFzG1PESA2gR0cpXmR82XA3FC5b_iySVGyvxXwG99yUF5CSMH31eIQKoqtg5uUC0zH9tIMuNhjByhITmpV_SV4OWBUhIJRlKw0Qe8-d-WdAWHWxP6WdqPufSnuPbcrXIQjc&amp;l10n=ru&amp;cts=1423246587766&amp;mc=4.7213539765475065" TargetMode="External"/><Relationship Id="rId12" Type="http://schemas.openxmlformats.org/officeDocument/2006/relationships/hyperlink" Target="http://yandex.ru/clck/jsredir?from=yandex.ru%3Byandsearch%3Bweb%3B%3B&amp;text=&amp;etext=592.-cq5tEPni4RhY-nEguQlaiktr4i-0kKwDkMvxWkEto_lfECPUJv_bWSJvg9j2jv2YHz6JZeaz5zchz-SCTyVgcTrinGHodr7cE83-v1okzni9d6G-27te-WznkxMftkUwLn-eJKVvG4KuRrHgmetLw.ba9bf2d002e551f3c1a312b2083aa0d4183145db&amp;uuid=&amp;state=AiuY0DBWFJ4ePaEse6rgeKdnI0e4oXuRYo0IEhrXr7w0L24O5Xv8RnUVwmxyeTliQI-KbE6oCBUknbKlp5ij70H7TL0VHvwnLErCH8msSZ2XVQaykt_6Mqn9jBIRg1btKferRKy6M2uxlR8tpfu88a7RsB4tFAVNSj02_AG9bNa7xKzQNquUEquOz_Uvyga90tzBI0VzL58OlRkUwfZwNSlXGjAQsxXDDN9AHsuXshpGk-d24rtXfVHQeXPQChTG8jdzpQPWp-sXa1qaiv1Z92uVw87BImWgy1_2fbucxJdO3HZP639oCbG0vF3s1n0g2LwD1VjxmMENpjBBf0EIv9JzdNODdvQ9qkF2Eln_NRSBh9XOAEiCFbk8QAZ_1W0fG3KMZq0luHkiGIbZALiZaegfSmkFKo200Rimh9TL5cqlQuA9TP6TifHFE2t8GrAu6ZD9cRUqv_FYnFAqlN7dZZ2-e85ACL65ztaXAW-1-AyroOCiTE-1jKpklzScmrNw697sKWtygJhBk3Zd0nBjnuWrMOQ0FMPKHb7SuUChtGND_BGsF5kIhA&amp;data=UlNrNmk5WktYejR0eWJFYk1LdmtxamNjM0VkUS1VQlBKSk9pWHRnZ0lGXzBrMkl1LXhIZllSZndLbk1aQjQ1U08wcXJIY2FFQ2l3RXpNZDRzRENuN2ZQSEVIXzFJZ2xYdmhoYy1icTRIbVU&amp;b64e=2&amp;sign=afc119986ed50ea3b8ea8a1bd63dbd39&amp;keyno=0&amp;ref=cM777e4sMOAycdZhdUbYHtkusEOiLu3mrcs1BCKzuV0wt3VszUMThG6cAPZupVd52yavv9KrOsaW35cj8zsrKjdqyptfw22kSFRAc-6UNrRbHketA3Sks2_BpIWO1VJa7Vnc36XZch55VzbLxSxBoFAdjQulEXFzG1PESA2gR0cpXmR82XA3FC5b_iySVGyvxXwG99yUF5CSMH31eIQKoqtg5uUC0zH9tIMuNhjByhITmpV_SV4OWBUhIJRlKw0Qe8-d-WdAWHWxP6WdqPufSnuPbcrXIQjc&amp;l10n=ru&amp;cts=1423246587766&amp;mc=4.7213539765475065" TargetMode="Externa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158760" y="1908000"/>
            <a:ext cx="9144000" cy="3106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елирование персонифицированной системы воспитания в условиях общ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дополните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5435640" y="5700600"/>
            <a:ext cx="16574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015 - 2019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4067280" y="5192640"/>
            <a:ext cx="4970520" cy="504720"/>
          </a:xfrm>
          <a:prstGeom prst="rect">
            <a:avLst/>
          </a:prstGeom>
          <a:solidFill>
            <a:srgbClr val="eeece1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егиональная инновационная площ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Заголовок 1"/>
          <p:cNvSpPr/>
          <p:nvPr/>
        </p:nvSpPr>
        <p:spPr>
          <a:xfrm>
            <a:off x="1979640" y="209520"/>
            <a:ext cx="71643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осударственное автономное учреждение  дополнительного профессионального образова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Смоленский областной институт развития образования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Заголовок 1"/>
          <p:cNvSpPr/>
          <p:nvPr/>
        </p:nvSpPr>
        <p:spPr>
          <a:xfrm>
            <a:off x="3825720" y="1197000"/>
            <a:ext cx="5088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афедра воспитания и социализации детей и молоде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28440" y="92160"/>
            <a:ext cx="1689120" cy="1660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аучно-методические мероприятия  (2017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79280" y="515880"/>
          <a:ext cx="9144000" cy="1890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8907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а региональном уровн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17375e"/>
                          </a:solidFill>
                          <a:uFillTx/>
                          <a:latin typeface="Calibri"/>
                        </a:rPr>
                        <a:t>Научно-практический семинар </a:t>
                      </a:r>
                      <a:r>
                        <a:rPr b="1" lang="ru-RU" sz="2400" spc="-1" strike="noStrike" u="sng">
                          <a:solidFill>
                            <a:srgbClr val="632523"/>
                          </a:solidFill>
                          <a:uFillTx/>
                          <a:latin typeface="Calibri"/>
                        </a:rPr>
                        <a:t>«Реализация идеи персонификации в работе с обучающимися  массовой школы</a:t>
                      </a:r>
                      <a:r>
                        <a:rPr b="1" lang="ru-RU" sz="2400" spc="-1" strike="noStrike" u="sng">
                          <a:solidFill>
                            <a:srgbClr val="17375e"/>
                          </a:solidFill>
                          <a:uFillTx/>
                          <a:latin typeface="Calibri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а базе МБОУ СШ№33 г.Смоленс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179280" y="2205000"/>
          <a:ext cx="9144000" cy="4556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5616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17375e"/>
                          </a:solidFill>
                          <a:uFillTx/>
                          <a:latin typeface="Calibri"/>
                        </a:rPr>
                        <a:t>Областная школа педагогического мастерства для педагогов, методистов, директоров организаций дополнительного образования по теме: </a:t>
                      </a:r>
                      <a:r>
                        <a:rPr b="1" lang="ru-RU" sz="2400" spc="-1" strike="noStrike" u="sng">
                          <a:solidFill>
                            <a:srgbClr val="632523"/>
                          </a:solidFill>
                          <a:uFillTx/>
                          <a:latin typeface="Calibri"/>
                        </a:rPr>
                        <a:t>«Педагогическое обеспечение становления персонифицированной системы воспитания учащихся в учреждениях дополнительного образовани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базе СОГБУ ДО «Станция юннат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17375e"/>
                          </a:solidFill>
                          <a:uFillTx/>
                          <a:latin typeface="Calibri"/>
                        </a:rPr>
                        <a:t>Заседание областного методического объединения педагогов дополнительного образования по теме </a:t>
                      </a:r>
                      <a:r>
                        <a:rPr b="1" lang="ru-RU" sz="2400" spc="-1" strike="noStrike" u="sng">
                          <a:solidFill>
                            <a:srgbClr val="632523"/>
                          </a:solidFill>
                          <a:uFillTx/>
                          <a:latin typeface="Calibri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ерсонификация образовательного процесса в учреждении дополнительного образования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(В форме вебина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1025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 advTm="8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аучно-методические мероприят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Прямоугольник 7"/>
          <p:cNvSpPr/>
          <p:nvPr/>
        </p:nvSpPr>
        <p:spPr>
          <a:xfrm>
            <a:off x="9360" y="549360"/>
            <a:ext cx="9134640" cy="37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 межрегиональном и международном 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Межрегиональный интернет-форум </a:t>
            </a: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«Проектирование персонифицированной системы воспитания ребенка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и процесса ее развития» (апрель 2016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(От РИП - 19 участников, 63 комментария в фору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2. 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Межрегиональная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веб-презентация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«Педагогическое обеспечение становления персонифицированной системы воспитания ребёнка»</a:t>
            </a: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 - 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декабрь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т РИП - 36 участников, более 50 комментари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                 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редставлено на обсуждение 6 разраб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1"/>
          <p:cNvSpPr/>
          <p:nvPr/>
        </p:nvSpPr>
        <p:spPr>
          <a:xfrm>
            <a:off x="-7920" y="4454640"/>
            <a:ext cx="9134280" cy="2166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Calibri"/>
                <a:ea typeface="Calibri"/>
              </a:rPr>
              <a:t>. Межрегиональный веб-форум  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Calibri"/>
              </a:rPr>
              <a:t>( 1-8 апреля 2017г.) 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Calibri"/>
                <a:ea typeface="Calibri"/>
              </a:rPr>
              <a:t>и  веб-презентация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Calibri"/>
              </a:rPr>
              <a:t> (7.12-14.12.2017г.) по проблемам </a:t>
            </a:r>
            <a:r>
              <a:rPr b="1" lang="ru-RU" sz="2400" spc="-1" strike="noStrike">
                <a:solidFill>
                  <a:srgbClr val="663300"/>
                </a:solidFill>
                <a:latin typeface="Calibri"/>
                <a:ea typeface="Calibri"/>
              </a:rPr>
              <a:t>«Педагогическое обеспечение  функционирования персонифицированной системы воспитания ребё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Calibri"/>
              </a:rPr>
              <a:t>(От РИП – 36 участников , 80 комментарие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Calibri"/>
              </a:rPr>
              <a:t>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Calibri"/>
              </a:rPr>
              <a:t>представлено на обсуждение 11 разработ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Заголовок 1"/>
          <p:cNvSpPr/>
          <p:nvPr/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аучно-методические мероприят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аучно-методические мероприят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Международная научно-практическая конференция «Новое воспитание нового поколения»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- 13-14 апреля 201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Полоцк, республика Беларусь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очном режиме в конференции участвовало 12 чел.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заочном – 19че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ено – 2 доклада от РИ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человека – являлись модераторами се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0040" y="-1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Прогнозируемые результа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3 этапа исследования (2018-2019.г.г)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7240" y="1557360"/>
            <a:ext cx="9115200" cy="54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одукты  инновационной дея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борник теоретических и практических материалов, включая  описание моделей персонифицированных  воспитательных систем,  инновационных форм и технологий   воспит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кет контрольно-измерительных, диагностических  и аналитических матери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бликации участников РИП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в региональных и межрегиональных издания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28440" y="92160"/>
            <a:ext cx="798480" cy="785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Главное предназначение ПСВ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68360" y="907560"/>
            <a:ext cx="8229600" cy="158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действие успешному развитию уникальной и целостной персоны конкретного ребен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 основе создания условий для формирования, проявления и последующего обогащения его субъектного опыта в саморазвит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Прямоугольник 3"/>
          <p:cNvSpPr/>
          <p:nvPr/>
        </p:nvSpPr>
        <p:spPr>
          <a:xfrm>
            <a:off x="395280" y="3025800"/>
            <a:ext cx="8497800" cy="7642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ый педагог должен владеть формами, методами и технологиями реализации персонифицированного подхо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28440" y="92160"/>
            <a:ext cx="1014480" cy="996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7"/>
          <p:cNvGrpSpPr/>
          <p:nvPr/>
        </p:nvGrpSpPr>
        <p:grpSpPr>
          <a:xfrm>
            <a:off x="434880" y="290520"/>
            <a:ext cx="1800360" cy="1064160"/>
            <a:chOff x="434880" y="290520"/>
            <a:chExt cx="1800360" cy="1064160"/>
          </a:xfrm>
        </p:grpSpPr>
        <p:pic>
          <p:nvPicPr>
            <p:cNvPr id="591" name="Picture 8" descr="институт УУ"/>
            <p:cNvPicPr/>
            <p:nvPr/>
          </p:nvPicPr>
          <p:blipFill>
            <a:blip r:embed="rId1"/>
            <a:stretch/>
          </p:blipFill>
          <p:spPr>
            <a:xfrm>
              <a:off x="434880" y="290520"/>
              <a:ext cx="1792080" cy="92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9"/>
            <p:cNvSpPr/>
            <p:nvPr/>
          </p:nvSpPr>
          <p:spPr>
            <a:xfrm>
              <a:off x="1396800" y="1078200"/>
              <a:ext cx="838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a3f3c"/>
                  </a:solidFill>
                  <a:latin typeface="Verdana"/>
                </a:rPr>
                <a:t>СОИР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250560" y="1915920"/>
            <a:ext cx="8620200" cy="3999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c0c0c0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41"/>
                </a:solidFill>
                <a:latin typeface="Verdana"/>
              </a:rPr>
              <a:t>ГАУ ДПОС «СОИР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11" descr="j0115875"/>
          <p:cNvPicPr/>
          <p:nvPr/>
        </p:nvPicPr>
        <p:blipFill>
          <a:blip r:embed="rId2"/>
          <a:stretch/>
        </p:blipFill>
        <p:spPr>
          <a:xfrm>
            <a:off x="971640" y="1684440"/>
            <a:ext cx="7885080" cy="13176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3"/>
          <p:cNvSpPr/>
          <p:nvPr/>
        </p:nvSpPr>
        <p:spPr>
          <a:xfrm>
            <a:off x="2519280" y="2222640"/>
            <a:ext cx="6337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4"/>
                </a:solidFill>
                <a:latin typeface="Bookman Old Style"/>
              </a:rPr>
              <a:t>г. Смоле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4"/>
                </a:solidFill>
                <a:latin typeface="Bookman Old Style"/>
              </a:rPr>
              <a:t>ул. Октябрьской революции, д. </a:t>
            </a:r>
            <a:r>
              <a:rPr b="1" lang="en-US" sz="2400" spc="-1" strike="noStrike">
                <a:solidFill>
                  <a:srgbClr val="242494"/>
                </a:solidFill>
                <a:latin typeface="Bookman Old Style"/>
              </a:rPr>
              <a:t>20</a:t>
            </a:r>
            <a:r>
              <a:rPr b="1" lang="ru-RU" sz="2400" spc="-1" strike="noStrike">
                <a:solidFill>
                  <a:srgbClr val="242494"/>
                </a:solidFill>
                <a:latin typeface="Bookman Old Style"/>
              </a:rPr>
              <a:t>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1d8f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1d8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1d8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5" descr="j0115875"/>
          <p:cNvPicPr/>
          <p:nvPr/>
        </p:nvPicPr>
        <p:blipFill>
          <a:blip r:embed="rId3"/>
          <a:stretch/>
        </p:blipFill>
        <p:spPr>
          <a:xfrm>
            <a:off x="2392200" y="3189240"/>
            <a:ext cx="6445440" cy="108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2"/>
          <p:cNvSpPr/>
          <p:nvPr/>
        </p:nvSpPr>
        <p:spPr>
          <a:xfrm>
            <a:off x="2627280" y="5373720"/>
            <a:ext cx="59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c00"/>
                </a:solidFill>
                <a:latin typeface="Bookman Old Style"/>
              </a:rPr>
              <a:t>Телефон: (4812) 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 3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-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75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-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E-mail</a:t>
            </a:r>
            <a:r>
              <a:rPr b="1" lang="ru-RU" sz="2000" spc="-1" strike="noStrike">
                <a:solidFill>
                  <a:srgbClr val="005c00"/>
                </a:solidFill>
                <a:latin typeface="Bookman Old Style"/>
              </a:rPr>
              <a:t>: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КИОТ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67@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yandex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2392200" y="3279600"/>
            <a:ext cx="5977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c00"/>
                </a:solidFill>
                <a:latin typeface="Bookman Old Style"/>
              </a:rPr>
              <a:t>Телефон: 8(4812) 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 3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-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-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E-mail</a:t>
            </a:r>
            <a:r>
              <a:rPr b="1" lang="ru-RU" sz="2000" spc="-1" strike="noStrike">
                <a:solidFill>
                  <a:srgbClr val="005c00"/>
                </a:solidFill>
                <a:latin typeface="Bookman Old Style"/>
              </a:rPr>
              <a:t>: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iro67ru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URL: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www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dpo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smolensk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j0115875"/>
          <p:cNvPicPr/>
          <p:nvPr/>
        </p:nvPicPr>
        <p:blipFill>
          <a:blip r:embed="rId13"/>
          <a:stretch/>
        </p:blipFill>
        <p:spPr>
          <a:xfrm>
            <a:off x="2392200" y="4869000"/>
            <a:ext cx="6445440" cy="1076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2"/>
          <p:cNvSpPr/>
          <p:nvPr/>
        </p:nvSpPr>
        <p:spPr>
          <a:xfrm>
            <a:off x="139680" y="4513320"/>
            <a:ext cx="8691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41"/>
                </a:solidFill>
                <a:latin typeface="Verdana"/>
              </a:rPr>
              <a:t>Кафедра воспитания и социализации детей и молоде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3999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c0c0c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41"/>
                </a:solidFill>
                <a:latin typeface="Verdana"/>
              </a:rPr>
              <a:t>Контак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539280" y="1773000"/>
            <a:ext cx="87123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Цель исследовани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оит в разработке теоретических, методических и организационных основ применения персонифицированного подхода  в системе  общего  и дополнительного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9080" y="1267920"/>
            <a:ext cx="42926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Общеобразовательные  организ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08000" y="1699920"/>
            <a:ext cx="42465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-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«Гимназия №1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м. Пржевальского» 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    МБОУ СШ № 2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СШ № 12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СШ № 31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СШ № 32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СШ № 33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СШ № 40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Мурыгинская СШ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Починковский рай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-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Хорошовская  СОШ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Рославльский рай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54644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Организаци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9400" y="1700280"/>
            <a:ext cx="468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-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У ДО «Шумячский Дом детского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ворчеств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 МБУ ДО «Ярцевский Дом детского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ворчеств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- МБУ ДО  «Дом детского творче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г. Десногор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- МБУ ДО «Областная станция юных натуралис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title"/>
          </p:nvPr>
        </p:nvSpPr>
        <p:spPr>
          <a:xfrm>
            <a:off x="-360" y="114120"/>
            <a:ext cx="91393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В составе РИП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родолжили работу </a:t>
            </a:r>
            <a:r>
              <a:rPr b="1" lang="ru-RU" sz="2300" spc="-1" strike="noStrike">
                <a:solidFill>
                  <a:srgbClr val="800000"/>
                </a:solidFill>
                <a:latin typeface="Calibri"/>
              </a:rPr>
              <a:t>13 базовых образовательных организаций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(9  общеобразовательных организаций и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4 организации дополнительного образования)  - </a:t>
            </a:r>
            <a:r>
              <a:rPr b="1" lang="ru-RU" sz="2300" spc="-1" strike="noStrike">
                <a:solidFill>
                  <a:srgbClr val="800000"/>
                </a:solidFill>
                <a:latin typeface="Calibri"/>
              </a:rPr>
              <a:t>65 человек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Объект 5"/>
          <p:cNvSpPr/>
          <p:nvPr/>
        </p:nvSpPr>
        <p:spPr>
          <a:xfrm>
            <a:off x="3946680" y="5075280"/>
            <a:ext cx="5508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Руководитель ИП -  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Кочергина Г.Д., зав. каф. воспитания и социализации детей и молодежи, к.п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Координатор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евакова Н.С., зав. отделом воспитания и дополнительного образования, аспирант Смол 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Прямоугольник 3"/>
          <p:cNvSpPr/>
          <p:nvPr/>
        </p:nvSpPr>
        <p:spPr>
          <a:xfrm>
            <a:off x="22320" y="476280"/>
            <a:ext cx="90360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Задачи 2 этапа исследования (2016-2017г.г.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явить сущностные характеристики и воспитательный потенциал персонифицированного подхо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работать и апробировать модели, программы персонифицированной системы воспитания ребенка в условиях общего и дополнительн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 организовать работу в базовых коллективах по формированию научно-методического обеспечения реализации персонифицированной системы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38040" y="201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Ключевые аспекты исслед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9480" y="998280"/>
            <a:ext cx="897876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ПСВ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успешного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одаренного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ПСВ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ребёнка «группы рис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Ребенок с ОВЗ</a:t>
            </a:r>
            <a:r>
              <a:rPr b="1" lang="ru-RU" sz="2400" spc="-1" strike="noStrike" u="sng">
                <a:solidFill>
                  <a:srgbClr val="558ed5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– субъект ПС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88920" y="5657760"/>
            <a:ext cx="90550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Arial"/>
              </a:rPr>
              <a:t>ПСВ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10253f"/>
                </a:solidFill>
                <a:uFillTx/>
                <a:latin typeface="Arial"/>
              </a:rPr>
              <a:t>в  условиях </a:t>
            </a:r>
            <a:r>
              <a:rPr b="1" lang="ru-RU" sz="2200" spc="-1" strike="noStrike" u="sng">
                <a:solidFill>
                  <a:srgbClr val="254061"/>
                </a:solidFill>
                <a:uFillTx/>
                <a:latin typeface="Arial"/>
              </a:rPr>
              <a:t>дополнительного образ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Arial"/>
              </a:rPr>
              <a:t>ПСВ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10253f"/>
                </a:solidFill>
                <a:uFillTx/>
                <a:latin typeface="Arial"/>
              </a:rPr>
              <a:t>в условиях </a:t>
            </a:r>
            <a:r>
              <a:rPr b="1" lang="ru-RU" sz="2200" spc="-1" strike="noStrike" u="sng">
                <a:solidFill>
                  <a:srgbClr val="254061"/>
                </a:solidFill>
                <a:uFillTx/>
                <a:latin typeface="Arial"/>
              </a:rPr>
              <a:t>городской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Arial"/>
              </a:rPr>
              <a:t>ПСВ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ru-RU" sz="2200" spc="-1" strike="noStrike" u="sng">
                <a:solidFill>
                  <a:srgbClr val="10253f"/>
                </a:solidFill>
                <a:uFillTx/>
                <a:latin typeface="Arial"/>
              </a:rPr>
              <a:t>в условиях </a:t>
            </a:r>
            <a:r>
              <a:rPr b="1" lang="ru-RU" sz="2200" spc="-1" strike="noStrike" u="sng">
                <a:solidFill>
                  <a:srgbClr val="254061"/>
                </a:solidFill>
                <a:uFillTx/>
                <a:latin typeface="Arial"/>
              </a:rPr>
              <a:t>сельской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Заголовок 1"/>
          <p:cNvSpPr/>
          <p:nvPr/>
        </p:nvSpPr>
        <p:spPr>
          <a:xfrm>
            <a:off x="179280" y="67464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бъекты персон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бъект 2"/>
          <p:cNvSpPr/>
          <p:nvPr/>
        </p:nvSpPr>
        <p:spPr>
          <a:xfrm>
            <a:off x="69840" y="3086280"/>
            <a:ext cx="9055080" cy="20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Ребенок</a:t>
            </a: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– субъект П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Педагог</a:t>
            </a: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 (воспитатель, классный руководитель, педагог дополнительного образования, психолог, социальный педагог) в П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Родитель</a:t>
            </a: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 - в П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Заголовок 1"/>
          <p:cNvSpPr/>
          <p:nvPr/>
        </p:nvSpPr>
        <p:spPr>
          <a:xfrm>
            <a:off x="900000" y="2581200"/>
            <a:ext cx="766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ли и функции  участников ПС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Заголовок 1"/>
          <p:cNvSpPr/>
          <p:nvPr/>
        </p:nvSpPr>
        <p:spPr>
          <a:xfrm>
            <a:off x="1019160" y="5153040"/>
            <a:ext cx="766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ПС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аучно-методические мероприятия  (2017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6360" y="765000"/>
          <a:ext cx="9107640" cy="5888160"/>
        </p:xfrm>
        <a:graphic>
          <a:graphicData uri="http://schemas.openxmlformats.org/drawingml/2006/table">
            <a:tbl>
              <a:tblPr/>
              <a:tblGrid>
                <a:gridCol w="9107640"/>
              </a:tblGrid>
              <a:tr h="588816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а уровне базовых коллективов  проведен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етодологические семинары (10)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руглые столы (6)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дискуссионные площадки (2)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едагогические  Советы (9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етодические Советы(3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семинары-практикумы, мастер-классы (13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заседания МО  (11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 advTm="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9252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32523"/>
                </a:solidFill>
                <a:latin typeface="Calibri"/>
              </a:rPr>
              <a:t>Продукты инновационной деятельности (2016-2017 г.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426960"/>
          <a:ext cx="9144000" cy="6126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73884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Концепция деятельности классного руководителя </a:t>
                      </a: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 созданию системы персонифированного воспитания в классном коллектив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БОУ «Хорошовская средняя общеобразовательная школа» Рославльского района Смоленской обла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Модель  и Программа персонифицированной системы воспитания учащихся </a:t>
                      </a:r>
                      <a:r>
                        <a:rPr b="1" lang="ru-RU" sz="20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в условиях дополнительного образов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(МБОУ ДОД «ЦДТ» г. Ярцев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рограмма развития МБОУ «Средняя школа №40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а Смоленска  - на период  2015-2020г.г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</a:t>
                      </a:r>
                      <a:r>
                        <a:rPr b="0" lang="ru-RU" sz="20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Персонифицированная система обучения и воспитания как условие развития личности учащихся в условиях микрорайона – новострой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Исследовательские  Проек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спользование персонифицированного подхода в организации научно-методической работы  с педагогами школы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МБОУ «СШ № 33 г.Смоленска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</a:t>
                      </a:r>
                      <a:r>
                        <a:rPr b="1" lang="ru-RU" sz="20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«Решение проблемы персонификации в образовании  при использовании учащимися школы «Дневника социальной успешности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БОУ «СШ № 33 г. Смоленска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</a:t>
                      </a:r>
                      <a:r>
                        <a:rPr b="1" lang="ru-RU" sz="20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«Воспитание современных детей: Путь осознанного родительства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БОУ СШ №2 г.Смоленска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ланы и программы исследовательской деятельности базовых коллективо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 advTm="8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28080"/>
            <a:ext cx="9144000" cy="5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Продукты иннова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9080" y="558720"/>
          <a:ext cx="9252000" cy="8798040"/>
        </p:xfrm>
        <a:graphic>
          <a:graphicData uri="http://schemas.openxmlformats.org/drawingml/2006/table">
            <a:tbl>
              <a:tblPr/>
              <a:tblGrid>
                <a:gridCol w="9252000"/>
              </a:tblGrid>
              <a:tr h="8798040">
                <a:tc>
                  <a:txBody>
                    <a:bodyPr lIns="114120" rIns="114120" tIns="0" bIns="0" anchor="t">
                      <a:noAutofit/>
                    </a:bodyPr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Целевые программы и новые формы персонификаци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403152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Программа элективного курса «Как стать персоной?»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 МБОУ СШ №33 г.Смоленс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403152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Программа «Мой индивидуальный проект»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БОУ СШ №33 г.Смоленс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403152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Дневник достижений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Шумячский ДД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403152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Положение и План  организации  летней школы «Успех»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мназия №1 им. Н.М.Пржевальског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403152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Индивидуальный образовательный маршрут одаренного ребенка и ребенка с ОВЗ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ногорский ДДТ, СЮ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1" lang="ru-RU" sz="2400" spc="-1" strike="noStrike" u="sng">
                          <a:solidFill>
                            <a:srgbClr val="800000"/>
                          </a:solidFill>
                          <a:uFillTx/>
                          <a:latin typeface="Calibri"/>
                        </a:rPr>
                        <a:t>Методические рекомендации </a:t>
                      </a:r>
                      <a:r>
                        <a:rPr b="1" lang="ru-RU" sz="24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- 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</a:rPr>
                        <a:t>-  </a:t>
                      </a:r>
                      <a:r>
                        <a:rPr b="1" lang="ru-RU" sz="2600" spc="-1" strike="noStrike" u="sng">
                          <a:solidFill>
                            <a:srgbClr val="800000"/>
                          </a:solidFill>
                          <a:uFillTx/>
                          <a:latin typeface="Calibri"/>
                        </a:rPr>
                        <a:t>Сценарии</a:t>
                      </a: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 классных часов и мероприятий (22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- Сценарии родительских собраний (15);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- Деловые игры и тренинги ( 13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- Консультации (для родителей, классных рук.,  детей - 17 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179280" y="6958080"/>
          <a:ext cx="9144000" cy="6318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18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</a:rPr>
                        <a:t>Все материалы прошли обсуждение на уровне МО  и/или  РМ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p:transition spd="slow" advTm="8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убликации  и выступ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Объект 2"/>
          <p:cNvSpPr/>
          <p:nvPr/>
        </p:nvSpPr>
        <p:spPr>
          <a:xfrm>
            <a:off x="0" y="595440"/>
            <a:ext cx="9144000" cy="5889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Calibri"/>
              </a:rPr>
              <a:t>За 2017 год участниками РИП подготовлено 22 публика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бъект 2"/>
          <p:cNvSpPr/>
          <p:nvPr/>
        </p:nvSpPr>
        <p:spPr>
          <a:xfrm>
            <a:off x="0" y="1430280"/>
            <a:ext cx="9144000" cy="30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2–в изданиях РИН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9 работ  - в центральных научно-педагогических изданиях 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МЖ «Заместитель директора по ВР», НМЖ «Классный руководитель»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9 разработок - в сборниках научно-практических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бъект 2"/>
          <p:cNvSpPr/>
          <p:nvPr/>
        </p:nvSpPr>
        <p:spPr>
          <a:xfrm>
            <a:off x="3240" y="4683240"/>
            <a:ext cx="9144000" cy="1253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 2016-2017 г.г. </a:t>
            </a:r>
            <a:r>
              <a:rPr b="1" lang="ru-RU" sz="2600" spc="-1" strike="noStrike">
                <a:solidFill>
                  <a:srgbClr val="10253f"/>
                </a:solidFill>
                <a:latin typeface="Calibri"/>
              </a:rPr>
              <a:t>участниками РИП подготовлено более  50 докладов  и выступлений (19 из них – на региональном и межрегиональном уровне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1"/>
          <p:cNvSpPr/>
          <p:nvPr/>
        </p:nvSpPr>
        <p:spPr>
          <a:xfrm>
            <a:off x="0" y="6183360"/>
            <a:ext cx="9144000" cy="6426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Формируется  региональная электронная коллекция материалов для использования участниками Р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44:33Z</dcterms:created>
  <dc:creator>Владелец</dc:creator>
  <dc:description/>
  <dc:language>en-US</dc:language>
  <cp:lastModifiedBy>Кочергина</cp:lastModifiedBy>
  <dcterms:modified xsi:type="dcterms:W3CDTF">2018-03-14T08:43:41Z</dcterms:modified>
  <cp:revision>580</cp:revision>
  <dc:subject/>
  <dc:title>Государственное автономное учреждение  дополнительного профессионального образования  (повышения квалификации) специалистов  «Смоленский областной институт развития образования»</dc:title>
</cp:coreProperties>
</file>