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27CA-EB0D-4DC6-AFFC-4830A19197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A7CF-3D9B-4862-98A3-4C8A5A8A51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CE86-F04C-4286-B48D-7C765A68F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7872-00AF-47F1-8E80-AA070C455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B369-076F-498C-A785-3904939674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09FB-92BD-4E12-82E3-CD5EF1FDC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6F37-7194-4A1D-AA91-A331A631B6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B64-4685-4889-8049-CE3842AD1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715-A128-4C1E-88C8-064E2E7D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DC7-3115-46D5-BBB0-D25C6F3D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91C99-B967-4D31-A5D6-26ADD5B9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A29F4-EB48-433B-AA94-F32F1CD2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0BFC2-52EF-426B-9D96-E9715C73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8AA7E-E0E6-4834-9E50-8794AAF5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6DBD5-00FC-49DB-B495-DEE7551E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68EF7-6DB0-4920-8DB1-F344A844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2B433-584E-4F38-9D49-76C0F7C4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25C4E-BD08-45BD-894C-466E5BFD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3E078-48AA-425E-885C-B059E9E7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34FD3-9D93-449F-B57C-445549C8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A7A-001D-46C4-A95F-6291138F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21D99-515B-4029-9209-63AE5B35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48E0A-6A05-4117-8CD4-69056FEE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B579D-B08A-420A-BF38-BC82F94C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52CE5-530A-47F7-B784-9C553601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8DC19-335D-480D-B2D8-133D94B2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8068C-908F-4F30-94C2-2A62F669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6F772-9308-4DBD-A649-00407CA3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F6AB1-F8FF-4AF2-A0E7-B40A5807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A474C-2802-46A3-B312-650B7695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686A7-13DA-4B83-8E30-8C3C50D8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DE4-404B-4DF6-8297-68D95DEC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CC348-F604-48BD-8D7D-537A32E4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6FB59-C1EB-4423-AED4-07B3A382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43090-2B22-40A0-9089-01DEFADD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0056D-5B84-4950-BB39-61E2CBA6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1A562-4782-4DEB-8EE5-12C8B06A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51A22-48A4-4E98-9D11-B4CD91E8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721F1-6CBA-4B35-A7AA-230ACDE7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469D0-7B5B-4171-B3AE-692660E0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C02C3-2CB9-4186-839E-C4FBF42B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BF171-8A45-4F8A-9B1F-8C490BD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6B7C-B601-47D3-BE8D-0945E805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0627B-C827-48F3-889D-FC24B7E3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F8120-BED8-4371-BABD-1B3481ED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98B93-7AD3-4E22-BAC5-B7A41A1B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9454F-5468-4BFC-92E8-88DE1217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8B0CD-6A8F-47F6-A4AC-F47246FD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DD176-EA6C-465B-9665-0E218E62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98542-1C42-4A41-8B86-EBCE5498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3F4D1-3F0C-432D-A5B8-34E0B51C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3A3E7-5714-400F-88EA-CD71F050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42CBB-9CA9-478A-9E9E-B98E7031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3AC2-028D-48D4-A74B-66A262D7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FB60A-FC9B-4EF4-8733-CD2482B8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869DF-B9B4-4628-A84F-EA089727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C8E36-B6D6-4627-A134-660187C1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7E0F3-A9D6-446B-BBDC-200C3514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89237-E6AD-4D2C-B7AF-CB56774F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FE191-7682-44D9-8354-FB69CDDB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C2867-8900-4D75-9B5A-8C1EAC5D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3137A-1D80-410B-A7BA-5E3CCD9B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AC22B-155F-4232-8D03-795DC45D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E9D78-C89F-40D3-B4D0-2F38FF1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EFE6-30AE-4EF5-8A83-4A7CDF42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55334-3867-45D7-80F8-F186A730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D7842-6A00-449D-B4FE-76A97C7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05110-3246-4F00-825D-88420965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622FA-B93F-4CA4-BC37-0D7A7B4B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F5FCB-661A-4E8C-890F-10729C7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6A9E6-24B5-4936-9675-59BA2B5D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2A9FC-F54A-48BC-90F2-149C814F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BA40-25C7-489A-A8AA-920325B4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827D-F1CC-4856-A171-FDA1032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B3C1-9BB5-4DFD-8380-63D9D724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3A06-A191-4AF8-8135-DDD75AFA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170-0825-4244-8C00-A0293500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11A2-6100-45F0-B0A1-5FD7E468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D186-4407-4EFF-861E-863FA2EB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6C45-F175-4B8D-9562-DB025CDD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6651-A712-4523-91C1-740D9003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AEA0-97A0-458C-98BA-3E935F7F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48CD6-3901-4C57-86A0-D80CEEF1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E7D34-7A5C-43CE-BDD6-A6F50E00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F1EB-C175-4E73-B19A-52A744D7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F0D9-832B-48E9-AA11-468CDE3D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6ECC-E7BF-4142-9CFD-5AAF9F44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6A4-D8D8-4F67-85F9-EE8D781A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FB8B-A07B-41ED-877F-EDDCFFE5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B631-1FAC-4616-8EB9-9CC3CAF6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71C7-CC45-4A0C-999F-B6B84E0C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933E7-CA8B-4769-BA11-CF017379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D1C0-E046-4294-98F9-51DC8C92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B36F-D47D-4EDD-B71D-D3F2DB73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47FD-BD36-4E81-94CB-46D1CB3E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C189-BB4E-481B-8592-BBD8D3BC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AEE80-17E6-4E11-856C-0CCB0EF6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D4C11-FFA0-468A-AB83-57F61BD8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6D1-E673-4DE9-88F2-FECCE381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F6F1-38E7-46BD-9E22-E745A396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F82D3-72C5-4713-A556-DD497F40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DA23-9E62-47FE-B8CF-9E1F90DD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B33D-4C80-4EA7-812C-0EBA7C17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9834-DEEF-42E5-B99F-E38676E5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2906F-AE9B-4A11-81B4-C8F3F8F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CA5DC-E317-41CB-946F-62A4F965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3F50-3B50-4E79-8BDA-027E5729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9938-8AF1-4B58-826E-20407BCF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FDBEF-FC15-49D1-B037-203F1B6C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551-41AC-4811-9178-F91C27DD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2C655-38B6-49D2-828B-049BC1CC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891EE-6C77-4B36-B668-6E98C976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9E6EC-6F11-495B-AFEF-7DF756A5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CE619-6500-416A-A675-7CD07D00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7983-6B30-4E5D-A877-E26BECC2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D05BC-F8CD-43EF-9E49-634BBDE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F51F-BD61-48F8-8995-C5369BFC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978BF-1D00-47A1-9322-0891915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7A794-35E8-48DE-BB02-DD14C2BE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A0281-821D-4054-B742-6325B1BC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CDC-C90B-4DCA-8439-4DE7AB41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48F45-E4DF-4986-8FB8-F1307ADC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E19CC-2EA8-4E23-B324-181F469D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3DAF2-ACAB-4378-95FB-CA99D28A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C7A0D-7201-4B39-A63C-CE8E68EE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13682-762A-4829-A191-39D06CB5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1DE94-04BB-4662-93D9-13E6C480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015B8-69AB-44EA-AEB0-B16404C7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BB99A-81FE-4501-A620-053BA9E2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66F3C-2BCA-45EB-B5C4-289632D5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84A4E-DA08-4538-95FD-CDE6CC5E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009-2EC1-4671-B9AA-B1982645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E7FD1-A56D-4B4C-B0F3-06B816BF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2758C-E4D3-400F-82F3-C880816D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0057-B34F-4613-A1B0-6B88F1C3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DAE6-AC17-41DE-AA0E-6CD325ED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35B08-3F31-4C56-B8EC-D382CC73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5460C-436D-4FF5-AEA2-475DA58A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CA7C8-D484-4A28-80BC-5647D765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17F26-C3CF-463D-A296-8483D7F3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8D03B-11C0-41B4-A9DF-8A6B679B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125F9-62CF-4D00-A9C7-B340EB19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784-D2BF-440F-961A-27896186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990E8-8534-468E-AAB5-B9EB43A8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FABB3-AC4B-4C33-B255-87BDF7B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54EC1-F3D9-49C9-B364-1ECAE60E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191E9-625F-48BD-B498-C2AE15C0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522C5-036C-4332-A2D7-3C1080F9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77128-E6EB-4755-A411-77A02D86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7964B-F4B2-4E22-821A-5F070077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B07D9-4330-4EB7-A085-7DBD1613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DCA4B-D3A8-4D4C-B6B9-8A1A2928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885F4-FE4A-4BD2-872D-D2E51B50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C2D-A171-4317-8582-D0EBA20F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C0067-806B-4030-930C-7D246488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18E94-D770-4846-8EA4-7A7CB79C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22CE0-7251-4725-ABD3-69422EB9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A7857-43E7-488B-BBDA-EA726054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55ACE-65CC-46DA-95DC-BB38B599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7CC85-FB43-45AF-BA72-3D524AE5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DF9D1-12D8-48BA-88BE-07979B55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33A0E-9079-4697-AD44-47F22703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CF6B8-4736-4BEC-9489-91F7A8EA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498AA-7B11-42F7-AB04-DABA8BC8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143F-BFFD-43F6-BB1B-06DE27F236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82AF-4726-49B1-B1B8-9E68376F83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0857-4590-4B6A-B21E-C81EDA40B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DF42-3F84-42AD-9C94-F26BF6E9A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B5A9-DA08-460F-ABA7-146A6D36D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4F09-670D-463B-B894-419C1A55B7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AE1F-8B88-46E6-9522-F26583718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7691-8060-46BC-998A-E972204B5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49AC-D085-48A2-A876-743A06253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9B39-C9FC-49A7-B305-7962C6C21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16A3-A57A-4EBD-97D3-2625A6CBF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4C53-4AF5-43BC-B321-A81B3D9B4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2136-1E68-42DC-B7BA-676CE6384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mailto:67@yandex.ru" TargetMode="External"/><Relationship Id="rId5" Type="http://schemas.openxmlformats.org/officeDocument/2006/relationships/hyperlink" Target="mailto:67@yandex.ru" TargetMode="External"/><Relationship Id="rId6" Type="http://schemas.openxmlformats.org/officeDocument/2006/relationships/hyperlink" Target="mailto:67@yandex.ru" TargetMode="External"/><Relationship Id="rId7" Type="http://schemas.openxmlformats.org/officeDocument/2006/relationships/hyperlink" Target="mailto:67@yandex.ru" TargetMode="External"/><Relationship Id="rId8" Type="http://schemas.openxmlformats.org/officeDocument/2006/relationships/hyperlink" Target="mailto:iro67ru@yandex.ru" TargetMode="External"/><Relationship Id="rId9" Type="http://schemas.openxmlformats.org/officeDocument/2006/relationships/hyperlink" Target="http://yandex.ru/clck/jsredir?from=yandex.ru%3Byandsearch%3Bweb%3B%3B&amp;text=&amp;etext=592.-cq5tEPni4RhY-nEguQlaiktr4i-0kKwDkMvxWkEto_lfECPUJv_bWSJvg9j2jv2YHz6JZeaz5zchz-SCTyVgcTrinGHodr7cE83-v1okzni9d6G-27te-WznkxMftkUwLn-eJKVvG4KuRrHgmetLw.ba9bf2d002e551f3c1a312b2083aa0d4183145db&amp;uuid=&amp;state=AiuY0DBWFJ4ePaEse6rgeKdnI0e4oXuRYo0IEhrXr7w0L24O5Xv8RnUVwmxyeTliQI-KbE6oCBUknbKlp5ij70H7TL0VHvwnLErCH8msSZ2XVQaykt_6Mqn9jBIRg1btKferRKy6M2uxlR8tpfu88a7RsB4tFAVNSj02_AG9bNa7xKzQNquUEquOz_Uvyga90tzBI0VzL58OlRkUwfZwNSlXGjAQsxXDDN9AHsuXshpGk-d24rtXfVHQeXPQChTG8jdzpQPWp-sXa1qaiv1Z92uVw87BImWgy1_2fbucxJdO3HZP639oCbG0vF3s1n0g2LwD1VjxmMENpjBBf0EIv9JzdNODdvQ9qkF2Eln_NRSBh9XOAEiCFbk8QAZ_1W0fG3KMZq0luHkiGIbZALiZaegfSmkFKo200Rimh9TL5cqlQuA9TP6TifHFE2t8GrAu6ZD9cRUqv_FYnFAqlN7dZZ2-e85ACL65ztaXAW-1-AyroOCiTE-1jKpklzScmrNw697sKWtygJhBk3Zd0nBjnuWrMOQ0FMPKHb7SuUChtGND_BGsF5kIhA&amp;data=UlNrNmk5WktYejR0eWJFYk1LdmtxamNjM0VkUS1VQlBKSk9pWHRnZ0lGXzBrMkl1LXhIZllSZndLbk1aQjQ1U08wcXJIY2FFQ2l3RXpNZDRzRENuN2ZQSEVIXzFJZ2xYdmhoYy1icTRIbVU&amp;b64e=2&amp;sign=afc119986ed50ea3b8ea8a1bd63dbd39&amp;keyno=0&amp;ref=cM777e4sMOAycdZhdUbYHtkusEOiLu3mrcs1BCKzuV0wt3VszUMThG6cAPZupVd52yavv9KrOsaW35cj8zsrKjdqyptfw22kSFRAc-6UNrRbHketA3Sks2_BpIWO1VJa7Vnc36XZch55VzbLxSxBoFAdjQulEXFzG1PESA2gR0cpXmR82XA3FC5b_iySVGyvxXwG99yUF5CSMH31eIQKoqtg5uUC0zH9tIMuNhjByhITmpV_SV4OWBUhIJRlKw0Qe8-d-WdAWHWxP6WdqPufSnuPbcrXIQjc&amp;l10n=ru&amp;cts=1423246587766&amp;mc=4.7213539765475065" TargetMode="External"/><Relationship Id="rId10" Type="http://schemas.openxmlformats.org/officeDocument/2006/relationships/hyperlink" Target="http://yandex.ru/clck/jsredir?from=yandex.ru%3Byandsearch%3Bweb%3B%3B&amp;text=&amp;etext=592.-cq5tEPni4RhY-nEguQlaiktr4i-0kKwDkMvxWkEto_lfECPUJv_bWSJvg9j2jv2YHz6JZeaz5zchz-SCTyVgcTrinGHodr7cE83-v1okzni9d6G-27te-WznkxMftkUwLn-eJKVvG4KuRrHgmetLw.ba9bf2d002e551f3c1a312b2083aa0d4183145db&amp;uuid=&amp;state=AiuY0DBWFJ4ePaEse6rgeKdnI0e4oXuRYo0IEhrXr7w0L24O5Xv8RnUVwmxyeTliQI-KbE6oCBUknbKlp5ij70H7TL0VHvwnLErCH8msSZ2XVQaykt_6Mqn9jBIRg1btKferRKy6M2uxlR8tpfu88a7RsB4tFAVNSj02_AG9bNa7xKzQNquUEquOz_Uvyga90tzBI0VzL58OlRkUwfZwNSlXGjAQsxXDDN9AHsuXshpGk-d24rtXfVHQeXPQChTG8jdzpQPWp-sXa1qaiv1Z92uVw87BImWgy1_2fbucxJdO3HZP639oCbG0vF3s1n0g2LwD1VjxmMENpjBBf0EIv9JzdNODdvQ9qkF2Eln_NRSBh9XOAEiCFbk8QAZ_1W0fG3KMZq0luHkiGIbZALiZaegfSmkFKo200Rimh9TL5cqlQuA9TP6TifHFE2t8GrAu6ZD9cRUqv_FYnFAqlN7dZZ2-e85ACL65ztaXAW-1-AyroOCiTE-1jKpklzScmrNw697sKWtygJhBk3Zd0nBjnuWrMOQ0FMPKHb7SuUChtGND_BGsF5kIhA&amp;data=UlNrNmk5WktYejR0eWJFYk1LdmtxamNjM0VkUS1VQlBKSk9pWHRnZ0lGXzBrMkl1LXhIZllSZndLbk1aQjQ1U08wcXJIY2FFQ2l3RXpNZDRzRENuN2ZQSEVIXzFJZ2xYdmhoYy1icTRIbVU&amp;b64e=2&amp;sign=afc119986ed50ea3b8ea8a1bd63dbd39&amp;keyno=0&amp;ref=cM777e4sMOAycdZhdUbYHtkusEOiLu3mrcs1BCKzuV0wt3VszUMThG6cAPZupVd52yavv9KrOsaW35cj8zsrKjdqyptfw22kSFRAc-6UNrRbHketA3Sks2_BpIWO1VJa7Vnc36XZch55VzbLxSxBoFAdjQulEXFzG1PESA2gR0cpXmR82XA3FC5b_iySVGyvxXwG99yUF5CSMH31eIQKoqtg5uUC0zH9tIMuNhjByhITmpV_SV4OWBUhIJRlKw0Qe8-d-WdAWHWxP6WdqPufSnuPbcrXIQjc&amp;l10n=ru&amp;cts=1423246587766&amp;mc=4.7213539765475065" TargetMode="External"/><Relationship Id="rId11" Type="http://schemas.openxmlformats.org/officeDocument/2006/relationships/hyperlink" Target="http://yandex.ru/clck/jsredir?from=yandex.ru%3Byandsearch%3Bweb%3B%3B&amp;text=&amp;etext=592.-cq5tEPni4RhY-nEguQlaiktr4i-0kKwDkMvxWkEto_lfECPUJv_bWSJvg9j2jv2YHz6JZeaz5zchz-SCTyVgcTrinGHodr7cE83-v1okzni9d6G-27te-WznkxMftkUwLn-eJKVvG4KuRrHgmetLw.ba9bf2d002e551f3c1a312b2083aa0d4183145db&amp;uuid=&amp;state=AiuY0DBWFJ4ePaEse6rgeKdnI0e4oXuRYo0IEhrXr7w0L24O5Xv8RnUVwmxyeTliQI-KbE6oCBUknbKlp5ij70H7TL0VHvwnLErCH8msSZ2XVQaykt_6Mqn9jBIRg1btKferRKy6M2uxlR8tpfu88a7RsB4tFAVNSj02_AG9bNa7xKzQNquUEquOz_Uvyga90tzBI0VzL58OlRkUwfZwNSlXGjAQsxXDDN9AHsuXshpGk-d24rtXfVHQeXPQChTG8jdzpQPWp-sXa1qaiv1Z92uVw87BImWgy1_2fbucxJdO3HZP639oCbG0vF3s1n0g2LwD1VjxmMENpjBBf0EIv9JzdNODdvQ9qkF2Eln_NRSBh9XOAEiCFbk8QAZ_1W0fG3KMZq0luHkiGIbZALiZaegfSmkFKo200Rimh9TL5cqlQuA9TP6TifHFE2t8GrAu6ZD9cRUqv_FYnFAqlN7dZZ2-e85ACL65ztaXAW-1-AyroOCiTE-1jKpklzScmrNw697sKWtygJhBk3Zd0nBjnuWrMOQ0FMPKHb7SuUChtGND_BGsF5kIhA&amp;data=UlNrNmk5WktYejR0eWJFYk1LdmtxamNjM0VkUS1VQlBKSk9pWHRnZ0lGXzBrMkl1LXhIZllSZndLbk1aQjQ1U08wcXJIY2FFQ2l3RXpNZDRzRENuN2ZQSEVIXzFJZ2xYdmhoYy1icTRIbVU&amp;b64e=2&amp;sign=afc119986ed50ea3b8ea8a1bd63dbd39&amp;keyno=0&amp;ref=cM777e4sMOAycdZhdUbYHtkusEOiLu3mrcs1BCKzuV0wt3VszUMThG6cAPZupVd52yavv9KrOsaW35cj8zsrKjdqyptfw22kSFRAc-6UNrRbHketA3Sks2_BpIWO1VJa7Vnc36XZch55VzbLxSxBoFAdjQulEXFzG1PESA2gR0cpXmR82XA3FC5b_iySVGyvxXwG99yUF5CSMH31eIQKoqtg5uUC0zH9tIMuNhjByhITmpV_SV4OWBUhIJRlKw0Qe8-d-WdAWHWxP6WdqPufSnuPbcrXIQjc&amp;l10n=ru&amp;cts=1423246587766&amp;mc=4.7213539765475065" TargetMode="External"/><Relationship Id="rId12" Type="http://schemas.openxmlformats.org/officeDocument/2006/relationships/hyperlink" Target="http://yandex.ru/clck/jsredir?from=yandex.ru%3Byandsearch%3Bweb%3B%3B&amp;text=&amp;etext=592.-cq5tEPni4RhY-nEguQlaiktr4i-0kKwDkMvxWkEto_lfECPUJv_bWSJvg9j2jv2YHz6JZeaz5zchz-SCTyVgcTrinGHodr7cE83-v1okzni9d6G-27te-WznkxMftkUwLn-eJKVvG4KuRrHgmetLw.ba9bf2d002e551f3c1a312b2083aa0d4183145db&amp;uuid=&amp;state=AiuY0DBWFJ4ePaEse6rgeKdnI0e4oXuRYo0IEhrXr7w0L24O5Xv8RnUVwmxyeTliQI-KbE6oCBUknbKlp5ij70H7TL0VHvwnLErCH8msSZ2XVQaykt_6Mqn9jBIRg1btKferRKy6M2uxlR8tpfu88a7RsB4tFAVNSj02_AG9bNa7xKzQNquUEquOz_Uvyga90tzBI0VzL58OlRkUwfZwNSlXGjAQsxXDDN9AHsuXshpGk-d24rtXfVHQeXPQChTG8jdzpQPWp-sXa1qaiv1Z92uVw87BImWgy1_2fbucxJdO3HZP639oCbG0vF3s1n0g2LwD1VjxmMENpjBBf0EIv9JzdNODdvQ9qkF2Eln_NRSBh9XOAEiCFbk8QAZ_1W0fG3KMZq0luHkiGIbZALiZaegfSmkFKo200Rimh9TL5cqlQuA9TP6TifHFE2t8GrAu6ZD9cRUqv_FYnFAqlN7dZZ2-e85ACL65ztaXAW-1-AyroOCiTE-1jKpklzScmrNw697sKWtygJhBk3Zd0nBjnuWrMOQ0FMPKHb7SuUChtGND_BGsF5kIhA&amp;data=UlNrNmk5WktYejR0eWJFYk1LdmtxamNjM0VkUS1VQlBKSk9pWHRnZ0lGXzBrMkl1LXhIZllSZndLbk1aQjQ1U08wcXJIY2FFQ2l3RXpNZDRzRENuN2ZQSEVIXzFJZ2xYdmhoYy1icTRIbVU&amp;b64e=2&amp;sign=afc119986ed50ea3b8ea8a1bd63dbd39&amp;keyno=0&amp;ref=cM777e4sMOAycdZhdUbYHtkusEOiLu3mrcs1BCKzuV0wt3VszUMThG6cAPZupVd52yavv9KrOsaW35cj8zsrKjdqyptfw22kSFRAc-6UNrRbHketA3Sks2_BpIWO1VJa7Vnc36XZch55VzbLxSxBoFAdjQulEXFzG1PESA2gR0cpXmR82XA3FC5b_iySVGyvxXwG99yUF5CSMH31eIQKoqtg5uUC0zH9tIMuNhjByhITmpV_SV4OWBUhIJRlKw0Qe8-d-WdAWHWxP6WdqPufSnuPbcrXIQjc&amp;l10n=ru&amp;cts=1423246587766&amp;mc=4.7213539765475065" TargetMode="Externa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158760" y="1908000"/>
            <a:ext cx="9144000" cy="3106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елирование персонифицированной системы воспитания в условиях общ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дополните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5435640" y="5700600"/>
            <a:ext cx="16574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2015 - 2019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4067280" y="5192640"/>
            <a:ext cx="4970520" cy="504720"/>
          </a:xfrm>
          <a:prstGeom prst="rect">
            <a:avLst/>
          </a:prstGeom>
          <a:solidFill>
            <a:srgbClr val="eeece1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егиональная инновационная площ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Заголовок 1"/>
          <p:cNvSpPr/>
          <p:nvPr/>
        </p:nvSpPr>
        <p:spPr>
          <a:xfrm>
            <a:off x="1979640" y="209520"/>
            <a:ext cx="71643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осударственное автономное учреждение  дополнительного профессионального образова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«Смоленский областной институт развития образования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Заголовок 1"/>
          <p:cNvSpPr/>
          <p:nvPr/>
        </p:nvSpPr>
        <p:spPr>
          <a:xfrm>
            <a:off x="3825720" y="1197000"/>
            <a:ext cx="5088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афедра воспитания и социализации детей и молоде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28440" y="92160"/>
            <a:ext cx="1689120" cy="1660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аучно-методические мероприятия  (2017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79280" y="515880"/>
          <a:ext cx="9144000" cy="1890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8907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а региональном уровн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17375e"/>
                          </a:solidFill>
                          <a:uFillTx/>
                          <a:latin typeface="Calibri"/>
                        </a:rPr>
                        <a:t>Научно-практический семинар </a:t>
                      </a:r>
                      <a:r>
                        <a:rPr b="1" lang="ru-RU" sz="2400" spc="-1" strike="noStrike" u="sng">
                          <a:solidFill>
                            <a:srgbClr val="632523"/>
                          </a:solidFill>
                          <a:uFillTx/>
                          <a:latin typeface="Calibri"/>
                        </a:rPr>
                        <a:t>«Реализация идеи персонификации в работе с обучающимися  массовой школы</a:t>
                      </a:r>
                      <a:r>
                        <a:rPr b="1" lang="ru-RU" sz="2400" spc="-1" strike="noStrike" u="sng">
                          <a:solidFill>
                            <a:srgbClr val="17375e"/>
                          </a:solidFill>
                          <a:uFillTx/>
                          <a:latin typeface="Calibri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на базе МБОУ СШ№33 г.Смоленс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179280" y="2205000"/>
          <a:ext cx="9144000" cy="4556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55616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17375e"/>
                          </a:solidFill>
                          <a:uFillTx/>
                          <a:latin typeface="Calibri"/>
                        </a:rPr>
                        <a:t>Областная школа педагогического мастерства для педагогов, методистов, директоров организаций дополнительного образования по теме: </a:t>
                      </a:r>
                      <a:r>
                        <a:rPr b="1" lang="ru-RU" sz="2400" spc="-1" strike="noStrike" u="sng">
                          <a:solidFill>
                            <a:srgbClr val="632523"/>
                          </a:solidFill>
                          <a:uFillTx/>
                          <a:latin typeface="Calibri"/>
                        </a:rPr>
                        <a:t>«Педагогическое обеспечение становления персонифицированной системы воспитания учащихся в учреждениях дополнительного образовани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базе СОГБУ ДО «Станция юннат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17375e"/>
                          </a:solidFill>
                          <a:uFillTx/>
                          <a:latin typeface="Calibri"/>
                        </a:rPr>
                        <a:t>Заседание областного методического объединения педагогов дополнительного образования по теме </a:t>
                      </a:r>
                      <a:r>
                        <a:rPr b="1" lang="ru-RU" sz="2400" spc="-1" strike="noStrike" u="sng">
                          <a:solidFill>
                            <a:srgbClr val="632523"/>
                          </a:solidFill>
                          <a:uFillTx/>
                          <a:latin typeface="Calibri"/>
                        </a:rPr>
                        <a:t>«</a:t>
                      </a:r>
                      <a:r>
                        <a:rPr b="1" lang="ru-RU" sz="24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Персонификация образовательного процесса в учреждении дополнительного образования»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(В форме вебина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10253f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 advTm="8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аучно-методические мероприят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Прямоугольник 7"/>
          <p:cNvSpPr/>
          <p:nvPr/>
        </p:nvSpPr>
        <p:spPr>
          <a:xfrm>
            <a:off x="9360" y="549360"/>
            <a:ext cx="9134640" cy="372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 межрегиональном и международном  уро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1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Межрегиональный интернет-форум </a:t>
            </a:r>
            <a:r>
              <a:rPr b="1" lang="ru-RU" sz="2400" spc="-1" strike="noStrike">
                <a:solidFill>
                  <a:srgbClr val="663300"/>
                </a:solidFill>
                <a:latin typeface="Calibri"/>
              </a:rPr>
              <a:t>«Проектирование персонифицированной системы воспитания ребенка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и процесса ее развития» (апрель 2016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(От РИП - 19 участников, 63 комментария в фору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2. </a:t>
            </a:r>
            <a:r>
              <a:rPr b="1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Межрегиональная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веб-презентация 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«Педагогическое обеспечение становления персонифицированной системы воспитания ребёнка»</a:t>
            </a: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 - 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декабрь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т РИП - 36 участников, более 50 комментари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                 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Представлено на обсуждение 6 разраб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1"/>
          <p:cNvSpPr/>
          <p:nvPr/>
        </p:nvSpPr>
        <p:spPr>
          <a:xfrm>
            <a:off x="-7920" y="4454640"/>
            <a:ext cx="9134280" cy="21668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1" lang="ru-RU" sz="2400" spc="-1" strike="noStrike" u="sng">
                <a:solidFill>
                  <a:srgbClr val="17375e"/>
                </a:solidFill>
                <a:uFillTx/>
                <a:latin typeface="Calibri"/>
                <a:ea typeface="Calibri"/>
              </a:rPr>
              <a:t>. Межрегиональный веб-форум  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Calibri"/>
              </a:rPr>
              <a:t>( 1-8 апреля 2017г.) </a:t>
            </a:r>
            <a:r>
              <a:rPr b="1" lang="ru-RU" sz="2400" spc="-1" strike="noStrike" u="sng">
                <a:solidFill>
                  <a:srgbClr val="17375e"/>
                </a:solidFill>
                <a:uFillTx/>
                <a:latin typeface="Calibri"/>
                <a:ea typeface="Calibri"/>
              </a:rPr>
              <a:t>и  веб-презентация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  <a:ea typeface="Calibri"/>
              </a:rPr>
              <a:t> (7.12-14.12.2017г.) по проблемам </a:t>
            </a:r>
            <a:r>
              <a:rPr b="1" lang="ru-RU" sz="2400" spc="-1" strike="noStrike">
                <a:solidFill>
                  <a:srgbClr val="663300"/>
                </a:solidFill>
                <a:latin typeface="Calibri"/>
                <a:ea typeface="Calibri"/>
              </a:rPr>
              <a:t>«Педагогическое обеспечение  функционирования персонифицированной системы воспитания ребё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Calibri"/>
              </a:rPr>
              <a:t>(От РИП – 36 участников , 80 комментарие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Calibri"/>
              </a:rPr>
              <a:t>                   </a:t>
            </a:r>
            <a:r>
              <a:rPr b="1" lang="ru-RU" sz="2000" spc="-1" strike="noStrike">
                <a:solidFill>
                  <a:srgbClr val="10253f"/>
                </a:solidFill>
                <a:latin typeface="Arial"/>
                <a:ea typeface="Calibri"/>
              </a:rPr>
              <a:t>представлено на обсуждение 11 разработ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Заголовок 1"/>
          <p:cNvSpPr/>
          <p:nvPr/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аучно-методические мероприят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аучно-методические мероприят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alibri"/>
              </a:rPr>
              <a:t>Международная научно-практическая конференция «Новое воспитание нового поколения»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- 13-14 апреля 201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Полоцк, республика Беларусь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очном режиме в конференции участвовало 12 чел.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заочном – 19че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лено – 2 доклада от РИ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человека – являлись модераторами сек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0040" y="-1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Прогнозируемые результаты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3 этапа исследования (2018-2019.г.г)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57240" y="1557360"/>
            <a:ext cx="9115200" cy="54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одукты  инновационной деятель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борник теоретических и практических материалов, включая  описание моделей персонифицированных  воспитательных систем,  инновационных форм и технологий   воспит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кет контрольно-измерительных, диагностических  и аналитических материа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убликации участников РИП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в региональных и межрегиональных издания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28440" y="92160"/>
            <a:ext cx="798480" cy="785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Главное предназначение ПСВ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68360" y="907560"/>
            <a:ext cx="8229600" cy="1584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действие успешному развитию уникальной и целостной персоны конкретного ребенк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на основе создания условий для формирования, проявления и последующего обогащения его субъектного опыта в саморазвит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Прямоугольник 3"/>
          <p:cNvSpPr/>
          <p:nvPr/>
        </p:nvSpPr>
        <p:spPr>
          <a:xfrm>
            <a:off x="395280" y="3025800"/>
            <a:ext cx="8497800" cy="7642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ременный педагог должен владеть формами, методами и технологиями реализации персонифицированного подхо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Благодарим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28440" y="92160"/>
            <a:ext cx="1014480" cy="996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7"/>
          <p:cNvGrpSpPr/>
          <p:nvPr/>
        </p:nvGrpSpPr>
        <p:grpSpPr>
          <a:xfrm>
            <a:off x="434880" y="290520"/>
            <a:ext cx="1800360" cy="1064160"/>
            <a:chOff x="434880" y="290520"/>
            <a:chExt cx="1800360" cy="1064160"/>
          </a:xfrm>
        </p:grpSpPr>
        <p:pic>
          <p:nvPicPr>
            <p:cNvPr id="591" name="Picture 8" descr="институт УУ"/>
            <p:cNvPicPr/>
            <p:nvPr/>
          </p:nvPicPr>
          <p:blipFill>
            <a:blip r:embed="rId1"/>
            <a:stretch/>
          </p:blipFill>
          <p:spPr>
            <a:xfrm>
              <a:off x="434880" y="290520"/>
              <a:ext cx="1792080" cy="92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9"/>
            <p:cNvSpPr/>
            <p:nvPr/>
          </p:nvSpPr>
          <p:spPr>
            <a:xfrm>
              <a:off x="1396800" y="1078200"/>
              <a:ext cx="838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a3f3c"/>
                  </a:solidFill>
                  <a:latin typeface="Verdana"/>
                </a:rPr>
                <a:t>СОИР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250560" y="1915920"/>
            <a:ext cx="8620200" cy="39996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c0c0c0"/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41"/>
                </a:solidFill>
                <a:latin typeface="Verdana"/>
              </a:rPr>
              <a:t>ГАУ ДПОС «СОИР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11" descr="j0115875"/>
          <p:cNvPicPr/>
          <p:nvPr/>
        </p:nvPicPr>
        <p:blipFill>
          <a:blip r:embed="rId2"/>
          <a:stretch/>
        </p:blipFill>
        <p:spPr>
          <a:xfrm>
            <a:off x="971640" y="1684440"/>
            <a:ext cx="7885080" cy="13176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3"/>
          <p:cNvSpPr/>
          <p:nvPr/>
        </p:nvSpPr>
        <p:spPr>
          <a:xfrm>
            <a:off x="2519280" y="2222640"/>
            <a:ext cx="6337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4"/>
                </a:solidFill>
                <a:latin typeface="Bookman Old Style"/>
              </a:rPr>
              <a:t>г. Смоле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2494"/>
                </a:solidFill>
                <a:latin typeface="Bookman Old Style"/>
              </a:rPr>
              <a:t>ул. Октябрьской революции, д. </a:t>
            </a:r>
            <a:r>
              <a:rPr b="1" lang="en-US" sz="2400" spc="-1" strike="noStrike">
                <a:solidFill>
                  <a:srgbClr val="242494"/>
                </a:solidFill>
                <a:latin typeface="Bookman Old Style"/>
              </a:rPr>
              <a:t>20</a:t>
            </a:r>
            <a:r>
              <a:rPr b="1" lang="ru-RU" sz="2400" spc="-1" strike="noStrike">
                <a:solidFill>
                  <a:srgbClr val="242494"/>
                </a:solidFill>
                <a:latin typeface="Bookman Old Style"/>
              </a:rPr>
              <a:t>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1d8f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1d8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1d8f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5" descr="j0115875"/>
          <p:cNvPicPr/>
          <p:nvPr/>
        </p:nvPicPr>
        <p:blipFill>
          <a:blip r:embed="rId3"/>
          <a:stretch/>
        </p:blipFill>
        <p:spPr>
          <a:xfrm>
            <a:off x="2392200" y="3189240"/>
            <a:ext cx="6445440" cy="108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2"/>
          <p:cNvSpPr/>
          <p:nvPr/>
        </p:nvSpPr>
        <p:spPr>
          <a:xfrm>
            <a:off x="2627280" y="5373720"/>
            <a:ext cx="59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c00"/>
                </a:solidFill>
                <a:latin typeface="Bookman Old Style"/>
              </a:rPr>
              <a:t>Телефон: (4812) 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 3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-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75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-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E-mail</a:t>
            </a:r>
            <a:r>
              <a:rPr b="1" lang="ru-RU" sz="2000" spc="-1" strike="noStrike">
                <a:solidFill>
                  <a:srgbClr val="005c00"/>
                </a:solidFill>
                <a:latin typeface="Bookman Old Style"/>
              </a:rPr>
              <a:t>: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КИОТ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67@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yandex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2392200" y="3279600"/>
            <a:ext cx="5977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c00"/>
                </a:solidFill>
                <a:latin typeface="Bookman Old Style"/>
              </a:rPr>
              <a:t>Телефон: 8(4812) 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 3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-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-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E-mail</a:t>
            </a:r>
            <a:r>
              <a:rPr b="1" lang="ru-RU" sz="2000" spc="-1" strike="noStrike">
                <a:solidFill>
                  <a:srgbClr val="005c00"/>
                </a:solidFill>
                <a:latin typeface="Bookman Old Style"/>
              </a:rPr>
              <a:t>:</a:t>
            </a:r>
            <a:r>
              <a:rPr b="1" lang="ru-RU" sz="2000" spc="-1" strike="noStrike">
                <a:solidFill>
                  <a:srgbClr val="005c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iro67ru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c00"/>
                </a:solidFill>
                <a:latin typeface="Bookman Old Style"/>
              </a:rPr>
              <a:t>URL: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www.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dpo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-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smolensk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j0115875"/>
          <p:cNvPicPr/>
          <p:nvPr/>
        </p:nvPicPr>
        <p:blipFill>
          <a:blip r:embed="rId13"/>
          <a:stretch/>
        </p:blipFill>
        <p:spPr>
          <a:xfrm>
            <a:off x="2392200" y="4869000"/>
            <a:ext cx="6445440" cy="1076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2"/>
          <p:cNvSpPr/>
          <p:nvPr/>
        </p:nvSpPr>
        <p:spPr>
          <a:xfrm>
            <a:off x="139680" y="4513320"/>
            <a:ext cx="86914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41"/>
                </a:solidFill>
                <a:latin typeface="Verdana"/>
              </a:rPr>
              <a:t>Кафедра воспитания и социализации детей и молоде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645840"/>
            <a:ext cx="8229600" cy="39996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c0c0c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241"/>
                </a:solidFill>
                <a:latin typeface="Verdana"/>
              </a:rPr>
              <a:t>Контакт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539280" y="1773000"/>
            <a:ext cx="871236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Цель исследования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оит в разработке теоретических, методических и организационных основ применения персонифицированного подхода  в системе  общего  и дополнительного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9080" y="1267920"/>
            <a:ext cx="42926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Общеобразовательные  организ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08000" y="1699920"/>
            <a:ext cx="42465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-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«Гимназия №1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м. Пржевальского» 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    МБОУ СШ № 2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СШ № 12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СШ № 31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СШ № 32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СШ № 33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СШ № 40 г. Смол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Мурыгинская СШ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Починковский рай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-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ОУ Хорошовская  СОШ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1800" spc="-1" strike="noStrike">
                <a:solidFill>
                  <a:srgbClr val="254061"/>
                </a:solidFill>
                <a:latin typeface="Calibri"/>
              </a:rPr>
              <a:t>Рославльский рай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427280" y="1341360"/>
            <a:ext cx="454644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2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Calibri"/>
              </a:rPr>
              <a:t>Организаци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9400" y="1700280"/>
            <a:ext cx="468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-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БУ ДО «Шумячский Дом детского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ворчеств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 МБУ ДО «Ярцевский Дом детского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ворчеств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- МБУ ДО  «Дом детского творче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г. Десногор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- МБУ ДО «Областная станция юных натуралис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title"/>
          </p:nvPr>
        </p:nvSpPr>
        <p:spPr>
          <a:xfrm>
            <a:off x="-360" y="114120"/>
            <a:ext cx="91393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В составе РИП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родолжили работу </a:t>
            </a:r>
            <a:r>
              <a:rPr b="1" lang="ru-RU" sz="2300" spc="-1" strike="noStrike">
                <a:solidFill>
                  <a:srgbClr val="800000"/>
                </a:solidFill>
                <a:latin typeface="Calibri"/>
              </a:rPr>
              <a:t>13 базовых образовательных организаций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(9  общеобразовательных организаций и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4 организации дополнительного образования)  - </a:t>
            </a:r>
            <a:r>
              <a:rPr b="1" lang="ru-RU" sz="2300" spc="-1" strike="noStrike">
                <a:solidFill>
                  <a:srgbClr val="800000"/>
                </a:solidFill>
                <a:latin typeface="Calibri"/>
              </a:rPr>
              <a:t>65 человек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Объект 5"/>
          <p:cNvSpPr/>
          <p:nvPr/>
        </p:nvSpPr>
        <p:spPr>
          <a:xfrm>
            <a:off x="3946680" y="5075280"/>
            <a:ext cx="5508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Руководитель ИП -  </a:t>
            </a: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Кочергина Г.Д., зав. каф. воспитания и социализации детей и молодежи, к.п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Координатор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евакова Н.С., зав. отделом воспитания и дополнительного образования, аспирант Смол 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Прямоугольник 3"/>
          <p:cNvSpPr/>
          <p:nvPr/>
        </p:nvSpPr>
        <p:spPr>
          <a:xfrm>
            <a:off x="22320" y="476280"/>
            <a:ext cx="90360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5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Calibri"/>
              </a:rPr>
              <a:t>Задачи 2 этапа исследования (2016-2017г.г.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явить сущностные характеристики и воспитательный потенциал персонифицированного подхо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зработать и апробировать модели, программы персонифицированной системы воспитания ребенка в условиях общего и дополнительн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 организовать работу в базовых коллективах по формированию научно-методического обеспечения реализации персонифицированной системы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38040" y="201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Ключевые аспекты исслед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9480" y="998280"/>
            <a:ext cx="897876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ПСВ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успешного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одаренного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ПСВ </a:t>
            </a: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ребёнка «группы рис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Ребенок с ОВЗ</a:t>
            </a:r>
            <a:r>
              <a:rPr b="1" lang="ru-RU" sz="2400" spc="-1" strike="noStrike" u="sng">
                <a:solidFill>
                  <a:srgbClr val="558ed5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– субъект ПС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88920" y="5657760"/>
            <a:ext cx="90550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4061"/>
                </a:solidFill>
                <a:latin typeface="Arial"/>
              </a:rPr>
              <a:t>ПСВ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10253f"/>
                </a:solidFill>
                <a:uFillTx/>
                <a:latin typeface="Arial"/>
              </a:rPr>
              <a:t>в  условиях </a:t>
            </a:r>
            <a:r>
              <a:rPr b="1" lang="ru-RU" sz="2200" spc="-1" strike="noStrike" u="sng">
                <a:solidFill>
                  <a:srgbClr val="254061"/>
                </a:solidFill>
                <a:uFillTx/>
                <a:latin typeface="Arial"/>
              </a:rPr>
              <a:t>дополнительного образ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4061"/>
                </a:solidFill>
                <a:latin typeface="Arial"/>
              </a:rPr>
              <a:t>ПСВ 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10253f"/>
                </a:solidFill>
                <a:uFillTx/>
                <a:latin typeface="Arial"/>
              </a:rPr>
              <a:t>в условиях </a:t>
            </a:r>
            <a:r>
              <a:rPr b="1" lang="ru-RU" sz="2200" spc="-1" strike="noStrike" u="sng">
                <a:solidFill>
                  <a:srgbClr val="254061"/>
                </a:solidFill>
                <a:uFillTx/>
                <a:latin typeface="Arial"/>
              </a:rPr>
              <a:t>городской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54061"/>
                </a:solidFill>
                <a:latin typeface="Arial"/>
              </a:rPr>
              <a:t>ПСВ</a:t>
            </a:r>
            <a:r>
              <a:rPr b="1" lang="ru-RU" sz="22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1" lang="ru-RU" sz="2200" spc="-1" strike="noStrike" u="sng">
                <a:solidFill>
                  <a:srgbClr val="10253f"/>
                </a:solidFill>
                <a:uFillTx/>
                <a:latin typeface="Arial"/>
              </a:rPr>
              <a:t>в условиях </a:t>
            </a:r>
            <a:r>
              <a:rPr b="1" lang="ru-RU" sz="2200" spc="-1" strike="noStrike" u="sng">
                <a:solidFill>
                  <a:srgbClr val="254061"/>
                </a:solidFill>
                <a:uFillTx/>
                <a:latin typeface="Arial"/>
              </a:rPr>
              <a:t>сельской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Заголовок 1"/>
          <p:cNvSpPr/>
          <p:nvPr/>
        </p:nvSpPr>
        <p:spPr>
          <a:xfrm>
            <a:off x="179280" y="67464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бъекты персон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бъект 2"/>
          <p:cNvSpPr/>
          <p:nvPr/>
        </p:nvSpPr>
        <p:spPr>
          <a:xfrm>
            <a:off x="69840" y="3086280"/>
            <a:ext cx="9055080" cy="20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Ребенок</a:t>
            </a:r>
            <a:r>
              <a:rPr b="1" lang="ru-RU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– субъект П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Педагог</a:t>
            </a: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 (воспитатель, классный руководитель, педагог дополнительного образования, психолог, социальный педагог) в П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0253f"/>
                </a:solidFill>
                <a:uFillTx/>
                <a:latin typeface="Calibri"/>
              </a:rPr>
              <a:t>Родитель</a:t>
            </a: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 - в ПС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Заголовок 1"/>
          <p:cNvSpPr/>
          <p:nvPr/>
        </p:nvSpPr>
        <p:spPr>
          <a:xfrm>
            <a:off x="900000" y="2581200"/>
            <a:ext cx="766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ли и функции  участников ПС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Заголовок 1"/>
          <p:cNvSpPr/>
          <p:nvPr/>
        </p:nvSpPr>
        <p:spPr>
          <a:xfrm>
            <a:off x="1019160" y="5153040"/>
            <a:ext cx="766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ПС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Научно-методические мероприятия  (2017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36360" y="765000"/>
          <a:ext cx="9107640" cy="5888160"/>
        </p:xfrm>
        <a:graphic>
          <a:graphicData uri="http://schemas.openxmlformats.org/drawingml/2006/table">
            <a:tbl>
              <a:tblPr/>
              <a:tblGrid>
                <a:gridCol w="9107640"/>
              </a:tblGrid>
              <a:tr h="5888160">
                <a:tc>
                  <a:txBody>
                    <a:bodyPr lIns="114120" rIns="114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а уровне базовых коллективов  проведен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етодологические семинары (10)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круглые столы (6)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дискуссионные площадки (2)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педагогические  Советы (9)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методические Советы(3)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семинары-практикумы, мастер-классы (13)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17375e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заседания МО  (11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 advTm="8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9252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632523"/>
                </a:solidFill>
                <a:latin typeface="Calibri"/>
              </a:rPr>
              <a:t>Продукты инновационной деятельности (2016-2017 г.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0" y="426960"/>
          <a:ext cx="9144000" cy="6126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73884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Концепция деятельности классного руководителя </a:t>
                      </a: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 созданию системы персонифированного воспитания в классном коллективе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БОУ «Хорошовская средняя общеобразовательная школа» Рославльского района Смоленской обла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Модель  и Программа персонифицированной системы воспитания учащихся </a:t>
                      </a:r>
                      <a:r>
                        <a:rPr b="1" lang="ru-RU" sz="20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в условиях дополнительного образова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(МБОУ ДОД «ЦДТ» г. Ярцев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рограмма развития МБОУ «Средняя школа №40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а Смоленска  - на период  2015-2020г.г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</a:t>
                      </a:r>
                      <a:r>
                        <a:rPr b="0" lang="ru-RU" sz="20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Персонифицированная система обучения и воспитания как условие развития личности учащихся в условиях микрорайона – новострой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Исследовательские  Проек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спользование персонифицированного подхода в организации научно-методической работы  с педагогами школы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МБОУ «СШ № 33 г.Смоленска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</a:t>
                      </a:r>
                      <a:r>
                        <a:rPr b="1" lang="ru-RU" sz="20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«Решение проблемы персонификации в образовании  при использовании учащимися школы «Дневника социальной успешности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БОУ «СШ № 33 г. Смоленска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</a:t>
                      </a:r>
                      <a:r>
                        <a:rPr b="1" lang="ru-RU" sz="20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«Воспитание современных детей: Путь осознанного родительства»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БОУ СШ №2 г.Смоленска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10253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Планы и программы исследовательской деятельности базовых коллективов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 advTm="8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28080"/>
            <a:ext cx="9144000" cy="5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Продукты иннова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9080" y="558720"/>
          <a:ext cx="9252000" cy="8798040"/>
        </p:xfrm>
        <a:graphic>
          <a:graphicData uri="http://schemas.openxmlformats.org/drawingml/2006/table">
            <a:tbl>
              <a:tblPr/>
              <a:tblGrid>
                <a:gridCol w="9252000"/>
              </a:tblGrid>
              <a:tr h="8798040">
                <a:tc>
                  <a:txBody>
                    <a:bodyPr lIns="114120" rIns="114120" tIns="0" bIns="0" anchor="t">
                      <a:noAutofit/>
                    </a:bodyPr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00000"/>
                          </a:solidFill>
                          <a:latin typeface="Calibri"/>
                        </a:rPr>
                        <a:t>Целевые программы и новые формы персонификаци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403152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Программа элективного курса «Как стать персоной?»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 МБОУ СШ №33 г.Смоленс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403152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Программа «Мой индивидуальный проект»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БОУ СШ №33 г.Смоленс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403152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Дневник достижений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Шумячский ДД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403152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Положение и План  организации  летней школы «Успех»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имназия №1 им. Н.М.Пржевальског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403152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Индивидуальный образовательный маршрут одаренного ребенка и ребенка с ОВЗ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ногорский ДДТ, СЮ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1" lang="ru-RU" sz="2400" spc="-1" strike="noStrike" u="sng">
                          <a:solidFill>
                            <a:srgbClr val="800000"/>
                          </a:solidFill>
                          <a:uFillTx/>
                          <a:latin typeface="Calibri"/>
                        </a:rPr>
                        <a:t>Методические рекомендации </a:t>
                      </a:r>
                      <a:r>
                        <a:rPr b="1" lang="ru-RU" sz="24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- 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</a:rPr>
                        <a:t>-  </a:t>
                      </a:r>
                      <a:r>
                        <a:rPr b="1" lang="ru-RU" sz="2600" spc="-1" strike="noStrike" u="sng">
                          <a:solidFill>
                            <a:srgbClr val="800000"/>
                          </a:solidFill>
                          <a:uFillTx/>
                          <a:latin typeface="Calibri"/>
                        </a:rPr>
                        <a:t>Сценарии</a:t>
                      </a: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 классных часов и мероприятий (22);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- Сценарии родительских собраний (15);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- Деловые игры и тренинги ( 13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- Консультации (для родителей, классных рук.,  детей - 17 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 u="sng">
                          <a:solidFill>
                            <a:srgbClr val="403152"/>
                          </a:solidFill>
                          <a:uFillTx/>
                          <a:latin typeface="Calibri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179280" y="6958080"/>
          <a:ext cx="9144000" cy="6318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18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</a:rPr>
                        <a:t>Все материалы прошли обсуждение на уровне МО  и/или  РМ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p:transition spd="slow" advTm="8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Публикации  и выступ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Объект 2"/>
          <p:cNvSpPr/>
          <p:nvPr/>
        </p:nvSpPr>
        <p:spPr>
          <a:xfrm>
            <a:off x="0" y="595440"/>
            <a:ext cx="9144000" cy="5889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Calibri"/>
              </a:rPr>
              <a:t>За 2017 год участниками РИП подготовлено 22 публика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бъект 2"/>
          <p:cNvSpPr/>
          <p:nvPr/>
        </p:nvSpPr>
        <p:spPr>
          <a:xfrm>
            <a:off x="0" y="1430280"/>
            <a:ext cx="9144000" cy="30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2–в изданиях РИН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9 работ  - в центральных научно-педагогических изданиях (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МЖ «Заместитель директора по ВР», НМЖ «Классный руководитель»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9 разработок - в сборниках научно-практических конфер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бъект 2"/>
          <p:cNvSpPr/>
          <p:nvPr/>
        </p:nvSpPr>
        <p:spPr>
          <a:xfrm>
            <a:off x="3240" y="4683240"/>
            <a:ext cx="9144000" cy="12538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 2016-2017 г.г. </a:t>
            </a:r>
            <a:r>
              <a:rPr b="1" lang="ru-RU" sz="2600" spc="-1" strike="noStrike">
                <a:solidFill>
                  <a:srgbClr val="10253f"/>
                </a:solidFill>
                <a:latin typeface="Calibri"/>
              </a:rPr>
              <a:t>участниками РИП подготовлено более  50 докладов  и выступлений (19 из них – на региональном и межрегиональном уровне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1"/>
          <p:cNvSpPr/>
          <p:nvPr/>
        </p:nvSpPr>
        <p:spPr>
          <a:xfrm>
            <a:off x="0" y="6183360"/>
            <a:ext cx="9144000" cy="6426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Формируется  региональная электронная коллекция материалов для использования участниками РИ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44:33Z</dcterms:created>
  <dc:creator>Владелец</dc:creator>
  <dc:description/>
  <dc:language>en-US</dc:language>
  <cp:lastModifiedBy>Кочергина</cp:lastModifiedBy>
  <dcterms:modified xsi:type="dcterms:W3CDTF">2018-03-14T08:43:41Z</dcterms:modified>
  <cp:revision>580</cp:revision>
  <dc:subject/>
  <dc:title>Государственное автономное учреждение  дополнительного профессионального образования  (повышения квалификации) специалистов  «Смоленский областной институт развития образования»</dc:title>
</cp:coreProperties>
</file>